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BC3-0DC7-4D2B-82EF-0A6124B1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230-1BCD-4852-A595-15E4DB26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E07-878C-41C4-AD95-4D30A725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D46-C112-44F9-B289-0D5BC0B0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317F-DAFF-49C4-BE57-03C08DF7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0935-3478-486F-8AE6-A125DA1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C17-7FBF-4906-9DDF-24E7B2D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C70-40D6-40F0-B7F7-E9B5D80B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3C59-7594-4CDB-BC4B-21549E73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47CC-C7B0-4C89-97C9-C4096A3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2AAE-F888-4D83-9D90-834D700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62C-1CC7-41C0-B3B3-17C61E1F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595-6342-4134-8968-8677A98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99AC-3327-4A34-89ED-4E811E04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4E9-DB09-43DA-906D-41023602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C8C-9091-47B9-B149-1BC0CF7E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47C5-7E50-4F6B-BD1B-DBAE6EC2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057-38BD-4270-81EE-B158C650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032-EAC9-40B5-9BE9-658A234F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24A-0504-48DB-BE74-F634EF56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1FF-1D68-4980-AD91-D471B7F3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191-9409-490E-8E1E-FFEC0E3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349-ED1F-445C-A245-8674DAE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57E-400E-4756-B73A-D84E152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12C-4AEA-47CD-A6D0-5A0CACDED5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8A3-E902-493D-AA1F-AC7C3528B150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045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rso di Valutazione delle aziende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Risk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f.ssa Roberta 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egli Studi dell’Aqu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.a. 2018-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D312-75D3-4D7A-83A9-4CBC218B15A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copertura dal rischio di tasso di interes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258920" y="2205000"/>
            <a:ext cx="6985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623880"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cniche di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machting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fondate sulla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898560" indent="-623880"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trumenti finanziari derivat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987640" y="3429000"/>
            <a:ext cx="396072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 rate fu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 rate o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est rate sw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ward rate agre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spcBef>
                <a:spcPts val="1375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7E95-CDB2-466B-816A-357304B912A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Tecniche di mismat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258920" y="2133720"/>
            <a:ext cx="64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Duration di un portafoglio è la media ponderata delle duration dei singoli investimenti che compongono il portafogl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1428840" y="3714840"/>
                <a:ext cx="3763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E19F-6D47-45DD-ADA1-53301781B28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ischio di camb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16000" y="2133720"/>
            <a:ext cx="748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tasso di cambio è il prezzo in grado di esprimere la quantità di valuta estera che è possibile acquisire con una unità di moneta nazionale e, in un regime di tassi variabili, è suscettibile di riduzioni o aumenti determinati dall’andamento della domanda e dell’offer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ffetti diversi determinati dal rischio di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e operanti con sedi all’est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e che intrattengono rapporti commerciali con l’est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e che realizzano solo investimenti finanziari in valu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FF0-0142-411F-BC18-FB1D2F564DD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Tipologie di rischio di camb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116000" y="2205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chio transat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chio di tradu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chio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5BDB-F496-46A7-A461-148CD925A28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copertura dal rischio di camb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804240" y="2131920"/>
            <a:ext cx="80424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5040" indent="-365040">
              <a:lnSpc>
                <a:spcPct val="1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zioni in valuta di segno opposto a quelle da copri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lnSpc>
                <a:spcPct val="1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ndita a term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lnSpc>
                <a:spcPct val="13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atti deriva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556000" y="3716280"/>
            <a:ext cx="4572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 indent="-16812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rrency fu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16812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ap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su valu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168120">
              <a:lnSpc>
                <a:spcPct val="12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urrency o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459-9FF3-46BC-9B91-0EE94AAC1CE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ischio di credi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187280" y="2060640"/>
            <a:ext cx="67694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rischio di credito o rischio di controparte, trova origine in diversi fattori – andamento economico della gestione, variabili di mercato, crisi sistemica, eccessivo indebitamento e così via – che possono creare una momentanea crisi di liquidità del debitore, fino a sfociare in uno stato di insolvenza conclam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chio di recupe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chio di insolvenza in senso stre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chio di migr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76CB-4A01-4E94-848E-EB599B92E9E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analisi discriminan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87280" y="2060640"/>
            <a:ext cx="5689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erdita inatte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erdita atte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556000" y="3141720"/>
            <a:ext cx="4103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375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Default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375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Loss given defa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375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Exposure at defaul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258920" y="4869000"/>
            <a:ext cx="6840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odelli analitico-soggetti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odelli di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sco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B08-FA62-4B9F-A37F-ACEFCEC630A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odelli di scor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1143000" y="2286000"/>
                <a:ext cx="45226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5" name="CasellaDiTesto 5"/>
          <p:cNvSpPr/>
          <p:nvPr/>
        </p:nvSpPr>
        <p:spPr>
          <a:xfrm>
            <a:off x="857160" y="32860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valore discriminante riferito a ciascuna impresa sottoposta ad indag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variab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coefficiente di ponde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D6D-0F91-4BF0-8BBA-CC6E687F2AA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copertura dal rischio di credi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58920" y="2421000"/>
            <a:ext cx="63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otal return sw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edit default sw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BE49-9862-4533-9C18-EB4DB0B658C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ischio di liquidit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258920" y="2349360"/>
            <a:ext cx="633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nvio ai concetti di gestione della liquid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erva di liquid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erva di elastic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713E-C29C-4066-BCBA-9DFB3FE9EE3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gestione dei risch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71640" y="206064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’impresa è esposta a molteplici rischi che fanno sorgere la necessità di sviluppare una apposita funzione di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risk managemen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. Le possibili strategie son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1640" y="3357720"/>
            <a:ext cx="6696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vitare di assumere il risc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ven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ssumere il risc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asferire il rischio a ter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mitare il risc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8B0-ADFD-43F4-AFAF-52BE909725A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strumenti finanziari deriva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116000" y="2205000"/>
            <a:ext cx="71280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Un contratto derivato è uno strumento il cui rendimento e/o il cui valore dipendono dal rendimento o dal valore di una attività definita sottostante (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underlying asse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 che può assumere la natura di attività reale (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commodities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 o attività finanziari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187280" y="4437000"/>
            <a:ext cx="4248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u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orw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O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wap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9193-B101-4513-A27B-F992B3F3D17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funzioni dei contratti deriva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258920" y="2276640"/>
            <a:ext cx="56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peculazi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258920" y="3860640"/>
            <a:ext cx="5105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viluppo a partire dagli anni ’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duta degli accordi di Bretton Wo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hock petrolif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generalizzato dei rischi (cambio, interesse, mercato, ec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D4F-8A20-4C5B-B3C0-178046B1A57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ercato dei deriva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116000" y="2060640"/>
            <a:ext cx="6551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Derivati scambiati nei mercati organizzati e regolamentati (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exchange traded derivatives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Derivati scambiati in mercati non regolamentati (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over the counter derivatives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258920" y="4437000"/>
            <a:ext cx="6697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ollo esercitato da più soggetti (Consob, Banca d’Italia, Borsa Italiana Sp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resenza di soggetti specializzati (broker e deal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B41F-13B2-43DF-9C5E-E8F5BB28914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ercato dei derivati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2514600"/>
            <a:ext cx="358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regolamentato (ID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over the counter (O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562720" y="2514600"/>
            <a:ext cx="3124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pzion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562720" y="4343400"/>
            <a:ext cx="2590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p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orw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wa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4952880" y="23623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4952880" y="441972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F5F3-3D06-4FEC-AF1E-9ABF588CF91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Italian Derivatives Marke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43000" y="2286000"/>
            <a:ext cx="6781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asce nel 1994 da Borsa Italiana S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trollo eseguito da Consob e Banca d’Ita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senza della Cassa di Compensazione e Garanzia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learing Ho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ndardizzazione dei contra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senza di operatori autorizzati e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arket ma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istema telematico di negozi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A676-06BA-4C76-91C1-E00943DCDA2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Ruolo della Clearing 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187280" y="1989000"/>
            <a:ext cx="640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Clearing House si pone come compratore nei confronti del venditore ed assume la veste di venditore nei confronti del comprator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187280" y="3573360"/>
            <a:ext cx="61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duzione dei rischi di insolven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argine di garanz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argine di manteni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FDB-E302-461F-82E7-3B40486A38A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andardizzazione dei contrat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58920" y="2133720"/>
            <a:ext cx="55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ttività sottost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ore nom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alità di liquid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zzo di liquid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adenze negozi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iorno e ora in cui terminano le negozi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ruttura dei prezzi di eserciz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po di facoltà, termini e modalità di esercizio della stessa (per le opzion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27F3-4CD2-4261-A31F-54100DC7A07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ercato dei derivati OT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066680" y="2209680"/>
            <a:ext cx="6324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non regolament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rumenti altamente personaliz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parti sono gli intermediari finanziari (produttori dei derivati) e gli utilizzatori fi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arsa liquidità del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ggiore rischio di insolv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BCE1-E4CB-42A0-82C7-C0ECA1436E9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future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838080" y="1981080"/>
            <a:ext cx="71629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o con il quale due controparti si impegnano rispettivamente ad acquistare e vendere un’attività finanziaria o reale ad una scadenza e ad un prezzo determina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Commodity future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(prodotti agricoli, petrolio, metall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Financial future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(titoli, valute, indici azionar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826920" y="4724280"/>
            <a:ext cx="62485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ratto simmet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tratto standardizz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senza clearing 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ccanismo del marking to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5867280" y="5334120"/>
            <a:ext cx="2494080" cy="99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o grad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le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5181480" y="5638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B0A9-4A74-4DCF-8876-7C05DC1B2EE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ock index fu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900000" y="2060640"/>
            <a:ext cx="716292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i che prevedono l’obbligo a consegnare o ritirare una somma 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 = (VIs – VIi)*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Is = valore dell’indice di Borsa alla scaden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Ii = prezzo dei futures alla conclusione del contrat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 = coefficiente di valutazione costa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NB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Il contratto si può chiudere solo con la liquidazione in contan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CBD1-8F35-4AE7-9DE6-01215E1C293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tipologie di risch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042920" y="1989000"/>
            <a:ext cx="56181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 pur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 speculati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843280" y="3141720"/>
            <a:ext cx="3240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375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o operati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680" indent="-274680">
              <a:spcBef>
                <a:spcPts val="1375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 finanziar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967280" y="4292640"/>
            <a:ext cx="396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8200" indent="-95400">
              <a:lnSpc>
                <a:spcPct val="100000"/>
              </a:lnSpc>
              <a:buClr>
                <a:srgbClr val="00e4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ischio di tasso di interes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8200" indent="-95400">
              <a:lnSpc>
                <a:spcPct val="100000"/>
              </a:lnSpc>
              <a:buClr>
                <a:srgbClr val="00e4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ischio di camb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8200" indent="-95400">
              <a:lnSpc>
                <a:spcPct val="100000"/>
              </a:lnSpc>
              <a:buClr>
                <a:srgbClr val="00e4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ischio di credi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8200" indent="-95400">
              <a:lnSpc>
                <a:spcPct val="100000"/>
              </a:lnSpc>
              <a:buClr>
                <a:srgbClr val="00e4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ischio di liquidit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05272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05272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4068720" y="414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406872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2771640" y="321300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4861080" y="4365720"/>
            <a:ext cx="144360" cy="129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B77-20DC-4A68-B4DE-983515BCD49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Un esemp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14400" y="2057400"/>
            <a:ext cx="71629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acquista STOCK INDEX FU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cadenza 4 gior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45.000 punti (un punto vale € 5) = posizione da € 225.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itial margin 8% = € 18.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vende alle stesse condi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851040" y="3733920"/>
            <a:ext cx="6921360" cy="1442880"/>
            <a:chOff x="851040" y="3733920"/>
            <a:chExt cx="6921360" cy="1442880"/>
          </a:xfrm>
        </p:grpSpPr>
        <p:grpSp>
          <p:nvGrpSpPr>
            <p:cNvPr id="257" name="Group 5"/>
            <p:cNvGrpSpPr/>
            <p:nvPr/>
          </p:nvGrpSpPr>
          <p:grpSpPr>
            <a:xfrm>
              <a:off x="851040" y="3733920"/>
              <a:ext cx="6921360" cy="1442880"/>
              <a:chOff x="851040" y="3733920"/>
              <a:chExt cx="6921360" cy="1442880"/>
            </a:xfrm>
          </p:grpSpPr>
          <p:sp>
            <p:nvSpPr>
              <p:cNvPr id="258" name="Text Box 6"/>
              <p:cNvSpPr/>
              <p:nvPr/>
            </p:nvSpPr>
            <p:spPr>
              <a:xfrm>
                <a:off x="851040" y="4166640"/>
                <a:ext cx="1412280" cy="57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ahoma"/>
                  </a:rPr>
                  <a:t>1° giorno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Text Box 7"/>
              <p:cNvSpPr/>
              <p:nvPr/>
            </p:nvSpPr>
            <p:spPr>
              <a:xfrm>
                <a:off x="2402280" y="4166640"/>
                <a:ext cx="2262240" cy="43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Quotazione 46.00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Text Box 8"/>
              <p:cNvSpPr/>
              <p:nvPr/>
            </p:nvSpPr>
            <p:spPr>
              <a:xfrm>
                <a:off x="5088600" y="3733920"/>
                <a:ext cx="1694880" cy="57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 + € 5.00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Text Box 9"/>
              <p:cNvSpPr/>
              <p:nvPr/>
            </p:nvSpPr>
            <p:spPr>
              <a:xfrm>
                <a:off x="5088600" y="4599720"/>
                <a:ext cx="2683800" cy="57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 – € 5.00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" name="Line 10"/>
            <p:cNvSpPr/>
            <p:nvPr/>
          </p:nvSpPr>
          <p:spPr>
            <a:xfrm flipV="1">
              <a:off x="4664880" y="4021920"/>
              <a:ext cx="42372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4664880" y="4455360"/>
              <a:ext cx="423720" cy="28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851040" y="4991040"/>
            <a:ext cx="7988040" cy="1874520"/>
            <a:chOff x="851040" y="4991040"/>
            <a:chExt cx="7988040" cy="1874520"/>
          </a:xfrm>
        </p:grpSpPr>
        <p:grpSp>
          <p:nvGrpSpPr>
            <p:cNvPr id="265" name="Group 13"/>
            <p:cNvGrpSpPr/>
            <p:nvPr/>
          </p:nvGrpSpPr>
          <p:grpSpPr>
            <a:xfrm>
              <a:off x="851040" y="4991040"/>
              <a:ext cx="7116480" cy="1441800"/>
              <a:chOff x="851040" y="4991040"/>
              <a:chExt cx="7116480" cy="1441800"/>
            </a:xfrm>
          </p:grpSpPr>
          <p:grpSp>
            <p:nvGrpSpPr>
              <p:cNvPr id="266" name="Group 14"/>
              <p:cNvGrpSpPr/>
              <p:nvPr/>
            </p:nvGrpSpPr>
            <p:grpSpPr>
              <a:xfrm>
                <a:off x="851040" y="4991040"/>
                <a:ext cx="7116480" cy="1441800"/>
                <a:chOff x="851040" y="4991040"/>
                <a:chExt cx="7116480" cy="1441800"/>
              </a:xfrm>
            </p:grpSpPr>
            <p:sp>
              <p:nvSpPr>
                <p:cNvPr id="267" name="Text Box 15"/>
                <p:cNvSpPr/>
                <p:nvPr/>
              </p:nvSpPr>
              <p:spPr>
                <a:xfrm>
                  <a:off x="851040" y="5423400"/>
                  <a:ext cx="1452240" cy="57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2°gior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Text Box 16"/>
                <p:cNvSpPr/>
                <p:nvPr/>
              </p:nvSpPr>
              <p:spPr>
                <a:xfrm>
                  <a:off x="2446200" y="5423400"/>
                  <a:ext cx="2325960" cy="432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Quotazione 46.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Text Box 17"/>
                <p:cNvSpPr/>
                <p:nvPr/>
              </p:nvSpPr>
              <p:spPr>
                <a:xfrm>
                  <a:off x="5208120" y="4991040"/>
                  <a:ext cx="1742760" cy="57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 + € 2.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Text Box 18"/>
                <p:cNvSpPr/>
                <p:nvPr/>
              </p:nvSpPr>
              <p:spPr>
                <a:xfrm>
                  <a:off x="5208120" y="5856120"/>
                  <a:ext cx="2759400" cy="576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 – € 2.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1" name="Line 19"/>
              <p:cNvSpPr/>
              <p:nvPr/>
            </p:nvSpPr>
            <p:spPr>
              <a:xfrm flipV="1">
                <a:off x="4772160" y="5279400"/>
                <a:ext cx="435600" cy="28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4772160" y="5712120"/>
                <a:ext cx="435600" cy="28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3" name="Text Box 21"/>
            <p:cNvSpPr/>
            <p:nvPr/>
          </p:nvSpPr>
          <p:spPr>
            <a:xfrm>
              <a:off x="6805800" y="5567760"/>
              <a:ext cx="2033280" cy="12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 deve integrare il marg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0CC0-A0AA-4606-8EE5-2B8AAD3F9C8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nterest rate fu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116000" y="1916280"/>
            <a:ext cx="669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i che contengono l’impegno ad acquistare o a vendere a termine titoli a reddito fisso, generalmente rappresentati da titoli di Stato, con determinate caratteristiche e ad un prezzo stabilit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090880" y="4106880"/>
            <a:ext cx="441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pertura contro variazioni dei tassi di interes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3995640" y="357336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2D3-D9DD-4772-85E8-56304BD6FF1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urrency futu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43000" y="22096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i che contengono l’impegno ad acquistare o vendere a termine un determinato ammontare di valuta estera ad un cambio prefissa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057400" y="39625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pertura contro variazioni dei tassi di camb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3962520" y="342900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36D5-621E-4746-A4C6-FDE5BCA6489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Un esemp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66680" y="205740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data 10/1 un importatore italiano acquista merci dagli USA per $ 200 mila con pagamento il 10/3. Prevedendo un apprezzamento della valuta americana, il soggetto acquista un currency future fissando il cambio a quello attu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143000" y="3581280"/>
            <a:ext cx="4343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 10/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llaro/€ = 0,93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$ 200.000 =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€ 214.76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143000" y="5029200"/>
            <a:ext cx="6553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 10/3 si avverano le previsioni dell’importa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llaro/€ = 0,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$ 200.000 = € 219.7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4876920" y="3962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zzo effettivamente pag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962520" y="41911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80060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zzo che avrebbe pagato senza stipulare il currency fu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3886200" y="5715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533520" y="3657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533520" y="5029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CD2F-0E9F-4DC9-8859-CDF64DA977E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forwar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tratto che sancisce l’accordo tra le parti ad acquistare o a vendere una determinata attività ad una scadenza fu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3733920"/>
            <a:ext cx="6248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goziato nei mercati O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n standardizzato, ma personalizz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chio di insolv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4760" indent="-374760"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quidazione alla scad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AA83-FCDA-4589-B1AC-9E77FFF5295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diagrammi di redditività in un contratto forwar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1" name="Group 24"/>
          <p:cNvGrpSpPr/>
          <p:nvPr/>
        </p:nvGrpSpPr>
        <p:grpSpPr>
          <a:xfrm>
            <a:off x="1550880" y="2491920"/>
            <a:ext cx="2733840" cy="2016360"/>
            <a:chOff x="1550880" y="2491920"/>
            <a:chExt cx="2733840" cy="2016360"/>
          </a:xfrm>
        </p:grpSpPr>
        <p:sp>
          <p:nvSpPr>
            <p:cNvPr id="302" name="Text Box 6"/>
            <p:cNvSpPr/>
            <p:nvPr/>
          </p:nvSpPr>
          <p:spPr>
            <a:xfrm>
              <a:off x="2813040" y="3701880"/>
              <a:ext cx="67932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Prezzo a pronti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2952720" y="2760840"/>
              <a:ext cx="55872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Long posi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9"/>
            <p:cNvSpPr/>
            <p:nvPr/>
          </p:nvSpPr>
          <p:spPr>
            <a:xfrm>
              <a:off x="1693800" y="3567240"/>
              <a:ext cx="251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0"/>
            <p:cNvSpPr/>
            <p:nvPr/>
          </p:nvSpPr>
          <p:spPr>
            <a:xfrm flipV="1">
              <a:off x="2112840" y="2491920"/>
              <a:ext cx="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>
              <a:off x="1550880" y="2492280"/>
              <a:ext cx="419040" cy="26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12"/>
            <p:cNvSpPr/>
            <p:nvPr/>
          </p:nvSpPr>
          <p:spPr>
            <a:xfrm>
              <a:off x="3651120" y="3701880"/>
              <a:ext cx="63360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ahoma"/>
                </a:rPr>
                <a:t>Prezzo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 flipV="1">
              <a:off x="2252520" y="2760480"/>
              <a:ext cx="1540080" cy="147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>
              <a:off x="2952720" y="356724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0" name="Text Box 16"/>
          <p:cNvSpPr/>
          <p:nvPr/>
        </p:nvSpPr>
        <p:spPr>
          <a:xfrm>
            <a:off x="5742000" y="4282920"/>
            <a:ext cx="620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Short pos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7"/>
          <p:cNvSpPr/>
          <p:nvPr/>
        </p:nvSpPr>
        <p:spPr>
          <a:xfrm>
            <a:off x="4657680" y="5118120"/>
            <a:ext cx="279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18"/>
          <p:cNvSpPr/>
          <p:nvPr/>
        </p:nvSpPr>
        <p:spPr>
          <a:xfrm flipV="1">
            <a:off x="5124600" y="4005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500720" y="4005360"/>
            <a:ext cx="465120" cy="27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6831000" y="5257800"/>
            <a:ext cx="6937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ezz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21"/>
          <p:cNvSpPr/>
          <p:nvPr/>
        </p:nvSpPr>
        <p:spPr>
          <a:xfrm flipH="1" flipV="1">
            <a:off x="5277960" y="4282920"/>
            <a:ext cx="1708200" cy="153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22"/>
          <p:cNvSpPr/>
          <p:nvPr/>
        </p:nvSpPr>
        <p:spPr>
          <a:xfrm>
            <a:off x="6207120" y="5118120"/>
            <a:ext cx="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5580000" y="5229360"/>
            <a:ext cx="72072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Prezzo a pronti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C435-E24B-42B9-9D4A-6F437E277B4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forward rate agreements (FRA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066680" y="20574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o con il quale due controparti si impegnano a scambiarsi flussi di interesse, ovvero un tasso fisso concordato dalle stesse ed un tasso variabile scelto come parametro di riferi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219320" y="37339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quir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ndit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581280" y="3733920"/>
            <a:ext cx="365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aga tasso fisso T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aga tasso variabile T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2743200" y="38098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743200" y="42670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1143000" y="5257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la data di regol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3809880" y="4876920"/>
            <a:ext cx="373392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TF &gt; TV la liquidazione spetta all’acquir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TF &lt; TV la liquidazione spetta al vendi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10"/>
          <p:cNvSpPr/>
          <p:nvPr/>
        </p:nvSpPr>
        <p:spPr>
          <a:xfrm flipV="1">
            <a:off x="2819520" y="51055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819520" y="57150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74B-F295-4A4E-BDAB-5449130D7F2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op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066680" y="2057400"/>
            <a:ext cx="6782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o derivato che conferisce all’acquirente, dietro il pagamento di un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premi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, il </a:t>
            </a: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diritto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i acquistare o vendere a scadenza attività finanziarie o reali ad un prezzo prefissato (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strike price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00000" y="3645000"/>
            <a:ext cx="19083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PTION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971640" y="4724280"/>
            <a:ext cx="1676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PTION 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924360" y="4668840"/>
            <a:ext cx="1776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ritto di vend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719520" y="3645000"/>
            <a:ext cx="2133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ritto di acqui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957400" y="3797280"/>
            <a:ext cx="716040" cy="317520"/>
          </a:xfrm>
          <a:prstGeom prst="rightArrow">
            <a:avLst>
              <a:gd name="adj1" fmla="val 50000"/>
              <a:gd name="adj2" fmla="val 56378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2970360" y="4827600"/>
            <a:ext cx="715680" cy="317520"/>
          </a:xfrm>
          <a:prstGeom prst="rightArrow">
            <a:avLst>
              <a:gd name="adj1" fmla="val 50000"/>
              <a:gd name="adj2" fmla="val 56349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1042920" y="56610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pzioni europ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9080" indent="-289080">
              <a:spcBef>
                <a:spcPts val="125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pzioni americ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940360" y="364500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940360" y="465300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33A-C035-4934-81CB-B707F07E087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lla scadenza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2514600" y="1981080"/>
            <a:ext cx="4915080" cy="4457520"/>
            <a:chOff x="2514600" y="1981080"/>
            <a:chExt cx="4915080" cy="4457520"/>
          </a:xfrm>
        </p:grpSpPr>
        <p:sp>
          <p:nvSpPr>
            <p:cNvPr id="344" name="Text Box 4"/>
            <p:cNvSpPr/>
            <p:nvPr/>
          </p:nvSpPr>
          <p:spPr>
            <a:xfrm>
              <a:off x="4114800" y="1981080"/>
              <a:ext cx="1600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Vm &gt; S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3429000" y="2552400"/>
              <a:ext cx="137160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4915080" y="2552400"/>
              <a:ext cx="1485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2514600" y="3238200"/>
              <a:ext cx="1943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tion CAL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8"/>
            <p:cNvSpPr/>
            <p:nvPr/>
          </p:nvSpPr>
          <p:spPr>
            <a:xfrm>
              <a:off x="5486400" y="3238200"/>
              <a:ext cx="1943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tion 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9"/>
            <p:cNvSpPr/>
            <p:nvPr/>
          </p:nvSpPr>
          <p:spPr>
            <a:xfrm>
              <a:off x="2514600" y="4267080"/>
              <a:ext cx="19432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sercizio opzion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2514600" y="5638680"/>
              <a:ext cx="19432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zione “in the money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AutoShape 11"/>
            <p:cNvSpPr/>
            <p:nvPr/>
          </p:nvSpPr>
          <p:spPr>
            <a:xfrm>
              <a:off x="3314880" y="3809880"/>
              <a:ext cx="34272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AutoShape 12"/>
            <p:cNvSpPr/>
            <p:nvPr/>
          </p:nvSpPr>
          <p:spPr>
            <a:xfrm>
              <a:off x="3314880" y="5181480"/>
              <a:ext cx="34272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AutoShape 13"/>
            <p:cNvSpPr/>
            <p:nvPr/>
          </p:nvSpPr>
          <p:spPr>
            <a:xfrm>
              <a:off x="6286680" y="3809880"/>
              <a:ext cx="34272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AutoShape 14"/>
            <p:cNvSpPr/>
            <p:nvPr/>
          </p:nvSpPr>
          <p:spPr>
            <a:xfrm>
              <a:off x="6286680" y="5181480"/>
              <a:ext cx="34272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486400" y="4267080"/>
              <a:ext cx="19432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NO esercizio opzion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5486400" y="5638680"/>
              <a:ext cx="19432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zione “out of the money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7" name="Text Box 17"/>
          <p:cNvSpPr/>
          <p:nvPr/>
        </p:nvSpPr>
        <p:spPr>
          <a:xfrm>
            <a:off x="457200" y="2057400"/>
            <a:ext cx="2819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m = valore di mercato tit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 = strike pr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D58B-911C-43AF-885B-082B671BDFA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lla scadenza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676520" y="1828800"/>
            <a:ext cx="5029200" cy="4457880"/>
            <a:chOff x="1676520" y="1828800"/>
            <a:chExt cx="5029200" cy="4457880"/>
          </a:xfrm>
        </p:grpSpPr>
        <p:sp>
          <p:nvSpPr>
            <p:cNvPr id="361" name="Text Box 4"/>
            <p:cNvSpPr/>
            <p:nvPr/>
          </p:nvSpPr>
          <p:spPr>
            <a:xfrm>
              <a:off x="3276720" y="1828800"/>
              <a:ext cx="16002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Vm = S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 flipH="1">
              <a:off x="2590920" y="2400480"/>
              <a:ext cx="13716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4076640" y="2400480"/>
              <a:ext cx="148608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Text Box 7"/>
            <p:cNvSpPr/>
            <p:nvPr/>
          </p:nvSpPr>
          <p:spPr>
            <a:xfrm>
              <a:off x="1676520" y="3086280"/>
              <a:ext cx="1942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tion CAL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8"/>
            <p:cNvSpPr/>
            <p:nvPr/>
          </p:nvSpPr>
          <p:spPr>
            <a:xfrm>
              <a:off x="4648320" y="3086280"/>
              <a:ext cx="2057400" cy="43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tion 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1676520" y="4114800"/>
              <a:ext cx="1942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differenz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1676520" y="5486400"/>
              <a:ext cx="194292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zione “at the money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AutoShape 11"/>
            <p:cNvSpPr/>
            <p:nvPr/>
          </p:nvSpPr>
          <p:spPr>
            <a:xfrm>
              <a:off x="2476440" y="3657600"/>
              <a:ext cx="34308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AutoShape 12"/>
            <p:cNvSpPr/>
            <p:nvPr/>
          </p:nvSpPr>
          <p:spPr>
            <a:xfrm>
              <a:off x="2476440" y="5029200"/>
              <a:ext cx="34308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AutoShape 13"/>
            <p:cNvSpPr/>
            <p:nvPr/>
          </p:nvSpPr>
          <p:spPr>
            <a:xfrm>
              <a:off x="5448240" y="3657600"/>
              <a:ext cx="34308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5448240" y="5029200"/>
              <a:ext cx="34308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15"/>
            <p:cNvSpPr/>
            <p:nvPr/>
          </p:nvSpPr>
          <p:spPr>
            <a:xfrm>
              <a:off x="4648320" y="4114800"/>
              <a:ext cx="20574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differenz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Text Box 16"/>
            <p:cNvSpPr/>
            <p:nvPr/>
          </p:nvSpPr>
          <p:spPr>
            <a:xfrm>
              <a:off x="4648320" y="5486400"/>
              <a:ext cx="20574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zione “at the the money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7265-60AA-46E2-8436-A5B8D23DC3C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ischio operativ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71640" y="2060640"/>
            <a:ext cx="6985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l rischio operativo trova origine nella relazione esistente tra la domanda espressa dal mercato, la quantità di beni e servizi realizzata e la capacità produttiva, definita a sua volta dall’ammontare di costi fissi gravanti sulla struttur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780000" y="3933720"/>
            <a:ext cx="1152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492360" y="4797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A5A7-F13E-4D23-A768-D0A25EB60F1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lla scadenza (3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1828800" y="1828800"/>
            <a:ext cx="4915080" cy="4457880"/>
            <a:chOff x="1828800" y="1828800"/>
            <a:chExt cx="4915080" cy="4457880"/>
          </a:xfrm>
        </p:grpSpPr>
        <p:sp>
          <p:nvSpPr>
            <p:cNvPr id="377" name="Text Box 4"/>
            <p:cNvSpPr/>
            <p:nvPr/>
          </p:nvSpPr>
          <p:spPr>
            <a:xfrm>
              <a:off x="3429000" y="1828800"/>
              <a:ext cx="16002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Vm &lt; S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H="1">
              <a:off x="2743200" y="2400480"/>
              <a:ext cx="137160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4229280" y="2400480"/>
              <a:ext cx="1485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1828800" y="3086280"/>
              <a:ext cx="1943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tion CALL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Text Box 8"/>
            <p:cNvSpPr/>
            <p:nvPr/>
          </p:nvSpPr>
          <p:spPr>
            <a:xfrm>
              <a:off x="4800600" y="3086280"/>
              <a:ext cx="1943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tion P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9"/>
            <p:cNvSpPr/>
            <p:nvPr/>
          </p:nvSpPr>
          <p:spPr>
            <a:xfrm>
              <a:off x="1828800" y="4114800"/>
              <a:ext cx="194328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NO esercizio opzion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1828800" y="5486400"/>
              <a:ext cx="194328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zione “out of the money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AutoShape 11"/>
            <p:cNvSpPr/>
            <p:nvPr/>
          </p:nvSpPr>
          <p:spPr>
            <a:xfrm>
              <a:off x="2629080" y="3657600"/>
              <a:ext cx="342720" cy="343080"/>
            </a:xfrm>
            <a:prstGeom prst="downArrow">
              <a:avLst>
                <a:gd name="adj1" fmla="val 50000"/>
                <a:gd name="adj2" fmla="val 25026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AutoShape 12"/>
            <p:cNvSpPr/>
            <p:nvPr/>
          </p:nvSpPr>
          <p:spPr>
            <a:xfrm>
              <a:off x="2629080" y="5029200"/>
              <a:ext cx="342720" cy="343080"/>
            </a:xfrm>
            <a:prstGeom prst="downArrow">
              <a:avLst>
                <a:gd name="adj1" fmla="val 50000"/>
                <a:gd name="adj2" fmla="val 25026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AutoShape 13"/>
            <p:cNvSpPr/>
            <p:nvPr/>
          </p:nvSpPr>
          <p:spPr>
            <a:xfrm>
              <a:off x="5600880" y="3657600"/>
              <a:ext cx="342720" cy="343080"/>
            </a:xfrm>
            <a:prstGeom prst="downArrow">
              <a:avLst>
                <a:gd name="adj1" fmla="val 50000"/>
                <a:gd name="adj2" fmla="val 25026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AutoShape 14"/>
            <p:cNvSpPr/>
            <p:nvPr/>
          </p:nvSpPr>
          <p:spPr>
            <a:xfrm>
              <a:off x="5600880" y="5029200"/>
              <a:ext cx="342720" cy="343080"/>
            </a:xfrm>
            <a:prstGeom prst="downArrow">
              <a:avLst>
                <a:gd name="adj1" fmla="val 50000"/>
                <a:gd name="adj2" fmla="val 25026"/>
              </a:avLst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4800600" y="4114800"/>
              <a:ext cx="194328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sercizio opzion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16"/>
            <p:cNvSpPr/>
            <p:nvPr/>
          </p:nvSpPr>
          <p:spPr>
            <a:xfrm>
              <a:off x="4800600" y="5486400"/>
              <a:ext cx="194328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Opzione “in the money”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85A8-80A5-41D7-8B92-A9CED523E96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rofilo economico di una long cal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2" name="Group 34"/>
          <p:cNvGrpSpPr/>
          <p:nvPr/>
        </p:nvGrpSpPr>
        <p:grpSpPr>
          <a:xfrm>
            <a:off x="1603440" y="1931760"/>
            <a:ext cx="5200560" cy="3152520"/>
            <a:chOff x="1603440" y="1931760"/>
            <a:chExt cx="5200560" cy="3152520"/>
          </a:xfrm>
        </p:grpSpPr>
        <p:sp>
          <p:nvSpPr>
            <p:cNvPr id="393" name="Text Box 35"/>
            <p:cNvSpPr/>
            <p:nvPr/>
          </p:nvSpPr>
          <p:spPr>
            <a:xfrm>
              <a:off x="4509720" y="3812400"/>
              <a:ext cx="61164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 + 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Text Box 36"/>
            <p:cNvSpPr/>
            <p:nvPr/>
          </p:nvSpPr>
          <p:spPr>
            <a:xfrm>
              <a:off x="3285720" y="3812400"/>
              <a:ext cx="45864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1756080" y="3823560"/>
              <a:ext cx="50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 flipV="1">
              <a:off x="2215080" y="1931760"/>
              <a:ext cx="0" cy="31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Text Box 39"/>
            <p:cNvSpPr/>
            <p:nvPr/>
          </p:nvSpPr>
          <p:spPr>
            <a:xfrm>
              <a:off x="1603440" y="2089800"/>
              <a:ext cx="45864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5733360" y="3970080"/>
              <a:ext cx="107064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Valore di merca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2062080" y="4453920"/>
              <a:ext cx="30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1603440" y="4296240"/>
              <a:ext cx="45864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43"/>
            <p:cNvSpPr/>
            <p:nvPr/>
          </p:nvSpPr>
          <p:spPr>
            <a:xfrm>
              <a:off x="2215080" y="4453920"/>
              <a:ext cx="152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44"/>
            <p:cNvSpPr/>
            <p:nvPr/>
          </p:nvSpPr>
          <p:spPr>
            <a:xfrm flipV="1">
              <a:off x="3744720" y="2393640"/>
              <a:ext cx="2447280" cy="204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Line 45"/>
            <p:cNvSpPr/>
            <p:nvPr/>
          </p:nvSpPr>
          <p:spPr>
            <a:xfrm flipV="1">
              <a:off x="3744720" y="2393640"/>
              <a:ext cx="0" cy="204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Text Box 46"/>
            <p:cNvSpPr/>
            <p:nvPr/>
          </p:nvSpPr>
          <p:spPr>
            <a:xfrm>
              <a:off x="3285720" y="2078280"/>
              <a:ext cx="1070640" cy="3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At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2521080" y="2551320"/>
              <a:ext cx="1070640" cy="3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Out of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48"/>
            <p:cNvSpPr/>
            <p:nvPr/>
          </p:nvSpPr>
          <p:spPr>
            <a:xfrm>
              <a:off x="4050720" y="2551320"/>
              <a:ext cx="1070640" cy="3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In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ACFA-2D8C-4F60-9147-6835EC483E7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rofilo economico di una short cal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9" name="Group 5"/>
          <p:cNvGrpSpPr/>
          <p:nvPr/>
        </p:nvGrpSpPr>
        <p:grpSpPr>
          <a:xfrm>
            <a:off x="2050920" y="2349360"/>
            <a:ext cx="5327640" cy="3097440"/>
            <a:chOff x="2050920" y="2349360"/>
            <a:chExt cx="5327640" cy="3097440"/>
          </a:xfrm>
        </p:grpSpPr>
        <p:sp>
          <p:nvSpPr>
            <p:cNvPr id="410" name="Text Box 6"/>
            <p:cNvSpPr/>
            <p:nvPr/>
          </p:nvSpPr>
          <p:spPr>
            <a:xfrm>
              <a:off x="3774600" y="4196520"/>
              <a:ext cx="469800" cy="4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4714920" y="4207680"/>
              <a:ext cx="626760" cy="4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 + 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8"/>
            <p:cNvSpPr/>
            <p:nvPr/>
          </p:nvSpPr>
          <p:spPr>
            <a:xfrm>
              <a:off x="2207520" y="4207680"/>
              <a:ext cx="517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Line 9"/>
            <p:cNvSpPr/>
            <p:nvPr/>
          </p:nvSpPr>
          <p:spPr>
            <a:xfrm flipV="1">
              <a:off x="2677680" y="2349360"/>
              <a:ext cx="0" cy="30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Text Box 10"/>
            <p:cNvSpPr/>
            <p:nvPr/>
          </p:nvSpPr>
          <p:spPr>
            <a:xfrm>
              <a:off x="2050920" y="2504160"/>
              <a:ext cx="469800" cy="4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281640" y="4351680"/>
              <a:ext cx="1096560" cy="4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Valore di merca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12"/>
            <p:cNvSpPr/>
            <p:nvPr/>
          </p:nvSpPr>
          <p:spPr>
            <a:xfrm>
              <a:off x="2520720" y="358812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2050920" y="3433320"/>
              <a:ext cx="469800" cy="46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14"/>
            <p:cNvSpPr/>
            <p:nvPr/>
          </p:nvSpPr>
          <p:spPr>
            <a:xfrm>
              <a:off x="2677680" y="3588120"/>
              <a:ext cx="156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15"/>
            <p:cNvSpPr/>
            <p:nvPr/>
          </p:nvSpPr>
          <p:spPr>
            <a:xfrm flipH="1" flipV="1">
              <a:off x="4244400" y="3588120"/>
              <a:ext cx="2193840" cy="17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6"/>
            <p:cNvSpPr/>
            <p:nvPr/>
          </p:nvSpPr>
          <p:spPr>
            <a:xfrm flipV="1">
              <a:off x="4244400" y="28022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3774600" y="2493000"/>
              <a:ext cx="10965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At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Text Box 18"/>
            <p:cNvSpPr/>
            <p:nvPr/>
          </p:nvSpPr>
          <p:spPr>
            <a:xfrm>
              <a:off x="2990880" y="2957400"/>
              <a:ext cx="1096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Out of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Text Box 19"/>
            <p:cNvSpPr/>
            <p:nvPr/>
          </p:nvSpPr>
          <p:spPr>
            <a:xfrm>
              <a:off x="4557960" y="2957400"/>
              <a:ext cx="10965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In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6DB-E080-431F-AAA2-C457946BFEC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rofilo economico di una long pu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26" name="Group 35"/>
          <p:cNvGrpSpPr/>
          <p:nvPr/>
        </p:nvGrpSpPr>
        <p:grpSpPr>
          <a:xfrm>
            <a:off x="1763640" y="2204640"/>
            <a:ext cx="5256000" cy="3095640"/>
            <a:chOff x="1763640" y="2204640"/>
            <a:chExt cx="5256000" cy="3095640"/>
          </a:xfrm>
        </p:grpSpPr>
        <p:sp>
          <p:nvSpPr>
            <p:cNvPr id="427" name="Text Box 36"/>
            <p:cNvSpPr/>
            <p:nvPr/>
          </p:nvSpPr>
          <p:spPr>
            <a:xfrm>
              <a:off x="2691000" y="4062240"/>
              <a:ext cx="61812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 - 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37"/>
            <p:cNvSpPr/>
            <p:nvPr/>
          </p:nvSpPr>
          <p:spPr>
            <a:xfrm>
              <a:off x="3463920" y="4051080"/>
              <a:ext cx="463680" cy="4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Line 38"/>
            <p:cNvSpPr/>
            <p:nvPr/>
          </p:nvSpPr>
          <p:spPr>
            <a:xfrm>
              <a:off x="1918080" y="4062240"/>
              <a:ext cx="510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Line 39"/>
            <p:cNvSpPr/>
            <p:nvPr/>
          </p:nvSpPr>
          <p:spPr>
            <a:xfrm flipV="1">
              <a:off x="2381760" y="2204640"/>
              <a:ext cx="0" cy="30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40"/>
            <p:cNvSpPr/>
            <p:nvPr/>
          </p:nvSpPr>
          <p:spPr>
            <a:xfrm>
              <a:off x="1763640" y="2359440"/>
              <a:ext cx="463680" cy="46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Text Box 41"/>
            <p:cNvSpPr/>
            <p:nvPr/>
          </p:nvSpPr>
          <p:spPr>
            <a:xfrm>
              <a:off x="5937480" y="4205880"/>
              <a:ext cx="108216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Valore di merca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>
              <a:off x="2227320" y="4681440"/>
              <a:ext cx="1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1763640" y="4526640"/>
              <a:ext cx="463680" cy="4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44"/>
            <p:cNvSpPr/>
            <p:nvPr/>
          </p:nvSpPr>
          <p:spPr>
            <a:xfrm>
              <a:off x="3927960" y="4681440"/>
              <a:ext cx="262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45"/>
            <p:cNvSpPr/>
            <p:nvPr/>
          </p:nvSpPr>
          <p:spPr>
            <a:xfrm flipH="1" flipV="1">
              <a:off x="2381760" y="3287880"/>
              <a:ext cx="1545840" cy="139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46"/>
            <p:cNvSpPr/>
            <p:nvPr/>
          </p:nvSpPr>
          <p:spPr>
            <a:xfrm flipV="1">
              <a:off x="3927960" y="2657520"/>
              <a:ext cx="0" cy="201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Text Box 47"/>
            <p:cNvSpPr/>
            <p:nvPr/>
          </p:nvSpPr>
          <p:spPr>
            <a:xfrm>
              <a:off x="3463920" y="2348280"/>
              <a:ext cx="10821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At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Text Box 48"/>
            <p:cNvSpPr/>
            <p:nvPr/>
          </p:nvSpPr>
          <p:spPr>
            <a:xfrm>
              <a:off x="4237200" y="2823840"/>
              <a:ext cx="10818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Out of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Text Box 49"/>
            <p:cNvSpPr/>
            <p:nvPr/>
          </p:nvSpPr>
          <p:spPr>
            <a:xfrm>
              <a:off x="2691000" y="2823840"/>
              <a:ext cx="1081800" cy="30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In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50"/>
            <p:cNvSpPr/>
            <p:nvPr/>
          </p:nvSpPr>
          <p:spPr>
            <a:xfrm>
              <a:off x="2381760" y="4681440"/>
              <a:ext cx="154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427-E5CA-4A75-B621-57037950950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rofilo economico di una short pu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4" name="Group 5"/>
          <p:cNvGrpSpPr/>
          <p:nvPr/>
        </p:nvGrpSpPr>
        <p:grpSpPr>
          <a:xfrm>
            <a:off x="1835280" y="2204640"/>
            <a:ext cx="5616360" cy="3311640"/>
            <a:chOff x="1835280" y="2204640"/>
            <a:chExt cx="5616360" cy="3311640"/>
          </a:xfrm>
        </p:grpSpPr>
        <p:sp>
          <p:nvSpPr>
            <p:cNvPr id="445" name="Text Box 6"/>
            <p:cNvSpPr/>
            <p:nvPr/>
          </p:nvSpPr>
          <p:spPr>
            <a:xfrm>
              <a:off x="2495880" y="4191840"/>
              <a:ext cx="660600" cy="49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 - 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Text Box 7"/>
            <p:cNvSpPr/>
            <p:nvPr/>
          </p:nvSpPr>
          <p:spPr>
            <a:xfrm>
              <a:off x="3652200" y="4179960"/>
              <a:ext cx="495360" cy="49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8"/>
            <p:cNvSpPr/>
            <p:nvPr/>
          </p:nvSpPr>
          <p:spPr>
            <a:xfrm>
              <a:off x="2000520" y="419184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 flipV="1">
              <a:off x="2495880" y="2204640"/>
              <a:ext cx="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1835280" y="2370600"/>
              <a:ext cx="495360" cy="49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6295320" y="4345560"/>
              <a:ext cx="1155960" cy="49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Valore di merca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Line 12"/>
            <p:cNvSpPr/>
            <p:nvPr/>
          </p:nvSpPr>
          <p:spPr>
            <a:xfrm>
              <a:off x="2330640" y="352944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1835280" y="3363840"/>
              <a:ext cx="495360" cy="49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4147560" y="352944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 flipV="1">
              <a:off x="2495880" y="3529080"/>
              <a:ext cx="1651680" cy="132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16"/>
            <p:cNvSpPr/>
            <p:nvPr/>
          </p:nvSpPr>
          <p:spPr>
            <a:xfrm flipV="1">
              <a:off x="4147560" y="2689560"/>
              <a:ext cx="0" cy="150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17"/>
            <p:cNvSpPr/>
            <p:nvPr/>
          </p:nvSpPr>
          <p:spPr>
            <a:xfrm>
              <a:off x="3652200" y="2358720"/>
              <a:ext cx="1155960" cy="3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At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Text Box 18"/>
            <p:cNvSpPr/>
            <p:nvPr/>
          </p:nvSpPr>
          <p:spPr>
            <a:xfrm>
              <a:off x="4478040" y="2867040"/>
              <a:ext cx="1155960" cy="33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Out of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Text Box 19"/>
            <p:cNvSpPr/>
            <p:nvPr/>
          </p:nvSpPr>
          <p:spPr>
            <a:xfrm>
              <a:off x="2826000" y="2867040"/>
              <a:ext cx="1156320" cy="33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In the mone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20"/>
            <p:cNvSpPr/>
            <p:nvPr/>
          </p:nvSpPr>
          <p:spPr>
            <a:xfrm>
              <a:off x="2495880" y="3529440"/>
              <a:ext cx="165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DE8-1E0E-4D9A-B50D-4698E0853A4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Determinazione del profit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523880" y="2286000"/>
            <a:ext cx="219420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PTION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678200" y="2209680"/>
            <a:ext cx="327852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E = [Vm – (Sp + p)]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523880" y="3581280"/>
            <a:ext cx="2057400" cy="60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PTION 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4678200" y="3511440"/>
            <a:ext cx="327852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E = [Sp – (p + Vm)]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3855960" y="3662280"/>
            <a:ext cx="547920" cy="301680"/>
          </a:xfrm>
          <a:prstGeom prst="rightArrow">
            <a:avLst>
              <a:gd name="adj1" fmla="val 50000"/>
              <a:gd name="adj2" fmla="val 45406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3855960" y="2360520"/>
            <a:ext cx="547920" cy="301680"/>
          </a:xfrm>
          <a:prstGeom prst="rightArrow">
            <a:avLst>
              <a:gd name="adj1" fmla="val 50000"/>
              <a:gd name="adj2" fmla="val 45406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1676520" y="4343400"/>
            <a:ext cx="318276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risultato econom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numero di tit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prem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1371600" y="56386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B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’opzione è un contrat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simmetr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577-8CFC-4CDE-8349-6234A89F3FA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fattori determinanti il valore delle opz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258920" y="2205000"/>
            <a:ext cx="68421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urata del contra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di mercato dell’attività sottos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ilità del prezzo dell’attività sottos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idendi distribu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di interesse risk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B4B7-8B75-4361-8366-43BDEEE95BC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Tipologie di opz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914400" y="243828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urrency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est rate o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3809880" y="365760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est rate c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est rate fl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est rate col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5"/>
          <p:cNvSpPr/>
          <p:nvPr/>
        </p:nvSpPr>
        <p:spPr>
          <a:xfrm>
            <a:off x="213372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6"/>
          <p:cNvSpPr/>
          <p:nvPr/>
        </p:nvSpPr>
        <p:spPr>
          <a:xfrm>
            <a:off x="2133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350532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3505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"/>
          <p:cNvSpPr/>
          <p:nvPr/>
        </p:nvSpPr>
        <p:spPr>
          <a:xfrm>
            <a:off x="35053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35053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BEE1-C133-4077-A049-AE2CC4C04F7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swa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838080" y="2057400"/>
            <a:ext cx="746784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o con il quale due soggetti assumono l’impegno di scambiarsi, secondo determinate modalità, flussi finanziari su interessi o valute ad una scadenza convenu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l 1° contratto è stato stipulato nel 1981 tra la World  Bank e la IB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Mercato OT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resenza di un intermediar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cadenza medio-lung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57B-71CF-41D9-B3EA-7482746B1BC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interest rate swap (IR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1066680" y="198108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revede lo scambio periodico tra due operatori di flussi di cassa aventi la natura di interesse determinati in relazione ad un capitale di riferimento (noziona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1676520" y="3276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oupon swap o plain vanilla sw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1676520" y="4114800"/>
            <a:ext cx="144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a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5867280" y="411480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a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3124080" y="4191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3124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358128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asso fisso x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358128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asso variabile : Libor a 6 me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AutoShape 11"/>
          <p:cNvSpPr/>
          <p:nvPr/>
        </p:nvSpPr>
        <p:spPr>
          <a:xfrm>
            <a:off x="990720" y="33526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1676520" y="5073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Basis rate sw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1676520" y="5911920"/>
            <a:ext cx="144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a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5867280" y="591192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resa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3124080" y="5987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3124080" y="6216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17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asso variabile Libor 6 me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18"/>
          <p:cNvSpPr/>
          <p:nvPr/>
        </p:nvSpPr>
        <p:spPr>
          <a:xfrm>
            <a:off x="3581280" y="6216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asso variabile : Euribor a 6 me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19"/>
          <p:cNvSpPr/>
          <p:nvPr/>
        </p:nvSpPr>
        <p:spPr>
          <a:xfrm>
            <a:off x="990720" y="514980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DDE8-6BD2-42FA-A244-F98E5D38083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ischio di tasso di interes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42920" y="2133720"/>
            <a:ext cx="74898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ffetti prodotti da variazioni del tasso di interesse s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debitamento a tasso fiss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debitamento a tasso vari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alore degli investimen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Valore dell’impre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403280" y="51577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o di tasso di interes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788000" y="580536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o di reinvesti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788000" y="4653000"/>
            <a:ext cx="26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o di prezz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3851280" y="4941360"/>
            <a:ext cx="865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851280" y="5589720"/>
            <a:ext cx="8650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574E-C420-48BD-A5C6-DA991FE12A2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currency swa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914400" y="2057400"/>
            <a:ext cx="7391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tratto in cui una parte cede all’altra una determinata quantità di valuta contro altra valuta con l’impegno di effettuare l’operazione opposta alla scadenza del contratto, al medesimo rapporto di camb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990720" y="3886200"/>
            <a:ext cx="182880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resa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6172200" y="3886200"/>
            <a:ext cx="182880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resa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819520" y="396252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819520" y="5943600"/>
            <a:ext cx="3352680" cy="0"/>
          </a:xfrm>
          <a:prstGeom prst="line">
            <a:avLst/>
          </a:prstGeom>
          <a:ln w="2844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819520" y="5105520"/>
            <a:ext cx="335268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 flipH="1">
            <a:off x="2819160" y="434340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819160" y="5562720"/>
            <a:ext cx="3352680" cy="0"/>
          </a:xfrm>
          <a:prstGeom prst="line">
            <a:avLst/>
          </a:prstGeom>
          <a:ln w="2844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2819160" y="4724280"/>
            <a:ext cx="335268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342900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lusso capitale in 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4290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lusso capitale in 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429000" y="3657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lusso capitale in 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3429000" y="4038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lusso capitale in 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42900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lusso interesse in $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342900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lusso interesse in 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914400" y="6172200"/>
            <a:ext cx="762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it-IT" sz="1600" spc="-1" strike="noStrike" baseline="-25000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= data inizio;   </a:t>
            </a:r>
            <a:r>
              <a:rPr b="0" lang="it-IT" sz="1600" spc="-1" strike="noStrike">
                <a:solidFill>
                  <a:srgbClr val="00e4a8"/>
                </a:solidFill>
                <a:latin typeface="Tahoma"/>
              </a:rPr>
              <a:t>t</a:t>
            </a:r>
            <a:r>
              <a:rPr b="0" lang="it-IT" sz="1600" spc="-1" strike="noStrike" baseline="-25000">
                <a:solidFill>
                  <a:srgbClr val="00e4a8"/>
                </a:solidFill>
                <a:latin typeface="Tahoma"/>
              </a:rPr>
              <a:t>0</a:t>
            </a:r>
            <a:r>
              <a:rPr b="0" lang="it-IT" sz="1600" spc="-1" strike="noStrike">
                <a:solidFill>
                  <a:srgbClr val="00e4a8"/>
                </a:solidFill>
                <a:latin typeface="Tahoma"/>
              </a:rPr>
              <a:t>-t</a:t>
            </a:r>
            <a:r>
              <a:rPr b="0" lang="it-IT" sz="1600" spc="-1" strike="noStrike" baseline="-25000">
                <a:solidFill>
                  <a:srgbClr val="00e4a8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= scadenza intermedie;   </a:t>
            </a:r>
            <a:r>
              <a:rPr b="0" lang="it-IT" sz="1600" spc="-1" strike="noStrike">
                <a:solidFill>
                  <a:srgbClr val="ffcf01"/>
                </a:solidFill>
                <a:latin typeface="Tahoma"/>
              </a:rPr>
              <a:t>t</a:t>
            </a:r>
            <a:r>
              <a:rPr b="0" lang="it-IT" sz="1600" spc="-1" strike="noStrike" baseline="-25000">
                <a:solidFill>
                  <a:srgbClr val="ffcf01"/>
                </a:solidFill>
                <a:latin typeface="Tahoma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= data di scadenz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5C64-C1A4-4F04-A288-7FBAF9F8ADA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credit deriva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042920" y="1916280"/>
            <a:ext cx="7345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redit derivative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ono contratti con i quali una parte che presenta tra le attività un determinato investimento (ad esempio in titoli azionari, obbligazionari, ecc.), dietro il pagamento di un corrispettivo, è in grado di tutelarsi dal rischio d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el soggetto emittente l’attività acquisita, trasferendo tale rischio ad un altro soggetto, il quale a sua volta assume l’esposizione ad una perdita incerta per ottenere come contropartita il corrispettivo versato dalla pr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1784520" y="4788000"/>
            <a:ext cx="4874760" cy="1809360"/>
            <a:chOff x="1784520" y="4788000"/>
            <a:chExt cx="4874760" cy="1809360"/>
          </a:xfrm>
        </p:grpSpPr>
        <p:sp>
          <p:nvSpPr>
            <p:cNvPr id="527" name="Text Box 7"/>
            <p:cNvSpPr/>
            <p:nvPr/>
          </p:nvSpPr>
          <p:spPr>
            <a:xfrm>
              <a:off x="3351600" y="5240520"/>
              <a:ext cx="1804320" cy="45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Pagamento in ipotesi di default del debitore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8"/>
            <p:cNvSpPr/>
            <p:nvPr/>
          </p:nvSpPr>
          <p:spPr>
            <a:xfrm>
              <a:off x="1784520" y="4938840"/>
              <a:ext cx="1503360" cy="603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Acquirente della protezio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5155920" y="4938840"/>
              <a:ext cx="1503360" cy="603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Venditore della protezio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1784520" y="5994360"/>
              <a:ext cx="1503360" cy="6030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Debitore dell’attività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 flipV="1">
              <a:off x="2536200" y="5541840"/>
              <a:ext cx="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3287880" y="5089680"/>
              <a:ext cx="18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 flipH="1">
              <a:off x="3287520" y="5240520"/>
              <a:ext cx="186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Text Box 14"/>
            <p:cNvSpPr/>
            <p:nvPr/>
          </p:nvSpPr>
          <p:spPr>
            <a:xfrm>
              <a:off x="3588840" y="4788000"/>
              <a:ext cx="12027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ahoma"/>
                </a:rPr>
                <a:t>Premi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388-7622-4B79-A6BC-10577908854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redit default swa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971640" y="21337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redit default swa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un contratto attraverso il quale un soggetto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rotection buy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, detentore di un credito tra le sue attività, si impegna a corrispondere all’altra parte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rotection sell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un premio a scadenze periodiche definite, al fine di ottenere una tutela dal rischio di credito associato all’attività sottostan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E92C-31EB-48A0-A948-227CB539726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Total return swa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900000" y="191628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un accordo tra due parti nel quale l’acquirente della protezione, detentore di una attività sottostante il cui rimborso dipende dal grado di solvibilità dell’emittente, si impegna a corrispondere al venditore della protezione un flusso di cassa costituito d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ressi, cedole, dividendi erogati dal soggetto emittente dell’attività sottostante in un periodo determin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ventuale apprezzamento del valore di mercato dell’attività sottostante registrato nel medesimo perio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ventuali commissioni previste nel contrat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900000" y="4724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venditore della protezione si impegna ad effettuare pagamenti a favore dell’acquirente rappresentati d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tasso di interesse di riferimento (generalmente il tass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Libo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 calcolato su un capitale corrispondente al valore dell’attività sottosta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ventuale deprezzamento del valore di mercato dell’attività sottostante registrato nel periodo considera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5BC2-DD55-48E1-9F50-915C334D003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du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971640" y="2060640"/>
            <a:ext cx="6985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duration è la durata media finanziaria di un investimento, ovvero il periodo medio di rientro dei flussi di uno strumento finanziari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le media è costruita ponderando ogni scadenza (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) con un fattore di ponderazione ottenuto dal rapporto tra il valore attuale dei suddetti flussi ed il prezzo dell’attività oggetto di valutazione, a sua volta dato dal valore attuale dei flussi di cass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D79-A5C4-4011-97B7-E6F98812BF5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14280" y="1857240"/>
                <a:ext cx="4635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CasellaDiTesto 4"/>
          <p:cNvSpPr/>
          <p:nvPr/>
        </p:nvSpPr>
        <p:spPr>
          <a:xfrm>
            <a:off x="1285920" y="1000080"/>
            <a:ext cx="67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apendo che il valore (prezzo) di una qualsiasi attività finanziaria è dato dal valore attuale dei flussi generat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214280" y="3357720"/>
                <a:ext cx="53103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CasellaDiTesto 7"/>
          <p:cNvSpPr/>
          <p:nvPr/>
        </p:nvSpPr>
        <p:spPr>
          <a:xfrm>
            <a:off x="1285920" y="27860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uration si ottiene com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1214280" y="5214960"/>
                <a:ext cx="6672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CasellaDiTesto 10"/>
          <p:cNvSpPr/>
          <p:nvPr/>
        </p:nvSpPr>
        <p:spPr>
          <a:xfrm>
            <a:off x="1214280" y="45007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lcolando la derivata prima del prezzo rispetto al tasso di interes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9B7-7081-4F20-BE25-424F418C047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relazione prezzo-rendime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2357280" y="1857240"/>
            <a:ext cx="3744720" cy="2447280"/>
            <a:chOff x="2357280" y="1857240"/>
            <a:chExt cx="3744720" cy="2447280"/>
          </a:xfrm>
        </p:grpSpPr>
        <p:sp>
          <p:nvSpPr>
            <p:cNvPr id="145" name="Line 6"/>
            <p:cNvSpPr/>
            <p:nvPr/>
          </p:nvSpPr>
          <p:spPr>
            <a:xfrm>
              <a:off x="2744280" y="3760920"/>
              <a:ext cx="335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7"/>
            <p:cNvSpPr/>
            <p:nvPr/>
          </p:nvSpPr>
          <p:spPr>
            <a:xfrm flipV="1">
              <a:off x="2873520" y="1857240"/>
              <a:ext cx="0" cy="21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2357280" y="1992960"/>
              <a:ext cx="38700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5456520" y="3896640"/>
              <a:ext cx="387000" cy="4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3132000" y="2129040"/>
              <a:ext cx="2324520" cy="1359720"/>
            </a:xfrm>
            <a:custGeom>
              <a:avLst/>
              <a:gdLst>
                <a:gd name="textAreaLeft" fmla="*/ 0 w 2324520"/>
                <a:gd name="textAreaRight" fmla="*/ 2324880 w 232452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3240" h="1800">
                  <a:moveTo>
                    <a:pt x="0" y="0"/>
                  </a:moveTo>
                  <a:cubicBezTo>
                    <a:pt x="30" y="315"/>
                    <a:pt x="60" y="630"/>
                    <a:pt x="360" y="900"/>
                  </a:cubicBezTo>
                  <a:cubicBezTo>
                    <a:pt x="660" y="1170"/>
                    <a:pt x="1320" y="1470"/>
                    <a:pt x="1800" y="1620"/>
                  </a:cubicBezTo>
                  <a:cubicBezTo>
                    <a:pt x="2280" y="1770"/>
                    <a:pt x="2760" y="1785"/>
                    <a:pt x="3240" y="18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1071720" y="4214880"/>
                <a:ext cx="7003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t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1071720" y="5000760"/>
                <a:ext cx="4398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C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Ovale 13"/>
          <p:cNvSpPr/>
          <p:nvPr/>
        </p:nvSpPr>
        <p:spPr>
          <a:xfrm>
            <a:off x="4429080" y="5214960"/>
            <a:ext cx="128592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5" name="Connettore 2 15"/>
          <p:cNvCxnSpPr>
            <a:stCxn id="154" idx="6"/>
          </p:cNvCxnSpPr>
          <p:nvPr/>
        </p:nvCxnSpPr>
        <p:spPr>
          <a:xfrm flipV="1">
            <a:off x="5715000" y="5643360"/>
            <a:ext cx="643320" cy="7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CasellaDiTesto 16"/>
          <p:cNvSpPr/>
          <p:nvPr/>
        </p:nvSpPr>
        <p:spPr>
          <a:xfrm>
            <a:off x="6429240" y="5214960"/>
            <a:ext cx="16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Duration modific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6"/>
              <p:cNvSpPr txBox="1"/>
              <p:nvPr/>
            </p:nvSpPr>
            <p:spPr>
              <a:xfrm>
                <a:off x="1071720" y="6140520"/>
                <a:ext cx="3929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≃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C340-DDED-438E-86B1-9D34BC4DB60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duration modific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0" name="Gruppo 16"/>
          <p:cNvGrpSpPr/>
          <p:nvPr/>
        </p:nvGrpSpPr>
        <p:grpSpPr>
          <a:xfrm>
            <a:off x="2268360" y="2204640"/>
            <a:ext cx="4248360" cy="2953080"/>
            <a:chOff x="2268360" y="2204640"/>
            <a:chExt cx="4248360" cy="2953080"/>
          </a:xfrm>
        </p:grpSpPr>
        <p:grpSp>
          <p:nvGrpSpPr>
            <p:cNvPr id="161" name="Group 19"/>
            <p:cNvGrpSpPr/>
            <p:nvPr/>
          </p:nvGrpSpPr>
          <p:grpSpPr>
            <a:xfrm>
              <a:off x="2268360" y="2204640"/>
              <a:ext cx="4248360" cy="2953080"/>
              <a:chOff x="2268360" y="2204640"/>
              <a:chExt cx="4248360" cy="2953080"/>
            </a:xfrm>
          </p:grpSpPr>
          <p:sp>
            <p:nvSpPr>
              <p:cNvPr id="162" name="Line 8"/>
              <p:cNvSpPr/>
              <p:nvPr/>
            </p:nvSpPr>
            <p:spPr>
              <a:xfrm>
                <a:off x="2708280" y="4502160"/>
                <a:ext cx="380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Line 9"/>
              <p:cNvSpPr/>
              <p:nvPr/>
            </p:nvSpPr>
            <p:spPr>
              <a:xfrm flipV="1">
                <a:off x="2854440" y="2204640"/>
                <a:ext cx="0" cy="262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Text Box 10"/>
              <p:cNvSpPr/>
              <p:nvPr/>
            </p:nvSpPr>
            <p:spPr>
              <a:xfrm>
                <a:off x="2268360" y="2368440"/>
                <a:ext cx="439920" cy="49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11"/>
              <p:cNvSpPr/>
              <p:nvPr/>
            </p:nvSpPr>
            <p:spPr>
              <a:xfrm>
                <a:off x="5784840" y="4665600"/>
                <a:ext cx="438120" cy="49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>
                <a:off x="2854440" y="2860560"/>
                <a:ext cx="1904760" cy="164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 flipH="1">
                <a:off x="2854080" y="3352680"/>
                <a:ext cx="58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14"/>
              <p:cNvSpPr/>
              <p:nvPr/>
            </p:nvSpPr>
            <p:spPr>
              <a:xfrm>
                <a:off x="3440160" y="3352680"/>
                <a:ext cx="0" cy="11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5"/>
              <p:cNvSpPr/>
              <p:nvPr/>
            </p:nvSpPr>
            <p:spPr>
              <a:xfrm flipV="1">
                <a:off x="4465440" y="3681000"/>
                <a:ext cx="586080" cy="49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5051520" y="3189240"/>
                <a:ext cx="11714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400" spc="-1" strike="noStrike">
                    <a:solidFill>
                      <a:srgbClr val="000000"/>
                    </a:solidFill>
                    <a:latin typeface="Tahoma"/>
                  </a:rPr>
                  <a:t>Duration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modificat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Text Box 17"/>
              <p:cNvSpPr/>
              <p:nvPr/>
            </p:nvSpPr>
            <p:spPr>
              <a:xfrm>
                <a:off x="3585960" y="2368440"/>
                <a:ext cx="1319400" cy="657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ahoma"/>
                  </a:rPr>
                  <a:t>Relazione prezzo-rendiment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8"/>
              <p:cNvSpPr/>
              <p:nvPr/>
            </p:nvSpPr>
            <p:spPr>
              <a:xfrm flipV="1">
                <a:off x="3294000" y="2697120"/>
                <a:ext cx="29196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3" name="Freeform 20"/>
            <p:cNvSpPr/>
            <p:nvPr/>
          </p:nvSpPr>
          <p:spPr>
            <a:xfrm>
              <a:off x="3214440" y="2786040"/>
              <a:ext cx="2057400" cy="114300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3240" h="1800">
                  <a:moveTo>
                    <a:pt x="0" y="0"/>
                  </a:moveTo>
                  <a:cubicBezTo>
                    <a:pt x="30" y="315"/>
                    <a:pt x="60" y="630"/>
                    <a:pt x="360" y="900"/>
                  </a:cubicBezTo>
                  <a:cubicBezTo>
                    <a:pt x="660" y="1170"/>
                    <a:pt x="1320" y="1470"/>
                    <a:pt x="1800" y="1620"/>
                  </a:cubicBezTo>
                  <a:cubicBezTo>
                    <a:pt x="2280" y="1770"/>
                    <a:pt x="2760" y="1785"/>
                    <a:pt x="3240" y="18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a Pace</cp:lastModifiedBy>
  <dcterms:modified xsi:type="dcterms:W3CDTF">2018-10-01T13:58:45Z</dcterms:modified>
  <cp:revision>37</cp:revision>
  <dc:subject/>
  <dc:title>PowerPoint Presentation</dc:title>
</cp:coreProperties>
</file>