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F75-432E-4970-8547-0D65DD29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007-0F6C-4A99-8AA0-653C7A5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AFA-8DE0-445C-A811-7C976348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912-9A9C-4226-B2B3-B7C0FFDD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6C04-3642-4C40-988D-00F7B919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10C-CEBE-402C-8E70-DD2277E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B17C-AB48-453C-AE92-9FCFF8D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F97-3E36-46E6-ABDE-3A2A6A6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260-D135-46EF-994B-21FC680E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B28-0009-4A99-9367-A57B0FF3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47B4-F8DB-4A50-8B01-18A5DB5E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417-6F9C-4890-803B-EDA0CDE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222A-6F83-46DC-BC1B-36FD663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30A8-0EE5-4084-9514-09BE590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E348-2CFD-4504-9F67-1A2E4041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86F-8BF1-4F52-A536-8FFA58B3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394-0F4C-42A3-AA6B-C903B09C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186-CCA0-4B60-B6A0-4B68E02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0C4-7950-4A40-8EC8-7BF4061D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0CE-76D2-4D4B-8347-889B03E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924-85ED-4272-ADF6-972D69E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ED0-DA58-4902-B723-AE6BBE3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AE8-8CFF-432B-AA6F-2FE46CB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2E9-1BA8-4B6A-8D45-0FCB61F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F21B-44AF-4C76-866F-37A8C00B25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2EE5-7185-4C0C-A253-A83BB20DA87C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Corso di Valutazione delle aziende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Gli obiettivi della Finanza azienda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f.ssa Roberta 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egli Studi dell’Aqui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.a. 2018-20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39E8-8A3E-40F2-B06E-3E6BD60E7B0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teorema della separazione di Fisher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1676520" y="2438280"/>
            <a:ext cx="3885840" cy="2666880"/>
            <a:chOff x="1676520" y="2438280"/>
            <a:chExt cx="3885840" cy="2666880"/>
          </a:xfrm>
        </p:grpSpPr>
        <p:sp>
          <p:nvSpPr>
            <p:cNvPr id="164" name="Text Box 4"/>
            <p:cNvSpPr/>
            <p:nvPr/>
          </p:nvSpPr>
          <p:spPr>
            <a:xfrm>
              <a:off x="4180320" y="4438440"/>
              <a:ext cx="172080" cy="13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5" name="Group 5"/>
            <p:cNvGrpSpPr/>
            <p:nvPr/>
          </p:nvGrpSpPr>
          <p:grpSpPr>
            <a:xfrm>
              <a:off x="1676520" y="2438280"/>
              <a:ext cx="3885840" cy="2666880"/>
              <a:chOff x="1676520" y="2438280"/>
              <a:chExt cx="3885840" cy="2666880"/>
            </a:xfrm>
          </p:grpSpPr>
          <p:grpSp>
            <p:nvGrpSpPr>
              <p:cNvPr id="166" name="Group 6"/>
              <p:cNvGrpSpPr/>
              <p:nvPr/>
            </p:nvGrpSpPr>
            <p:grpSpPr>
              <a:xfrm>
                <a:off x="1676520" y="2438280"/>
                <a:ext cx="3885840" cy="2666880"/>
                <a:chOff x="1676520" y="2438280"/>
                <a:chExt cx="3885840" cy="2666880"/>
              </a:xfrm>
            </p:grpSpPr>
            <p:sp>
              <p:nvSpPr>
                <p:cNvPr id="167" name="Line 7"/>
                <p:cNvSpPr/>
                <p:nvPr/>
              </p:nvSpPr>
              <p:spPr>
                <a:xfrm>
                  <a:off x="1935720" y="4705200"/>
                  <a:ext cx="36252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Line 8"/>
                <p:cNvSpPr/>
                <p:nvPr/>
              </p:nvSpPr>
              <p:spPr>
                <a:xfrm flipV="1">
                  <a:off x="2107800" y="2438280"/>
                  <a:ext cx="720" cy="253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Text Box 9"/>
                <p:cNvSpPr/>
                <p:nvPr/>
              </p:nvSpPr>
              <p:spPr>
                <a:xfrm>
                  <a:off x="1762920" y="2571480"/>
                  <a:ext cx="259200" cy="26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1" lang="it-IT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0" name="Text Box 10"/>
                <p:cNvSpPr/>
                <p:nvPr/>
              </p:nvSpPr>
              <p:spPr>
                <a:xfrm>
                  <a:off x="5302440" y="4838760"/>
                  <a:ext cx="259920" cy="26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1" lang="it-IT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Text Box 11"/>
                <p:cNvSpPr/>
                <p:nvPr/>
              </p:nvSpPr>
              <p:spPr>
                <a:xfrm>
                  <a:off x="4007880" y="4838760"/>
                  <a:ext cx="430920" cy="26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Text Box 12"/>
                <p:cNvSpPr/>
                <p:nvPr/>
              </p:nvSpPr>
              <p:spPr>
                <a:xfrm>
                  <a:off x="2971440" y="4838760"/>
                  <a:ext cx="432720" cy="26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13"/>
                <p:cNvSpPr/>
                <p:nvPr/>
              </p:nvSpPr>
              <p:spPr>
                <a:xfrm>
                  <a:off x="2107800" y="3238200"/>
                  <a:ext cx="2072520" cy="146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Text Box 14"/>
                <p:cNvSpPr/>
                <p:nvPr/>
              </p:nvSpPr>
              <p:spPr>
                <a:xfrm>
                  <a:off x="1676520" y="3105000"/>
                  <a:ext cx="345600" cy="26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15"/>
                <p:cNvSpPr/>
                <p:nvPr/>
              </p:nvSpPr>
              <p:spPr>
                <a:xfrm flipV="1">
                  <a:off x="3057840" y="3905280"/>
                  <a:ext cx="720" cy="79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16"/>
                <p:cNvSpPr/>
                <p:nvPr/>
              </p:nvSpPr>
              <p:spPr>
                <a:xfrm>
                  <a:off x="2107800" y="3905280"/>
                  <a:ext cx="949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Text Box 17"/>
                <p:cNvSpPr/>
                <p:nvPr/>
              </p:nvSpPr>
              <p:spPr>
                <a:xfrm>
                  <a:off x="1676520" y="3771720"/>
                  <a:ext cx="345600" cy="26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000000"/>
                      </a:solidFill>
                      <a:latin typeface="Times New Roman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Text Box 18"/>
                <p:cNvSpPr/>
                <p:nvPr/>
              </p:nvSpPr>
              <p:spPr>
                <a:xfrm>
                  <a:off x="3403440" y="2971440"/>
                  <a:ext cx="1812600" cy="533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600" spc="-1" strike="noStrike">
                      <a:solidFill>
                        <a:srgbClr val="000000"/>
                      </a:solidFill>
                      <a:latin typeface="Times New Roman"/>
                    </a:rPr>
                    <a:t>Linea del mercato dei capitali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19"/>
                <p:cNvSpPr/>
                <p:nvPr/>
              </p:nvSpPr>
              <p:spPr>
                <a:xfrm flipH="1">
                  <a:off x="2798280" y="3238200"/>
                  <a:ext cx="604800" cy="399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0" name="Text Box 20"/>
              <p:cNvSpPr/>
              <p:nvPr/>
            </p:nvSpPr>
            <p:spPr>
              <a:xfrm>
                <a:off x="2194200" y="3105000"/>
                <a:ext cx="172800" cy="13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1" name="Rectangle 21"/>
          <p:cNvSpPr/>
          <p:nvPr/>
        </p:nvSpPr>
        <p:spPr>
          <a:xfrm>
            <a:off x="3598920" y="35046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q = – (1 + rf)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1143000" y="5286240"/>
            <a:ext cx="695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’investitore può muoversi lungo la linea del mercato dei capitali prendendo e concedendo prestiti allo stesso tass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3816-1755-4CDA-A991-14FD7B40E3C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rategie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lending</a:t>
            </a: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 e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borrowing </a:t>
            </a: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435560" y="4076640"/>
            <a:ext cx="169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1981080" y="2133720"/>
            <a:ext cx="3809880" cy="2590200"/>
            <a:chOff x="1981080" y="2133720"/>
            <a:chExt cx="3809880" cy="2590200"/>
          </a:xfrm>
        </p:grpSpPr>
        <p:sp>
          <p:nvSpPr>
            <p:cNvPr id="187" name="Line 5"/>
            <p:cNvSpPr/>
            <p:nvPr/>
          </p:nvSpPr>
          <p:spPr>
            <a:xfrm>
              <a:off x="2235240" y="4335480"/>
              <a:ext cx="3554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 flipV="1">
              <a:off x="2403720" y="2133720"/>
              <a:ext cx="720" cy="246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2065680" y="2262960"/>
              <a:ext cx="25416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5536080" y="4465080"/>
              <a:ext cx="2548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it-IT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Text Box 9"/>
            <p:cNvSpPr/>
            <p:nvPr/>
          </p:nvSpPr>
          <p:spPr>
            <a:xfrm>
              <a:off x="4266720" y="4465080"/>
              <a:ext cx="4226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Text Box 10"/>
            <p:cNvSpPr/>
            <p:nvPr/>
          </p:nvSpPr>
          <p:spPr>
            <a:xfrm>
              <a:off x="3250440" y="4465080"/>
              <a:ext cx="4240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2403720" y="2910600"/>
              <a:ext cx="2032200" cy="142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1981080" y="2781360"/>
              <a:ext cx="3387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 flipV="1">
              <a:off x="3335400" y="3558600"/>
              <a:ext cx="720" cy="77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2403720" y="3558600"/>
              <a:ext cx="9313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1981080" y="3428640"/>
              <a:ext cx="338760" cy="25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Arc 16"/>
          <p:cNvSpPr/>
          <p:nvPr/>
        </p:nvSpPr>
        <p:spPr>
          <a:xfrm flipH="1" flipV="1" rot="1816200">
            <a:off x="3165480" y="3297960"/>
            <a:ext cx="1143000" cy="6573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657360"/>
              <a:gd name="textAreaBottom" fmla="*/ 658080 h 657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rc 17"/>
          <p:cNvSpPr/>
          <p:nvPr/>
        </p:nvSpPr>
        <p:spPr>
          <a:xfrm flipH="1" flipV="1" rot="1816200">
            <a:off x="2551680" y="2869560"/>
            <a:ext cx="1014480" cy="776520"/>
          </a:xfrm>
          <a:custGeom>
            <a:avLst/>
            <a:gdLst>
              <a:gd name="textAreaLeft" fmla="*/ 360 w 1014480"/>
              <a:gd name="textAreaRight" fmla="*/ 1015200 w 1014480"/>
              <a:gd name="textAreaTop" fmla="*/ -360 h 776520"/>
              <a:gd name="textAreaBottom" fmla="*/ 776520 h 7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8"/>
          <p:cNvSpPr/>
          <p:nvPr/>
        </p:nvSpPr>
        <p:spPr>
          <a:xfrm flipH="1" flipV="1">
            <a:off x="3080880" y="2911320"/>
            <a:ext cx="762120" cy="1424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9"/>
          <p:cNvSpPr/>
          <p:nvPr/>
        </p:nvSpPr>
        <p:spPr>
          <a:xfrm flipV="1">
            <a:off x="3165480" y="2522520"/>
            <a:ext cx="50976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3675240" y="2392200"/>
            <a:ext cx="24206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ndenza della curva di indifferenza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 = – (1 + r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1295280" y="510516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combinazione tra consumo attuale e consumo futuro scelta dall’investitore dipende dalle sue preferenze personali, espresse graficamente dalle curve di indifferenz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926-D614-4D56-8026-2D5315C058C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rategie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lending</a:t>
            </a: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 e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borrowing </a:t>
            </a: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38080" y="2133720"/>
            <a:ext cx="3276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ndenza della curva del mercato dei capit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ndenza della curva di indiffer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817880" y="22852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q = – (1 + rf)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724280" y="3028680"/>
            <a:ext cx="179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 = – (1 + rp)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114800" y="2362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4114800" y="3124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838080" y="3886200"/>
            <a:ext cx="17528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q &gt;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q =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 q &lt; q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6019920" y="441972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819520" y="3886200"/>
            <a:ext cx="1752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f &lt; 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f = 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f &gt; r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2209680" y="3962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2209680" y="5334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2209680" y="4648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3962520" y="53341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15"/>
          <p:cNvSpPr/>
          <p:nvPr/>
        </p:nvSpPr>
        <p:spPr>
          <a:xfrm>
            <a:off x="3962520" y="4648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3962520" y="3962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4876920" y="3886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orrow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4876920" y="5257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4876920" y="4572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endenze ugu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310-B258-4E4B-816C-1F9380D97D0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’introduzione delle imprese nel model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58920" y="4803840"/>
            <a:ext cx="263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4"/>
          <p:cNvSpPr/>
          <p:nvPr/>
        </p:nvSpPr>
        <p:spPr>
          <a:xfrm flipV="1">
            <a:off x="2157840" y="2449440"/>
            <a:ext cx="2160" cy="233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rc 5"/>
          <p:cNvSpPr/>
          <p:nvPr/>
        </p:nvSpPr>
        <p:spPr>
          <a:xfrm>
            <a:off x="2158920" y="3521160"/>
            <a:ext cx="1638360" cy="129060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fill="none" w="21600" h="2172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2"/>
                  <a:pt x="21599" y="21684"/>
                  <a:pt x="21599" y="21726"/>
                </a:cubicBezTo>
              </a:path>
              <a:path stroke="0" w="21600" h="2172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42"/>
                  <a:pt x="21599" y="21684"/>
                  <a:pt x="21599" y="2172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158920" y="2878200"/>
            <a:ext cx="2198880" cy="19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3367080" y="39481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2158920" y="3948120"/>
            <a:ext cx="120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4684680" y="4853160"/>
            <a:ext cx="4492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600200" y="2286000"/>
            <a:ext cx="47772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600200" y="2706840"/>
            <a:ext cx="474840" cy="29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186080" y="4844880"/>
            <a:ext cx="498600" cy="3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193920" y="4844880"/>
            <a:ext cx="492120" cy="4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1600200" y="3819600"/>
            <a:ext cx="474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324240" y="3605040"/>
            <a:ext cx="361800" cy="2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523880" y="53330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 imprese hanno pertanto la possibilità di muoversi sia lungo la linea del mercato dei capitali (attraverso attività di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lend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borrow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), sia lungo la linea delle opportunità produt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431-97C1-45DD-8049-14AE1FC4E57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modello fin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1600200" y="2286000"/>
            <a:ext cx="3809880" cy="2971800"/>
            <a:chOff x="1600200" y="2286000"/>
            <a:chExt cx="3809880" cy="2971800"/>
          </a:xfrm>
        </p:grpSpPr>
        <p:grpSp>
          <p:nvGrpSpPr>
            <p:cNvPr id="242" name="Group 4"/>
            <p:cNvGrpSpPr/>
            <p:nvPr/>
          </p:nvGrpSpPr>
          <p:grpSpPr>
            <a:xfrm>
              <a:off x="1600200" y="2286000"/>
              <a:ext cx="3809880" cy="2971800"/>
              <a:chOff x="1600200" y="2286000"/>
              <a:chExt cx="3809880" cy="2971800"/>
            </a:xfrm>
          </p:grpSpPr>
          <p:grpSp>
            <p:nvGrpSpPr>
              <p:cNvPr id="243" name="Group 5"/>
              <p:cNvGrpSpPr/>
              <p:nvPr/>
            </p:nvGrpSpPr>
            <p:grpSpPr>
              <a:xfrm>
                <a:off x="2158200" y="2449080"/>
                <a:ext cx="2629800" cy="2361600"/>
                <a:chOff x="2158200" y="2449080"/>
                <a:chExt cx="2629800" cy="2361600"/>
              </a:xfrm>
            </p:grpSpPr>
            <p:sp>
              <p:nvSpPr>
                <p:cNvPr id="244" name="Line 6"/>
                <p:cNvSpPr/>
                <p:nvPr/>
              </p:nvSpPr>
              <p:spPr>
                <a:xfrm>
                  <a:off x="2159640" y="4802760"/>
                  <a:ext cx="2628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7"/>
                <p:cNvSpPr/>
                <p:nvPr/>
              </p:nvSpPr>
              <p:spPr>
                <a:xfrm flipV="1">
                  <a:off x="2158200" y="2449080"/>
                  <a:ext cx="2160" cy="233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Arc 8"/>
                <p:cNvSpPr/>
                <p:nvPr/>
              </p:nvSpPr>
              <p:spPr>
                <a:xfrm>
                  <a:off x="2159640" y="3520080"/>
                  <a:ext cx="1637280" cy="1290600"/>
                </a:xfrm>
                <a:custGeom>
                  <a:avLst/>
                  <a:gdLst>
                    <a:gd name="textAreaLeft" fmla="*/ 0 w 1637280"/>
                    <a:gd name="textAreaRight" fmla="*/ 1637640 w 1637280"/>
                    <a:gd name="textAreaTop" fmla="*/ 0 h 1290600"/>
                    <a:gd name="textAreaBottom" fmla="*/ 1290960 h 1290600"/>
                  </a:gdLst>
                  <a:ahLst/>
                  <a:rect l="textAreaLeft" t="textAreaTop" r="textAreaRight" b="textAreaBottom"/>
                  <a:pathLst>
                    <a:path fill="none" w="21600" h="21727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642"/>
                        <a:pt x="21599" y="21684"/>
                        <a:pt x="21599" y="21726"/>
                      </a:cubicBezTo>
                    </a:path>
                    <a:path stroke="0" w="21600" h="21727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642"/>
                        <a:pt x="21599" y="21684"/>
                        <a:pt x="21599" y="2172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9"/>
                <p:cNvSpPr/>
                <p:nvPr/>
              </p:nvSpPr>
              <p:spPr>
                <a:xfrm>
                  <a:off x="2159640" y="2877840"/>
                  <a:ext cx="2197440" cy="192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10"/>
                <p:cNvSpPr/>
                <p:nvPr/>
              </p:nvSpPr>
              <p:spPr>
                <a:xfrm>
                  <a:off x="3366360" y="3947040"/>
                  <a:ext cx="0" cy="85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11"/>
                <p:cNvSpPr/>
                <p:nvPr/>
              </p:nvSpPr>
              <p:spPr>
                <a:xfrm flipH="1">
                  <a:off x="2159280" y="3947040"/>
                  <a:ext cx="12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Arc 12"/>
                <p:cNvSpPr/>
                <p:nvPr/>
              </p:nvSpPr>
              <p:spPr>
                <a:xfrm flipH="1" flipV="1">
                  <a:off x="3622680" y="3861720"/>
                  <a:ext cx="775440" cy="684000"/>
                </a:xfrm>
                <a:custGeom>
                  <a:avLst/>
                  <a:gdLst>
                    <a:gd name="textAreaLeft" fmla="*/ 360 w 775440"/>
                    <a:gd name="textAreaRight" fmla="*/ 776160 w 775440"/>
                    <a:gd name="textAreaTop" fmla="*/ 360 h 684000"/>
                    <a:gd name="textAreaBottom" fmla="*/ 684720 h 6840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Arc 13"/>
                <p:cNvSpPr/>
                <p:nvPr/>
              </p:nvSpPr>
              <p:spPr>
                <a:xfrm flipH="1" flipV="1">
                  <a:off x="2418480" y="2791440"/>
                  <a:ext cx="775440" cy="684360"/>
                </a:xfrm>
                <a:custGeom>
                  <a:avLst/>
                  <a:gdLst>
                    <a:gd name="textAreaLeft" fmla="*/ 360 w 775440"/>
                    <a:gd name="textAreaRight" fmla="*/ 776160 w 775440"/>
                    <a:gd name="textAreaTop" fmla="*/ -360 h 684360"/>
                    <a:gd name="textAreaBottom" fmla="*/ 684360 h 684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52" name="Text Box 14"/>
              <p:cNvSpPr/>
              <p:nvPr/>
            </p:nvSpPr>
            <p:spPr>
              <a:xfrm>
                <a:off x="4684320" y="4852440"/>
                <a:ext cx="448920" cy="40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it-IT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600200" y="2286000"/>
                <a:ext cx="47844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it-IT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Text Box 16"/>
              <p:cNvSpPr/>
              <p:nvPr/>
            </p:nvSpPr>
            <p:spPr>
              <a:xfrm>
                <a:off x="1600200" y="2706840"/>
                <a:ext cx="47376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Text Box 17"/>
              <p:cNvSpPr/>
              <p:nvPr/>
            </p:nvSpPr>
            <p:spPr>
              <a:xfrm>
                <a:off x="4185360" y="4845960"/>
                <a:ext cx="498600" cy="299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Text Box 18"/>
              <p:cNvSpPr/>
              <p:nvPr/>
            </p:nvSpPr>
            <p:spPr>
              <a:xfrm>
                <a:off x="3194280" y="4845960"/>
                <a:ext cx="492120" cy="41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Text Box 19"/>
              <p:cNvSpPr/>
              <p:nvPr/>
            </p:nvSpPr>
            <p:spPr>
              <a:xfrm>
                <a:off x="1600200" y="3818880"/>
                <a:ext cx="47376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it-IT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Text Box 20"/>
              <p:cNvSpPr/>
              <p:nvPr/>
            </p:nvSpPr>
            <p:spPr>
              <a:xfrm>
                <a:off x="4049280" y="4042080"/>
                <a:ext cx="1360800" cy="40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individuo 2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Text Box 21"/>
              <p:cNvSpPr/>
              <p:nvPr/>
            </p:nvSpPr>
            <p:spPr>
              <a:xfrm>
                <a:off x="2869920" y="2961360"/>
                <a:ext cx="1179000" cy="40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individuo 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0" name="Text Box 22"/>
            <p:cNvSpPr/>
            <p:nvPr/>
          </p:nvSpPr>
          <p:spPr>
            <a:xfrm>
              <a:off x="3323520" y="3605400"/>
              <a:ext cx="362880" cy="25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1" name="Text Box 23"/>
          <p:cNvSpPr/>
          <p:nvPr/>
        </p:nvSpPr>
        <p:spPr>
          <a:xfrm>
            <a:off x="1295280" y="5562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parità tra i tassi attivi e passivi assicura l’equilib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40766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5"/>
              <p:cNvSpPr txBox="1"/>
              <p:nvPr/>
            </p:nvSpPr>
            <p:spPr>
              <a:xfrm>
                <a:off x="5715000" y="2971800"/>
                <a:ext cx="1981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7CA3-2B0C-467B-B3B1-84BFB29E378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Valore e sistemi di </a:t>
            </a:r>
            <a:r>
              <a:rPr b="0" i="1" lang="it-IT" sz="3600" spc="-1" strike="noStrike">
                <a:solidFill>
                  <a:srgbClr val="333399"/>
                </a:solidFill>
                <a:latin typeface="Tahoma"/>
              </a:rPr>
              <a:t>corporate govern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85800" y="2133720"/>
            <a:ext cx="281952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odelli a proprietà chi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odelli a proprietà diff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657600" y="2057400"/>
            <a:ext cx="482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incidenza tra proprietà e cont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ategie di lungo perio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apidità del processo decisio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carsa apertura verso i merc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carso livello di capitalizz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ccessivo indebit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657600" y="4648320"/>
            <a:ext cx="482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parazione tra proprietà e cont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zionariato diffu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mpetenze del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acile reperibilità di capit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c82e0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sti di agenzia del capitale prop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EF2-CA00-4A73-8D0B-09DFCECCFE3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 modelli teorici di riferime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447920" y="2362320"/>
            <a:ext cx="586728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hareholder value approach (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oria di creazione del valore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7D8-4CE4-4701-B6A8-BA92A8AFC9B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problematiche da affronta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258920" y="442980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olt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adeguatezza delle tradizionali misure conta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chio crescente di scalate ost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scita dei costi di agenz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olo degli invesitori istituzio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133720" y="21337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ecessita’ di coniug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1066680" y="3276720"/>
            <a:ext cx="2943360" cy="994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trategie compet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4495680" y="3276720"/>
            <a:ext cx="2943360" cy="994680"/>
          </a:xfrm>
          <a:prstGeom prst="ellipse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trategie finanziar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2895480" y="259092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4343400" y="2590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10E3-81BB-4E61-A9FA-877B7A15074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o shareholder value approach (SVA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187280" y="2133720"/>
            <a:ext cx="5562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ssimizzazione del valore di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eazione di valore per gli azioni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tica gest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riteri finanzi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utela contro scalate ost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0716-1CF9-4779-B698-D69A56847C8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 Teoria di creazione del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286000"/>
            <a:ext cx="6400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erso contesto di rifer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rcati meno effic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9360" indent="-279360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ossibilità di individuare come obiettivo la max del valore di merc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905120" y="50292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ssimizzazione 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capitale econo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6200" y="43434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Gli argomenti del cor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00080" y="200016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creazione di valore come obiettivo dell’i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teorema della separazione di F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ndimento, rischio e costo del capi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rcati finanziari: condizioni di efficienza, funzionamento e comportamento degli investit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valutazione delle aziende in funz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gestione e la diffusione del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operazioni di finanza straord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ris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riacquisto di azioni prop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D142-60F3-4585-B263-0792F0810EA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02AD-7599-481B-8205-6F271B2E413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Un confron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523880" y="2143080"/>
          <a:ext cx="5639040" cy="45068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67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C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51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 valore di merc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 valore capitale econom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umento di gest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umento di gestione e di control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odi finanzi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odi reddituali e finanzi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ibro di tes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8C7-083A-43B1-8904-863715E33A7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CasellaDiTesto 4"/>
          <p:cNvSpPr/>
          <p:nvPr/>
        </p:nvSpPr>
        <p:spPr>
          <a:xfrm>
            <a:off x="1071720" y="214308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nelli A., Pace 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Finanza di impresa. Analisi e meto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orino, Isedi,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pitoli 1, 3, 9, 10, 11, 12,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no esclusi i paragrafi: 3.5.2, 3.8, 9.7, 10.5, 10.6, 11.5.3, 11.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42F-6E6D-4F9D-87CB-8381D11DAE4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Qual è l’obiettivo dell’impres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26920" y="2276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mpresa risulta vincente se e nella misura in cui riesce a creare “qualcosa” che abbia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valo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tutti i suoi interlocutori (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akehold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14720" y="42148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Creazione di val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857760" y="3571920"/>
            <a:ext cx="71892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E0A-C55D-46A1-A721-9C10F4F6F7D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valore come obiettivo azienda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2209680"/>
            <a:ext cx="670572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oncetto di “valore del capitale” è stato introdotto già sul finire del 1800 con gli studi di Fisher prima e Zappa po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ferimento al concetto – più semplice ed immediato – di massimizzazione del profit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666880" y="4869000"/>
            <a:ext cx="556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ahoma"/>
              </a:rPr>
              <a:t>Limit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Obiettivo di breve peri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enza del risch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arsa rilevanza attribuita agl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takehold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versi dagli azioni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33520" y="2286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33520" y="3962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AC55-E187-41D1-AAE5-5F09BCB30258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Quale valor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14400" y="182736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uali sono le azioni che l’impresa deve compiere per poter sopravvivere, affermarsi nel mercato e crescere nel temp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’impresa risulta vincente se e nella misura in cui riesce a creare “qualcosa” che abbia 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valo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tutti i suoi interlocutori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takeholder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038480" y="27432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066680" y="4419720"/>
            <a:ext cx="68580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 creazione di valore del capitale è un obiet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zi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timo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surabi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 larga accett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52E-29CA-4B95-8887-FB9F85A1B6A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e “leve” per la creazione di valor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00200" y="2362320"/>
            <a:ext cx="5562720" cy="33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3343320" y="2476440"/>
            <a:ext cx="19908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assimizzare il valore dell’impre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66880" y="3390840"/>
            <a:ext cx="1244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litica di investime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5668920" y="3390840"/>
            <a:ext cx="12445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litica dei dividend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3675240" y="3390840"/>
            <a:ext cx="12459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litica di finanziame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181240" y="4191120"/>
            <a:ext cx="996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asso minimo di rendimen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81240" y="4876920"/>
            <a:ext cx="996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ndimento attes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191120" y="4800600"/>
            <a:ext cx="996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ipologia strumenti finanziar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4173480" y="4191120"/>
            <a:ext cx="996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truttura finanzia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165720" y="4876920"/>
            <a:ext cx="99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tto quale for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165720" y="4191120"/>
            <a:ext cx="99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anto restituire agli azionisti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1932120" y="3848040"/>
            <a:ext cx="249120" cy="1143000"/>
            <a:chOff x="1932120" y="3848040"/>
            <a:chExt cx="249120" cy="1143000"/>
          </a:xfrm>
        </p:grpSpPr>
        <p:sp>
          <p:nvSpPr>
            <p:cNvPr id="137" name="Line 15"/>
            <p:cNvSpPr/>
            <p:nvPr/>
          </p:nvSpPr>
          <p:spPr>
            <a:xfrm>
              <a:off x="1932120" y="38480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1932120" y="43052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1932120" y="49910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3924360" y="3848040"/>
            <a:ext cx="249120" cy="1143000"/>
            <a:chOff x="3924360" y="3848040"/>
            <a:chExt cx="249120" cy="1143000"/>
          </a:xfrm>
        </p:grpSpPr>
        <p:sp>
          <p:nvSpPr>
            <p:cNvPr id="141" name="Line 19"/>
            <p:cNvSpPr/>
            <p:nvPr/>
          </p:nvSpPr>
          <p:spPr>
            <a:xfrm>
              <a:off x="3924360" y="38480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3924360" y="43052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Line 21"/>
            <p:cNvSpPr/>
            <p:nvPr/>
          </p:nvSpPr>
          <p:spPr>
            <a:xfrm>
              <a:off x="3924360" y="4991040"/>
              <a:ext cx="24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22"/>
          <p:cNvGrpSpPr/>
          <p:nvPr/>
        </p:nvGrpSpPr>
        <p:grpSpPr>
          <a:xfrm>
            <a:off x="5918040" y="3848040"/>
            <a:ext cx="247680" cy="1143000"/>
            <a:chOff x="5918040" y="3848040"/>
            <a:chExt cx="247680" cy="1143000"/>
          </a:xfrm>
        </p:grpSpPr>
        <p:sp>
          <p:nvSpPr>
            <p:cNvPr id="145" name="Line 23"/>
            <p:cNvSpPr/>
            <p:nvPr/>
          </p:nvSpPr>
          <p:spPr>
            <a:xfrm>
              <a:off x="5918040" y="38480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>
              <a:off x="5918040" y="430524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>
              <a:off x="5918040" y="499104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Line 26"/>
          <p:cNvSpPr/>
          <p:nvPr/>
        </p:nvSpPr>
        <p:spPr>
          <a:xfrm>
            <a:off x="2347920" y="3048120"/>
            <a:ext cx="415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27"/>
          <p:cNvSpPr/>
          <p:nvPr/>
        </p:nvSpPr>
        <p:spPr>
          <a:xfrm>
            <a:off x="434016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347920" y="3048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4340160" y="3048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6499080" y="30481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E055-5F57-4790-8A2D-95F282D75EA5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reazione di valore, aspettative degli azionisti e decisioni di investimento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43000" y="1965600"/>
            <a:ext cx="6813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 che modo una gestione orientata alla creazione di nuovo valore può soddisfare pienamente ed allo stesso modo soggetti che presentano funzioni di utilità diverse gli uni dagli altri e che pertanto possono esprimere preferenze differenti per quanto concerne la crescita del capitale e la distribuzione degli util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643040" y="5072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orema della separazione di F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929040" y="407196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AE3-F675-4D0A-ABBE-68346FAEBC2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836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l teorema della separazione di Fisher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4280" y="2143080"/>
            <a:ext cx="6705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e ipotes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ercati perfe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senza di operatori razion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ssenza di rischio (condizione di certezz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senza di un unico tasso di interess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risk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alore finanziario del t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a Pace</cp:lastModifiedBy>
  <dcterms:modified xsi:type="dcterms:W3CDTF">2018-10-01T14:05:59Z</dcterms:modified>
  <cp:revision>26</cp:revision>
  <dc:subject/>
  <dc:title>PowerPoint Presentation</dc:title>
</cp:coreProperties>
</file>