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0CCD-0960-4D6F-B6CB-AC90BEAE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AFF-E56C-4F0C-BBE7-93A55A5D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7C8-EC11-4AF7-A8D4-1CE77CA7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4FE-30F6-4AF1-982B-2F22771B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1F01-271A-493F-916D-3790912F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F3C1-3EF5-4EB3-9A2F-93EEECDE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5B72-ADF8-4F4A-B7C3-A6E9D6E9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F8B4-EEBE-4726-970B-EDEFB5ED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7361-F1B1-420A-A00D-6A369874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DF80-6D2D-40D5-BCE0-74AA045D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3FCC-8C39-4091-AF73-FE77EA7C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BB1-4027-44AC-AC4E-6D099211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7D3E-CD1C-48F2-A92C-F0BF30F5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38E6-2079-42BD-9829-E18AA0A5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F0D2-8687-4C9C-90BB-3507F181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B264-A3B7-4832-AA88-E000E34F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DBED-4B59-449D-9DD9-A2DE7578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A5D-98A1-4366-86C8-960F5FAF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6B9-C41A-4FAE-9EDB-EDD5407C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453-F451-4120-BE8A-117B6F89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170-6F6B-40D7-AB75-322EC70F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4103-8FA7-4069-9CEF-BC55EAD9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0AFD-967F-4395-945A-B78D19CC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3CB-4E27-499D-9DC5-2D6FE0D8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8AF4-4426-49EA-98B4-2B994BA2BAD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197A-1AF8-4ADF-9787-A433C88A34F3}" type="slidenum">
              <a:rPr b="0" lang="it-IT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815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Corso di Valutazione delle aziende </a:t>
            </a:r>
            <a:br>
              <a:rPr sz="4000"/>
            </a:b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Mercati finanzia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4292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f.ssa Roberta 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iversità degli Studi dell’Aqui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.a. 2018-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egnaposto numero diapositiva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695D-3154-4C4B-A3DC-E8D6F1530A95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1464-3597-4832-9677-CE88823EA10D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Group 2"/>
          <p:cNvGrpSpPr/>
          <p:nvPr/>
        </p:nvGrpSpPr>
        <p:grpSpPr>
          <a:xfrm>
            <a:off x="1643040" y="1214280"/>
            <a:ext cx="6172200" cy="5410080"/>
            <a:chOff x="1643040" y="1214280"/>
            <a:chExt cx="6172200" cy="5410080"/>
          </a:xfrm>
        </p:grpSpPr>
        <p:sp>
          <p:nvSpPr>
            <p:cNvPr id="146" name="Oval 3"/>
            <p:cNvSpPr/>
            <p:nvPr/>
          </p:nvSpPr>
          <p:spPr>
            <a:xfrm>
              <a:off x="1643040" y="1214280"/>
              <a:ext cx="6172200" cy="5410080"/>
            </a:xfrm>
            <a:prstGeom prst="ellipse">
              <a:avLst/>
            </a:prstGeom>
            <a:solidFill>
              <a:srgbClr val="95ad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Oval 4"/>
            <p:cNvSpPr/>
            <p:nvPr/>
          </p:nvSpPr>
          <p:spPr>
            <a:xfrm>
              <a:off x="2481120" y="2280960"/>
              <a:ext cx="4343400" cy="3353040"/>
            </a:xfrm>
            <a:prstGeom prst="ellipse">
              <a:avLst/>
            </a:prstGeom>
            <a:solidFill>
              <a:srgbClr val="bcc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Oval 5"/>
            <p:cNvSpPr/>
            <p:nvPr/>
          </p:nvSpPr>
          <p:spPr>
            <a:xfrm>
              <a:off x="3471840" y="3043080"/>
              <a:ext cx="2361960" cy="18288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Text Box 6"/>
            <p:cNvSpPr/>
            <p:nvPr/>
          </p:nvSpPr>
          <p:spPr>
            <a:xfrm>
              <a:off x="3624120" y="3576600"/>
              <a:ext cx="21337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Informazioni storich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Text Box 7"/>
            <p:cNvSpPr/>
            <p:nvPr/>
          </p:nvSpPr>
          <p:spPr>
            <a:xfrm>
              <a:off x="3319200" y="1442880"/>
              <a:ext cx="29718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Tutte le informazioni incluse quelle privat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Text Box 8"/>
            <p:cNvSpPr/>
            <p:nvPr/>
          </p:nvSpPr>
          <p:spPr>
            <a:xfrm>
              <a:off x="3624120" y="2357280"/>
              <a:ext cx="21337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Informazioni pubblich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Efficienza e rendimenti extr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D958-00A7-4D0E-B246-4C9E4F6D69F6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857160" y="2071800"/>
            <a:ext cx="2260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ercato efficiente in forma deb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286160" y="1857240"/>
            <a:ext cx="3979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ossibilità di ottenere profitti anormali solo disponendo di informazioni pubbliche aggiorn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857160" y="5072040"/>
            <a:ext cx="21178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ercato efficiente in forma for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857160" y="3571920"/>
            <a:ext cx="22608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ercato efficiente in forma semi-for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286160" y="3357720"/>
            <a:ext cx="3895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ossibilità di ottenere profitti anormali solo disponendo di informazioni riserv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214880" y="4929120"/>
            <a:ext cx="38955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mpossibilità di ottenere rendimenti extra. I prezzi inglobano già tutte le informazi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3429000" y="2000160"/>
            <a:ext cx="592200" cy="733680"/>
          </a:xfrm>
          <a:prstGeom prst="rightArrow">
            <a:avLst>
              <a:gd name="adj1" fmla="val 50000"/>
              <a:gd name="adj2" fmla="val 291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3429000" y="5072040"/>
            <a:ext cx="592200" cy="733320"/>
          </a:xfrm>
          <a:prstGeom prst="rightArrow">
            <a:avLst>
              <a:gd name="adj1" fmla="val 50000"/>
              <a:gd name="adj2" fmla="val 291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3429000" y="3500280"/>
            <a:ext cx="592200" cy="733680"/>
          </a:xfrm>
          <a:prstGeom prst="rightArrow">
            <a:avLst>
              <a:gd name="adj1" fmla="val 50000"/>
              <a:gd name="adj2" fmla="val 291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Condizioni che assicurano l’efficienz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E284-9CF8-4FDE-B881-2CE1AD76EC88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214280" y="2000160"/>
            <a:ext cx="58676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200000"/>
              </a:lnSpc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ssenza di c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200000"/>
              </a:lnSpc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sponibilità libera e completa di tutte le informazio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200000"/>
              </a:lnSpc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cordanza di opinioni sugli effetti prodotti dalle informazioni sui prezz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Analisi finanziaria e efficienz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A0D1-5BE4-4C29-A861-54441AE2804D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Segnaposto numero diapositiva 4"/>
          <p:cNvSpPr/>
          <p:nvPr/>
        </p:nvSpPr>
        <p:spPr>
          <a:xfrm>
            <a:off x="5265720" y="8381880"/>
            <a:ext cx="1428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5B6F-75D6-4CAB-8771-9FC3D4ED47DB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928800" y="2071800"/>
            <a:ext cx="20714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ercato efficiente in forma deb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57160" y="4643280"/>
            <a:ext cx="2286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ercato efficiente in forma for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857160" y="3357720"/>
            <a:ext cx="22147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ercato efficiente in forma semi-for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3571920" y="22147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3571920" y="46432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3571920" y="34290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786200" y="2143080"/>
            <a:ext cx="21430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utilità dell’analisi tecn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786200" y="3429000"/>
            <a:ext cx="2286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utilità dell’analisi fondament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786200" y="4643280"/>
            <a:ext cx="28576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utilità di ogni tipo di analisi prevision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Rendimenti anormali o extr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C3B6-155E-40B0-831F-249587062BF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32"/>
          <p:cNvSpPr/>
          <p:nvPr/>
        </p:nvSpPr>
        <p:spPr>
          <a:xfrm>
            <a:off x="1143000" y="1928880"/>
            <a:ext cx="624852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 ipotizzi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he il mercato sia efficiente in forma for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he il modello di determinazione dei prezzi nel mercato sia il CAPM -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ecurity market lin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3571920" y="4071960"/>
                <a:ext cx="28303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FA0F-A54D-40CC-B004-9375D38A4457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026"/>
          <p:cNvSpPr/>
          <p:nvPr/>
        </p:nvSpPr>
        <p:spPr>
          <a:xfrm>
            <a:off x="1500120" y="1785960"/>
            <a:ext cx="592956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 analista che dispone di tutte le informazioni (anche private) determina prezzo e rend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rendimento atteso si posiziona proprio sull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ecurity market 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027"/>
          <p:cNvSpPr/>
          <p:nvPr/>
        </p:nvSpPr>
        <p:spPr>
          <a:xfrm>
            <a:off x="4143240" y="257184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Group 1028"/>
          <p:cNvGrpSpPr/>
          <p:nvPr/>
        </p:nvGrpSpPr>
        <p:grpSpPr>
          <a:xfrm>
            <a:off x="2281320" y="3686040"/>
            <a:ext cx="4419360" cy="2286000"/>
            <a:chOff x="2281320" y="3686040"/>
            <a:chExt cx="4419360" cy="2286000"/>
          </a:xfrm>
        </p:grpSpPr>
        <p:graphicFrame>
          <p:nvGraphicFramePr>
            <p:cNvPr id="186" name="Object 2"/>
            <p:cNvGraphicFramePr/>
            <p:nvPr/>
          </p:nvGraphicFramePr>
          <p:xfrm>
            <a:off x="2281320" y="3686040"/>
            <a:ext cx="4419360" cy="22860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1320" y="3686040"/>
                      <a:ext cx="441936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Text Box 1030"/>
            <p:cNvSpPr/>
            <p:nvPr/>
          </p:nvSpPr>
          <p:spPr>
            <a:xfrm>
              <a:off x="4175280" y="5703120"/>
              <a:ext cx="55224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ß</a:t>
              </a:r>
              <a:r>
                <a:rPr b="0" lang="it-IT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Text Box 1031"/>
            <p:cNvSpPr/>
            <p:nvPr/>
          </p:nvSpPr>
          <p:spPr>
            <a:xfrm>
              <a:off x="2360160" y="4560120"/>
              <a:ext cx="631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imes New Roman"/>
                </a:rPr>
                <a:t>E(r</a:t>
              </a:r>
              <a:r>
                <a:rPr b="0" i="1" lang="it-IT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it-IT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CFC0-1986-4F40-9A4C-C7391665DBAA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428840" y="1785960"/>
            <a:ext cx="61722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 analista che dispone solo di informazioni pubbliche determina prezzo e rend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rendimento atteso determinato non si posizione proprio sull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ecurity market 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4172040" y="254808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2190600" y="3619440"/>
            <a:ext cx="4496040" cy="2514600"/>
            <a:chOff x="2190600" y="3619440"/>
            <a:chExt cx="4496040" cy="2514600"/>
          </a:xfrm>
        </p:grpSpPr>
        <p:graphicFrame>
          <p:nvGraphicFramePr>
            <p:cNvPr id="194" name="Object 2"/>
            <p:cNvGraphicFramePr/>
            <p:nvPr/>
          </p:nvGraphicFramePr>
          <p:xfrm>
            <a:off x="2190600" y="3619440"/>
            <a:ext cx="4496040" cy="2440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0600" y="3619440"/>
                      <a:ext cx="4496040" cy="244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Text Box 6"/>
            <p:cNvSpPr/>
            <p:nvPr/>
          </p:nvSpPr>
          <p:spPr>
            <a:xfrm>
              <a:off x="2351160" y="4580640"/>
              <a:ext cx="5619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Times New Roman"/>
                </a:rPr>
                <a:t>E(r</a:t>
              </a:r>
              <a:r>
                <a:rPr b="0" i="1" lang="it-IT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it-IT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Text Box 7"/>
            <p:cNvSpPr/>
            <p:nvPr/>
          </p:nvSpPr>
          <p:spPr>
            <a:xfrm>
              <a:off x="4197600" y="5764320"/>
              <a:ext cx="4816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ß</a:t>
              </a:r>
              <a:r>
                <a:rPr b="0" lang="it-IT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e implicazioni del concetto di efficienz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CDFF-66C7-4F92-BAAA-59633BEE0D58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CasellaDiTesto 3"/>
          <p:cNvSpPr/>
          <p:nvPr/>
        </p:nvSpPr>
        <p:spPr>
          <a:xfrm>
            <a:off x="1357200" y="2286000"/>
            <a:ext cx="4286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trategie at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trategie pas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concetto di </a:t>
            </a:r>
            <a:r>
              <a:rPr b="0" i="1" lang="it-IT" sz="3600" spc="-1" strike="noStrike">
                <a:solidFill>
                  <a:srgbClr val="333399"/>
                </a:solidFill>
                <a:latin typeface="Tahoma"/>
              </a:rPr>
              <a:t>fair gam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D6EF-DA7F-414F-9873-0F4887979A7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071720" y="1857240"/>
            <a:ext cx="6019560" cy="30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 mercato efficiente deve possedere le seguenti caratteristich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prezzo deve scontare velocemente tutte le informazioni rileva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ariazioni nei rendimenti devono derivare da variazioni nel risch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mpossibilità di ottenere rendimenti “anormali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differenza (in media) tra le posizioni degli investitori informati e di quelli non informa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3571920" y="496872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857240" y="5500800"/>
            <a:ext cx="4572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FAIR GAME (gioco equ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1214280" y="5929200"/>
            <a:ext cx="5943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deviazione del rendimento effettivo rispetto a quello atteso ha valore atteso 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68DA-DBC8-4FE0-AB43-C90F50E4191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711360" y="2000160"/>
            <a:ext cx="78231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i assume che i rendimenti percentuali di periodo siano variabili casuali indipendenti ed identicamente distribu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12880" y="3314880"/>
            <a:ext cx="721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mpossibilità di compiere previsio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3929040" y="2714760"/>
            <a:ext cx="857160" cy="419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711360" y="3828960"/>
            <a:ext cx="8026200" cy="12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1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’emergere di nuove informazioni è un evento statisticamente indipendente da eventi preceden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1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e incertezze e gli errori (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noises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) nel calcolo del valore intrinseco non presentano regolarità di comportam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785880" y="5929200"/>
            <a:ext cx="721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sserzioni irrealisti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3857760" y="5286240"/>
            <a:ext cx="1015920" cy="419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modello di </a:t>
            </a:r>
            <a:r>
              <a:rPr b="0" i="1" lang="it-IT" sz="3600" spc="-1" strike="noStrike">
                <a:solidFill>
                  <a:srgbClr val="333399"/>
                </a:solidFill>
                <a:latin typeface="Tahoma"/>
              </a:rPr>
              <a:t>Random walk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ruolo dei mercat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43E2-A24A-4D4C-BE89-3841573AC3ED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552680" y="3071880"/>
            <a:ext cx="17287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ee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Unità in surp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843520" y="3071880"/>
            <a:ext cx="165276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6a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Unità in defic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508200" y="4214880"/>
            <a:ext cx="2108520" cy="532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ntermedi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357720" y="1928880"/>
            <a:ext cx="240984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apporto diretto -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Mercat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3281400" y="3147840"/>
            <a:ext cx="25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2227320" y="39099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6897600" y="39099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2227320" y="4519440"/>
            <a:ext cx="12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5616720" y="4519440"/>
            <a:ext cx="12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4260960" y="2766960"/>
            <a:ext cx="452160" cy="30492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CasellaDiTesto 17"/>
          <p:cNvSpPr/>
          <p:nvPr/>
        </p:nvSpPr>
        <p:spPr>
          <a:xfrm>
            <a:off x="4214880" y="5143680"/>
            <a:ext cx="314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SF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saldo finanzi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risparm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= investimen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AF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attività finanzia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PF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passività finanzi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642960" y="5715000"/>
                <a:ext cx="31575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F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029"/>
          <p:cNvSpPr/>
          <p:nvPr/>
        </p:nvSpPr>
        <p:spPr>
          <a:xfrm>
            <a:off x="1214280" y="1857240"/>
            <a:ext cx="60724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Bachelier – inizi del 19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lkiel – “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A random walk down Wall Stree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030"/>
          <p:cNvSpPr/>
          <p:nvPr/>
        </p:nvSpPr>
        <p:spPr>
          <a:xfrm>
            <a:off x="1214280" y="3714840"/>
            <a:ext cx="23306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Firm-foundation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1031"/>
          <p:cNvSpPr/>
          <p:nvPr/>
        </p:nvSpPr>
        <p:spPr>
          <a:xfrm>
            <a:off x="5527800" y="3714840"/>
            <a:ext cx="2539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Castle-in-the-air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1032"/>
          <p:cNvSpPr/>
          <p:nvPr/>
        </p:nvSpPr>
        <p:spPr>
          <a:xfrm flipH="1">
            <a:off x="2885760" y="3429000"/>
            <a:ext cx="16254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1033"/>
          <p:cNvSpPr/>
          <p:nvPr/>
        </p:nvSpPr>
        <p:spPr>
          <a:xfrm>
            <a:off x="4714920" y="3429000"/>
            <a:ext cx="16254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1034"/>
          <p:cNvSpPr/>
          <p:nvPr/>
        </p:nvSpPr>
        <p:spPr>
          <a:xfrm>
            <a:off x="5929200" y="5000760"/>
            <a:ext cx="2032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nalisi tecn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1035"/>
          <p:cNvSpPr/>
          <p:nvPr/>
        </p:nvSpPr>
        <p:spPr>
          <a:xfrm>
            <a:off x="1285920" y="5000760"/>
            <a:ext cx="2539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nalisi fondament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1036"/>
          <p:cNvSpPr/>
          <p:nvPr/>
        </p:nvSpPr>
        <p:spPr>
          <a:xfrm>
            <a:off x="2143080" y="4429080"/>
            <a:ext cx="571680" cy="428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AutoShape 1037"/>
          <p:cNvSpPr/>
          <p:nvPr/>
        </p:nvSpPr>
        <p:spPr>
          <a:xfrm>
            <a:off x="6643800" y="4429080"/>
            <a:ext cx="500040" cy="428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e origini del random walk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Segnaposto numero diapositiva 11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3AE6-0B8D-46A4-B897-046DDE7040AD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57EC-58B1-4C3C-84ED-8054FB614FAF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7" name="Group 1027"/>
          <p:cNvGrpSpPr/>
          <p:nvPr/>
        </p:nvGrpSpPr>
        <p:grpSpPr>
          <a:xfrm>
            <a:off x="214200" y="2143080"/>
            <a:ext cx="8737200" cy="3764520"/>
            <a:chOff x="214200" y="2143080"/>
            <a:chExt cx="8737200" cy="3764520"/>
          </a:xfrm>
        </p:grpSpPr>
        <p:sp>
          <p:nvSpPr>
            <p:cNvPr id="228" name="Text Box 1028"/>
            <p:cNvSpPr/>
            <p:nvPr/>
          </p:nvSpPr>
          <p:spPr>
            <a:xfrm>
              <a:off x="214200" y="2143080"/>
              <a:ext cx="8737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1) I sostenitori dell’efficienza associano all’analisi tecnica il difetto dell’auto-alimentazion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Text Box 1029"/>
            <p:cNvSpPr/>
            <p:nvPr/>
          </p:nvSpPr>
          <p:spPr>
            <a:xfrm>
              <a:off x="3363480" y="2943000"/>
              <a:ext cx="55879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Le tecniche utilizzate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sembrano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 valide perché pubblicizzat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Line 1030"/>
            <p:cNvSpPr/>
            <p:nvPr/>
          </p:nvSpPr>
          <p:spPr>
            <a:xfrm flipH="1">
              <a:off x="6005160" y="2599920"/>
              <a:ext cx="20304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Text Box 1031"/>
            <p:cNvSpPr/>
            <p:nvPr/>
          </p:nvSpPr>
          <p:spPr>
            <a:xfrm>
              <a:off x="3465000" y="3686040"/>
              <a:ext cx="5486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Ripetitività dei comportament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AutoShape 1032"/>
            <p:cNvSpPr/>
            <p:nvPr/>
          </p:nvSpPr>
          <p:spPr>
            <a:xfrm>
              <a:off x="5598720" y="3365640"/>
              <a:ext cx="366120" cy="411840"/>
            </a:xfrm>
            <a:prstGeom prst="downArrow">
              <a:avLst>
                <a:gd name="adj1" fmla="val 50000"/>
                <a:gd name="adj2" fmla="val 14061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3" name="Group 1033"/>
            <p:cNvGrpSpPr/>
            <p:nvPr/>
          </p:nvGrpSpPr>
          <p:grpSpPr>
            <a:xfrm>
              <a:off x="1839240" y="2714400"/>
              <a:ext cx="812520" cy="1542960"/>
              <a:chOff x="1839240" y="2714400"/>
              <a:chExt cx="812520" cy="1542960"/>
            </a:xfrm>
          </p:grpSpPr>
          <p:sp>
            <p:nvSpPr>
              <p:cNvPr id="234" name="Line 1034"/>
              <p:cNvSpPr/>
              <p:nvPr/>
            </p:nvSpPr>
            <p:spPr>
              <a:xfrm>
                <a:off x="1839240" y="2714400"/>
                <a:ext cx="0" cy="154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Line 1035"/>
              <p:cNvSpPr/>
              <p:nvPr/>
            </p:nvSpPr>
            <p:spPr>
              <a:xfrm>
                <a:off x="1839240" y="4257360"/>
                <a:ext cx="812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6" name="Text Box 1036"/>
            <p:cNvSpPr/>
            <p:nvPr/>
          </p:nvSpPr>
          <p:spPr>
            <a:xfrm>
              <a:off x="499680" y="4086000"/>
              <a:ext cx="845172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Critica di Murph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L’analisi tecnica è soggettiva e non è possibile che tutti gli operatori si comportino allo stesso modo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AutoShape 1037"/>
            <p:cNvSpPr/>
            <p:nvPr/>
          </p:nvSpPr>
          <p:spPr>
            <a:xfrm>
              <a:off x="3928680" y="5072040"/>
              <a:ext cx="570960" cy="428400"/>
            </a:xfrm>
            <a:prstGeom prst="downArrow">
              <a:avLst>
                <a:gd name="adj1" fmla="val 50000"/>
                <a:gd name="adj2" fmla="val 1875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Text Box 1038"/>
            <p:cNvSpPr/>
            <p:nvPr/>
          </p:nvSpPr>
          <p:spPr>
            <a:xfrm>
              <a:off x="358200" y="5572080"/>
              <a:ext cx="8127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Evidente critica all’efficienza dei mercat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Critiche e modelli alternativi all’efficienz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25A8-6A7B-451B-A62A-0E8B93861D1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1" name="Group 2"/>
          <p:cNvGrpSpPr/>
          <p:nvPr/>
        </p:nvGrpSpPr>
        <p:grpSpPr>
          <a:xfrm>
            <a:off x="0" y="2000160"/>
            <a:ext cx="8838720" cy="2442600"/>
            <a:chOff x="0" y="2000160"/>
            <a:chExt cx="8838720" cy="2442600"/>
          </a:xfrm>
        </p:grpSpPr>
        <p:sp>
          <p:nvSpPr>
            <p:cNvPr id="242" name="Text Box 3"/>
            <p:cNvSpPr/>
            <p:nvPr/>
          </p:nvSpPr>
          <p:spPr>
            <a:xfrm>
              <a:off x="0" y="2000160"/>
              <a:ext cx="8838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3) Critica al modello di Random walk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Text Box 4"/>
            <p:cNvSpPr/>
            <p:nvPr/>
          </p:nvSpPr>
          <p:spPr>
            <a:xfrm>
              <a:off x="914040" y="2571480"/>
              <a:ext cx="77212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L’osservazione dei grafici mostra che il prezzo non ha un andamento casuale ma segue trend definit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AutoShape 6"/>
            <p:cNvSpPr/>
            <p:nvPr/>
          </p:nvSpPr>
          <p:spPr>
            <a:xfrm>
              <a:off x="4165200" y="3366000"/>
              <a:ext cx="366120" cy="411840"/>
            </a:xfrm>
            <a:prstGeom prst="downArrow">
              <a:avLst>
                <a:gd name="adj1" fmla="val 50000"/>
                <a:gd name="adj2" fmla="val 14061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Text Box 7"/>
            <p:cNvSpPr/>
            <p:nvPr/>
          </p:nvSpPr>
          <p:spPr>
            <a:xfrm>
              <a:off x="711000" y="3772080"/>
              <a:ext cx="81273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Critica semplicistica. Non è sufficiente l’osservazione dei grafici, ma serve un’analisi empiric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Text Box 8"/>
          <p:cNvSpPr/>
          <p:nvPr/>
        </p:nvSpPr>
        <p:spPr>
          <a:xfrm>
            <a:off x="304920" y="457200"/>
            <a:ext cx="88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) L’efficienza implica l’inutilità delle serie stori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AutoShape 9"/>
          <p:cNvSpPr/>
          <p:nvPr/>
        </p:nvSpPr>
        <p:spPr>
          <a:xfrm>
            <a:off x="4214880" y="785880"/>
            <a:ext cx="571320" cy="428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428760" y="1214280"/>
            <a:ext cx="81277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utilità di tutte le previsioni formulate in economia con i dati storici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406440" y="4743360"/>
            <a:ext cx="843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ritiche avanzate dagli accademic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609480" y="5200560"/>
            <a:ext cx="85345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) Non è coerente ipotizzare al tempo stesso che nel mercato ci siano operatori perfettamente razionali, ma altrettanto incoscienti da non accorgersi dell’inutilità dell’analisi finanzia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880C-D172-4CDF-BB1C-737D4C62E56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714240" y="0"/>
            <a:ext cx="8128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Fractal market hypote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015920" y="428760"/>
            <a:ext cx="81280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mportanza nel mercato della liquidità che assicur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’equilibrio dei prezz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conclusione di operazioni di compravendita in modo effici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Bilanciamento tra domanda e offer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642960" y="2571840"/>
            <a:ext cx="79246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e informazioni sono elaborate dagli operatori in modo diverso, a seconda del loro orizzonte tempor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4000680" y="3357720"/>
            <a:ext cx="642600" cy="428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3857760" y="1928880"/>
            <a:ext cx="914400" cy="419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28760" y="3857760"/>
            <a:ext cx="812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iquidità e prezzi vicino all’equilib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711360" y="4514760"/>
            <a:ext cx="812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3) Critica di Grossman e Stiglit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711360" y="4800600"/>
            <a:ext cx="8127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’efficienza è garantita dall’arbitragg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 un mercato efficiente l’arbitraggio non produce profit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on sarebbero realizzate e non ci sarebbe effici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AutoShape 10"/>
          <p:cNvSpPr/>
          <p:nvPr/>
        </p:nvSpPr>
        <p:spPr>
          <a:xfrm>
            <a:off x="4357800" y="5143680"/>
            <a:ext cx="711000" cy="419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10DF-549C-44EF-8E8E-C7B489619FE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711360" y="285840"/>
            <a:ext cx="8026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4) La critica di Lo e MacKin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711360" y="743040"/>
            <a:ext cx="77212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Gli operatori più informati devono avere rendimenti più alti come rendita per la loro attivit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711360" y="1828800"/>
            <a:ext cx="7721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cezione più realistica del concetto di effici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3962520" y="1365120"/>
            <a:ext cx="366480" cy="412920"/>
          </a:xfrm>
          <a:prstGeom prst="downArrow">
            <a:avLst>
              <a:gd name="adj1" fmla="val 50000"/>
              <a:gd name="adj2" fmla="val 2507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711360" y="2457360"/>
            <a:ext cx="8026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5) La critica di Zambru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711360" y="2800440"/>
            <a:ext cx="8026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carsa correttezza del confronto tra strategie attive e passive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buy and hold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perché coloro che adottano strategie passive beneficiano dell’azione dei sostenitori delle strategie at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8"/>
          <p:cNvSpPr/>
          <p:nvPr/>
        </p:nvSpPr>
        <p:spPr>
          <a:xfrm>
            <a:off x="0" y="4057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9"/>
          <p:cNvSpPr/>
          <p:nvPr/>
        </p:nvSpPr>
        <p:spPr>
          <a:xfrm>
            <a:off x="0" y="41720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812880" y="4229280"/>
            <a:ext cx="77216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r effetto delle critiche ricevute Fama ha modificato la definizione di effici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AutoShape 11"/>
          <p:cNvSpPr/>
          <p:nvPr/>
        </p:nvSpPr>
        <p:spPr>
          <a:xfrm>
            <a:off x="941400" y="4781520"/>
            <a:ext cx="7732800" cy="17510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 prezzi riflettono le informazioni fino al punto dove i benefici marginali dell’agire sulla base delle informazioni (i profitti che vengono realizzati) non eccedono i costi marginal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’approccio degli investitor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Segnaposto numero diapositiva 1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F03D-33BD-4789-B1AA-542C63DBE16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CasellaDiTesto 3"/>
          <p:cNvSpPr/>
          <p:nvPr/>
        </p:nvSpPr>
        <p:spPr>
          <a:xfrm>
            <a:off x="1214280" y="2286000"/>
            <a:ext cx="4500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nalisi fondament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nalisi tecn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’analisi fondamenta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6803-1469-48E9-8A82-6CFCBEE21C0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928800" y="1928880"/>
            <a:ext cx="7072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valore reale delle azioni è funzione dell’andamento economico, finanziario e patrimoniale dell’azienda emitten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apacità dell’azienda di generare flussi di cassa e di reddito futu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3786120" y="5000760"/>
            <a:ext cx="9144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214280" y="571500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terminazione del </a:t>
            </a:r>
            <a:r>
              <a:rPr b="1" i="1" lang="it-IT" sz="2400" spc="-1" strike="noStrike">
                <a:solidFill>
                  <a:srgbClr val="000000"/>
                </a:solidFill>
                <a:latin typeface="Tahoma"/>
              </a:rPr>
              <a:t>valore intrinseco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 tito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3786120" y="3286080"/>
            <a:ext cx="9144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2DBF-D3C8-42F2-975B-F0ACCEDF2AE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285840" y="2000160"/>
            <a:ext cx="84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terminazione del valore intrinse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4000680" y="2571840"/>
            <a:ext cx="91440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42960" y="3071880"/>
            <a:ext cx="782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fronto tra valore intrinseco (V.I.) e quotazione del titolo (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4064040" y="3886200"/>
            <a:ext cx="91440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812880" y="43434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dividuazione delle regole decisionali da adott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7" name="Group 12"/>
          <p:cNvGrpSpPr/>
          <p:nvPr/>
        </p:nvGrpSpPr>
        <p:grpSpPr>
          <a:xfrm>
            <a:off x="1143000" y="5029200"/>
            <a:ext cx="8000280" cy="1337400"/>
            <a:chOff x="1143000" y="5029200"/>
            <a:chExt cx="8000280" cy="1337400"/>
          </a:xfrm>
        </p:grpSpPr>
        <p:sp>
          <p:nvSpPr>
            <p:cNvPr id="288" name="Text Box 8"/>
            <p:cNvSpPr/>
            <p:nvPr/>
          </p:nvSpPr>
          <p:spPr>
            <a:xfrm>
              <a:off x="1143000" y="5143320"/>
              <a:ext cx="2071800" cy="11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Se V.I. &gt; 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Se V.I. &lt; 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AutoShape 9"/>
            <p:cNvSpPr/>
            <p:nvPr/>
          </p:nvSpPr>
          <p:spPr>
            <a:xfrm>
              <a:off x="3352680" y="525744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AutoShape 10"/>
            <p:cNvSpPr/>
            <p:nvPr/>
          </p:nvSpPr>
          <p:spPr>
            <a:xfrm>
              <a:off x="3352680" y="6058080"/>
              <a:ext cx="609480" cy="228240"/>
            </a:xfrm>
            <a:prstGeom prst="rightArrow">
              <a:avLst>
                <a:gd name="adj1" fmla="val 50000"/>
                <a:gd name="adj2" fmla="val 66759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4165200" y="5029200"/>
              <a:ext cx="4978080" cy="13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Titolo sottoquotato, acquist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Titolo sopravvalutato, vendit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logica alla base dell’analisi fondamenta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numero diapositiva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C990-4439-439A-8AB0-819B83F402E9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nalisi macroeconom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nalisi a livello settori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nalisi a livello aziend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livelli di indag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C127-9AF0-4C0E-BABE-2A6521C564A8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609480" y="1943280"/>
            <a:ext cx="782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ahoma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dividuare e quantificare gli effetti prodotti sulle quotazioni di Borsa da alcune fondamentali variabili macroeconomi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analisi non è limitata ai confini nazionali, ma si estende a livello internazion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71680" y="49291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cisioni di Politica econom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11360" y="57722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olitica monet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079960" y="57722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olitica fisc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7"/>
          <p:cNvSpPr/>
          <p:nvPr/>
        </p:nvSpPr>
        <p:spPr>
          <a:xfrm>
            <a:off x="4267080" y="5372280"/>
            <a:ext cx="2032200" cy="39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Line 8"/>
          <p:cNvSpPr/>
          <p:nvPr/>
        </p:nvSpPr>
        <p:spPr>
          <a:xfrm flipH="1">
            <a:off x="2133720" y="5372280"/>
            <a:ext cx="2031840" cy="39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1. L’analisi macroeconom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e funzion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DFA1-5761-4B7E-AE89-D8BB4A8A038B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rasferimento di risorse da soggetti in surplus a soggetti in defic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rasformazione e gestione del risch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fficiente allocazione delle riso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iquidità degli investim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duzione costi di trans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mozione investimenti in valori mobili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0D85-6CEB-407E-BBBF-99F9825A694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1000080" y="571680"/>
            <a:ext cx="71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Politica monetaria espans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898560" y="142884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ggiore quantità di moneta in circol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000080" y="2400480"/>
            <a:ext cx="68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umento della domanda di tito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1101600" y="3200400"/>
            <a:ext cx="65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umento dei prezzi dei tito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1305000" y="4000680"/>
            <a:ext cx="62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minuzione della redditività e dei tassi di interes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3844800" y="971640"/>
            <a:ext cx="91440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AutoShape 8"/>
          <p:cNvSpPr/>
          <p:nvPr/>
        </p:nvSpPr>
        <p:spPr>
          <a:xfrm>
            <a:off x="3844800" y="2000160"/>
            <a:ext cx="914400" cy="400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AutoShape 9"/>
          <p:cNvSpPr/>
          <p:nvPr/>
        </p:nvSpPr>
        <p:spPr>
          <a:xfrm>
            <a:off x="3844800" y="2743200"/>
            <a:ext cx="91440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3844800" y="3600360"/>
            <a:ext cx="914400" cy="400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4" name="Group 14"/>
          <p:cNvGrpSpPr/>
          <p:nvPr/>
        </p:nvGrpSpPr>
        <p:grpSpPr>
          <a:xfrm>
            <a:off x="1071720" y="642960"/>
            <a:ext cx="1015560" cy="4286160"/>
            <a:chOff x="1071720" y="642960"/>
            <a:chExt cx="1015560" cy="4286160"/>
          </a:xfrm>
        </p:grpSpPr>
        <p:sp>
          <p:nvSpPr>
            <p:cNvPr id="315" name="Line 11"/>
            <p:cNvSpPr/>
            <p:nvPr/>
          </p:nvSpPr>
          <p:spPr>
            <a:xfrm>
              <a:off x="1071720" y="642960"/>
              <a:ext cx="0" cy="428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Line 12"/>
            <p:cNvSpPr/>
            <p:nvPr/>
          </p:nvSpPr>
          <p:spPr>
            <a:xfrm>
              <a:off x="1071720" y="642960"/>
              <a:ext cx="50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Line 13"/>
            <p:cNvSpPr/>
            <p:nvPr/>
          </p:nvSpPr>
          <p:spPr>
            <a:xfrm>
              <a:off x="1071720" y="4929120"/>
              <a:ext cx="101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8" name="Text Box 15"/>
          <p:cNvSpPr/>
          <p:nvPr/>
        </p:nvSpPr>
        <p:spPr>
          <a:xfrm>
            <a:off x="1406520" y="480060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ffetto positivo su investimenti e produ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AutoShape 16"/>
          <p:cNvSpPr/>
          <p:nvPr/>
        </p:nvSpPr>
        <p:spPr>
          <a:xfrm>
            <a:off x="3946680" y="5429160"/>
            <a:ext cx="914400" cy="400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17"/>
          <p:cNvSpPr/>
          <p:nvPr/>
        </p:nvSpPr>
        <p:spPr>
          <a:xfrm>
            <a:off x="1406520" y="5772240"/>
            <a:ext cx="589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umento utili e dividend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6E3C-2ACC-4285-994F-04A4E95EC90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1015920" y="343080"/>
            <a:ext cx="68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Riduzione del saldo della bilancia dei pagame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357200" y="1357200"/>
            <a:ext cx="56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struzione di mone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1422360" y="2286000"/>
            <a:ext cx="589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umento tassi di interes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14400" y="3086280"/>
            <a:ext cx="650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iduzione della domanda aggregata e delle importazi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3714840" y="857160"/>
            <a:ext cx="914400" cy="400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AutoShape 7"/>
          <p:cNvSpPr/>
          <p:nvPr/>
        </p:nvSpPr>
        <p:spPr>
          <a:xfrm>
            <a:off x="3759120" y="1828800"/>
            <a:ext cx="91440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3786120" y="2714760"/>
            <a:ext cx="91440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1219320" y="4057560"/>
            <a:ext cx="68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Manovre sul debito pubbl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812880" y="4514760"/>
            <a:ext cx="711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umento dei tassi di interesse sul debito pubblico (per favorire il collocament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1523880" y="58294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umento generalizzato dei tassi di interes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AutoShape 12"/>
          <p:cNvSpPr/>
          <p:nvPr/>
        </p:nvSpPr>
        <p:spPr>
          <a:xfrm>
            <a:off x="3860640" y="5372280"/>
            <a:ext cx="91440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egnaposto numero diapositiva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7BB9-F591-4742-83FA-DDDF7D26B879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sso di infl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tuazione politica del Paese di riferi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dotto interno lordo (PI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sso di disoccup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ivello dei reddi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ivello del risparm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namica salari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c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Altre variabili macroeconomich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8458-A90D-4653-A6E8-AB3FCA01EC9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609480" y="2000160"/>
            <a:ext cx="58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. Modelli econometri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219320" y="2571840"/>
            <a:ext cx="751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Limit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tinua revisione delle variab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fficoltà di applicare il modello a periodi diver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unghezza e complessità delle elaborazio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AutoShape 5"/>
          <p:cNvSpPr/>
          <p:nvPr/>
        </p:nvSpPr>
        <p:spPr>
          <a:xfrm>
            <a:off x="3714840" y="4214880"/>
            <a:ext cx="1218960" cy="514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642960" y="4857840"/>
            <a:ext cx="58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. Costruzione di scen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071720" y="55008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todologia più semplice ma che rischia di essere troppo sogget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Strumenti per l’analisi macroeconom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F7D4-A0EC-434E-B98D-E634BDCC9A4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857680" y="200016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Obiettiv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14200" y="297180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erifica dell’impatto delle variabili macroeconomiche sul sett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4876920" y="297180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erifica dell’impatto delle variabili microeconomiche sul sett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7"/>
          <p:cNvSpPr/>
          <p:nvPr/>
        </p:nvSpPr>
        <p:spPr>
          <a:xfrm flipH="1">
            <a:off x="2743200" y="2457360"/>
            <a:ext cx="1727280" cy="40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4673520" y="2457360"/>
            <a:ext cx="1727280" cy="40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AutoShape 9"/>
          <p:cNvSpPr/>
          <p:nvPr/>
        </p:nvSpPr>
        <p:spPr>
          <a:xfrm>
            <a:off x="1857240" y="3929040"/>
            <a:ext cx="91440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711360" y="4686480"/>
            <a:ext cx="396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stinzione tr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ttori ciclic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ttori anti-ciclic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AutoShape 11"/>
          <p:cNvSpPr/>
          <p:nvPr/>
        </p:nvSpPr>
        <p:spPr>
          <a:xfrm>
            <a:off x="6500880" y="4000680"/>
            <a:ext cx="91440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5079960" y="4686480"/>
            <a:ext cx="4064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formazioni s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truttura competitiva del sett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iclo di vita del sett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2. L’analisi settoria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07E6-0C30-4B4A-A223-D6CDF6D3EE9A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5" name="Group 14"/>
          <p:cNvGrpSpPr/>
          <p:nvPr/>
        </p:nvGrpSpPr>
        <p:grpSpPr>
          <a:xfrm>
            <a:off x="814680" y="2571840"/>
            <a:ext cx="7781040" cy="3713760"/>
            <a:chOff x="814680" y="2571840"/>
            <a:chExt cx="7781040" cy="3713760"/>
          </a:xfrm>
        </p:grpSpPr>
        <p:sp>
          <p:nvSpPr>
            <p:cNvPr id="356" name="Text Box 4"/>
            <p:cNvSpPr/>
            <p:nvPr/>
          </p:nvSpPr>
          <p:spPr>
            <a:xfrm>
              <a:off x="2703240" y="3543120"/>
              <a:ext cx="3251160" cy="131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Concorrenti nel settor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Concorrenza fra le imprese esistent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Text Box 5"/>
            <p:cNvSpPr/>
            <p:nvPr/>
          </p:nvSpPr>
          <p:spPr>
            <a:xfrm>
              <a:off x="3211200" y="2571840"/>
              <a:ext cx="233676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Entranti potenzial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814680" y="4071960"/>
              <a:ext cx="12110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Fornitor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6665760" y="4114800"/>
              <a:ext cx="1929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Client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Text Box 8"/>
            <p:cNvSpPr/>
            <p:nvPr/>
          </p:nvSpPr>
          <p:spPr>
            <a:xfrm>
              <a:off x="3109320" y="5886720"/>
              <a:ext cx="24382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Sostitut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Line 9"/>
            <p:cNvSpPr/>
            <p:nvPr/>
          </p:nvSpPr>
          <p:spPr>
            <a:xfrm flipV="1">
              <a:off x="4430520" y="520056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Line 10"/>
            <p:cNvSpPr/>
            <p:nvPr/>
          </p:nvSpPr>
          <p:spPr>
            <a:xfrm flipH="1">
              <a:off x="5954400" y="4286160"/>
              <a:ext cx="71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Line 11"/>
            <p:cNvSpPr/>
            <p:nvPr/>
          </p:nvSpPr>
          <p:spPr>
            <a:xfrm>
              <a:off x="2093400" y="428616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Line 12"/>
            <p:cNvSpPr/>
            <p:nvPr/>
          </p:nvSpPr>
          <p:spPr>
            <a:xfrm>
              <a:off x="4328640" y="3143160"/>
              <a:ext cx="0" cy="39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Text Box 13"/>
          <p:cNvSpPr/>
          <p:nvPr/>
        </p:nvSpPr>
        <p:spPr>
          <a:xfrm>
            <a:off x="914400" y="1828800"/>
            <a:ext cx="751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ahoma"/>
              </a:rPr>
              <a:t>Analisi strategica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– Modello delle 5 forze competitive di Por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struttura competitiva del setto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5604-5AC4-4DDC-B608-7ECAA72E5C5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812880" y="211464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viluppo pionieris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rescita settori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atur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tabilizz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clin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ciclo di vita del setto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3. L’analisi azienda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FAC7-5D8F-400E-98B9-006C20E0B2A8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AutoShape 4"/>
          <p:cNvSpPr/>
          <p:nvPr/>
        </p:nvSpPr>
        <p:spPr>
          <a:xfrm>
            <a:off x="857160" y="1857240"/>
            <a:ext cx="7429680" cy="191268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Costituisce il “focus” dell’analisi fondamentale ed è rivolta allo studio della situazione attuale e delle potenzialità future dell’impresa sotto il profilo economico, finanziario e patrimonia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714240" y="3857760"/>
            <a:ext cx="77630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Tahoma"/>
              </a:rPr>
              <a:t>Obiettiv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Individuare il valore reale (intrinseco) dei titoli per poter derivare indicazioni di compravendita attraverso il confronto con il prezzo di merca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Tahoma"/>
              </a:rPr>
              <a:t>Strumen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Analisi dei dati di bilanci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8AE0-8ABF-4326-AF97-EFC9DBD2166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1071720" y="1857240"/>
            <a:ext cx="7053120" cy="1337400"/>
            <a:chOff x="1071720" y="1857240"/>
            <a:chExt cx="7053120" cy="1337400"/>
          </a:xfrm>
        </p:grpSpPr>
        <p:sp>
          <p:nvSpPr>
            <p:cNvPr id="376" name="Text Box 4"/>
            <p:cNvSpPr/>
            <p:nvPr/>
          </p:nvSpPr>
          <p:spPr>
            <a:xfrm>
              <a:off x="1071720" y="2000880"/>
              <a:ext cx="213336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Se V.I. &gt; 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Se V.I. &lt; 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AutoShape 5"/>
            <p:cNvSpPr/>
            <p:nvPr/>
          </p:nvSpPr>
          <p:spPr>
            <a:xfrm>
              <a:off x="3052800" y="2021400"/>
              <a:ext cx="457200" cy="306720"/>
            </a:xfrm>
            <a:prstGeom prst="rightArrow">
              <a:avLst>
                <a:gd name="adj1" fmla="val 50000"/>
                <a:gd name="adj2" fmla="val 37265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AutoShape 6"/>
            <p:cNvSpPr/>
            <p:nvPr/>
          </p:nvSpPr>
          <p:spPr>
            <a:xfrm>
              <a:off x="3071880" y="2786760"/>
              <a:ext cx="457200" cy="306360"/>
            </a:xfrm>
            <a:prstGeom prst="rightArrow">
              <a:avLst>
                <a:gd name="adj1" fmla="val 50000"/>
                <a:gd name="adj2" fmla="val 37309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Text Box 7"/>
            <p:cNvSpPr/>
            <p:nvPr/>
          </p:nvSpPr>
          <p:spPr>
            <a:xfrm>
              <a:off x="3643200" y="1857240"/>
              <a:ext cx="4481640" cy="13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Titolo sottoquotato, acquist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Titolo sopravvalutato, vendit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0" name="Text Box 8"/>
          <p:cNvSpPr/>
          <p:nvPr/>
        </p:nvSpPr>
        <p:spPr>
          <a:xfrm>
            <a:off x="1071720" y="3714840"/>
            <a:ext cx="579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 determinanti di tal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prea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on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 prospettive di crescita dell’azien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flussi di cassa generati e distribui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rischio associato all’investi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Gli strumenti di valutazio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1226-82EE-47F9-875B-299A0F3375E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CasellaDiTesto 3"/>
          <p:cNvSpPr/>
          <p:nvPr/>
        </p:nvSpPr>
        <p:spPr>
          <a:xfrm>
            <a:off x="1285920" y="2214720"/>
            <a:ext cx="47862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odelli del dividen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ultipli (moltiplicator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CasellaDiTesto 4"/>
          <p:cNvSpPr/>
          <p:nvPr/>
        </p:nvSpPr>
        <p:spPr>
          <a:xfrm>
            <a:off x="4500720" y="457200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nv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7F06-CFF9-47DF-A42B-6EC0548B1F3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2209680"/>
            <a:ext cx="64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rcato monet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rcato finanzi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066680" y="4876920"/>
            <a:ext cx="584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rcato prim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rcato second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066680" y="35053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rcato regolamenta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rcato “over the counte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Classificazioni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valutazione dei titoli obbligazionar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51DA-1F70-4251-9E19-F7917A0270B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CasellaDiTesto 3"/>
          <p:cNvSpPr/>
          <p:nvPr/>
        </p:nvSpPr>
        <p:spPr>
          <a:xfrm>
            <a:off x="1071720" y="2071800"/>
            <a:ext cx="61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valore attuale di una attività è funzione dei </a:t>
            </a:r>
            <a:r>
              <a:rPr b="0" i="1" lang="it-IT" sz="2400" spc="-1" strike="noStrike">
                <a:solidFill>
                  <a:srgbClr val="ff0000"/>
                </a:solidFill>
                <a:latin typeface="Tahoma"/>
              </a:rPr>
              <a:t>flussi di cassa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enerati dalla stes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Connettore 1 5"/>
          <p:cNvSpPr/>
          <p:nvPr/>
        </p:nvSpPr>
        <p:spPr>
          <a:xfrm>
            <a:off x="2000160" y="2928960"/>
            <a:ext cx="0" cy="12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89" name="Connettore 2 7"/>
          <p:cNvCxnSpPr/>
          <p:nvPr/>
        </p:nvCxnSpPr>
        <p:spPr>
          <a:xfrm>
            <a:off x="1999800" y="3357720"/>
            <a:ext cx="715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Connettore 2 8"/>
          <p:cNvCxnSpPr/>
          <p:nvPr/>
        </p:nvCxnSpPr>
        <p:spPr>
          <a:xfrm>
            <a:off x="1999800" y="4142880"/>
            <a:ext cx="715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1" name="CasellaDiTesto 9"/>
          <p:cNvSpPr/>
          <p:nvPr/>
        </p:nvSpPr>
        <p:spPr>
          <a:xfrm>
            <a:off x="2786040" y="314316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teress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ore di rimbor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Obbligazioni senza cedol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7035-C008-415D-B144-4C965F56E54D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2"/>
          <p:cNvGrpSpPr/>
          <p:nvPr/>
        </p:nvGrpSpPr>
        <p:grpSpPr>
          <a:xfrm>
            <a:off x="2428920" y="2214720"/>
            <a:ext cx="3429000" cy="1071000"/>
            <a:chOff x="2428920" y="2214720"/>
            <a:chExt cx="3429000" cy="1071000"/>
          </a:xfrm>
        </p:grpSpPr>
        <p:sp>
          <p:nvSpPr>
            <p:cNvPr id="396" name="Line 3"/>
            <p:cNvSpPr/>
            <p:nvPr/>
          </p:nvSpPr>
          <p:spPr>
            <a:xfrm>
              <a:off x="2584800" y="3017880"/>
              <a:ext cx="3117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Line 4"/>
            <p:cNvSpPr/>
            <p:nvPr/>
          </p:nvSpPr>
          <p:spPr>
            <a:xfrm>
              <a:off x="3207960" y="275004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3831480" y="275004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4455000" y="275004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5078520" y="275004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2584800" y="3017880"/>
              <a:ext cx="15588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3052080" y="3017880"/>
              <a:ext cx="15588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Text Box 10"/>
            <p:cNvSpPr/>
            <p:nvPr/>
          </p:nvSpPr>
          <p:spPr>
            <a:xfrm>
              <a:off x="3675600" y="3017880"/>
              <a:ext cx="15588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Text Box 11"/>
            <p:cNvSpPr/>
            <p:nvPr/>
          </p:nvSpPr>
          <p:spPr>
            <a:xfrm>
              <a:off x="5546160" y="3017880"/>
              <a:ext cx="15588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Text Box 12"/>
            <p:cNvSpPr/>
            <p:nvPr/>
          </p:nvSpPr>
          <p:spPr>
            <a:xfrm>
              <a:off x="4922640" y="3017880"/>
              <a:ext cx="15588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Text Box 13"/>
            <p:cNvSpPr/>
            <p:nvPr/>
          </p:nvSpPr>
          <p:spPr>
            <a:xfrm>
              <a:off x="4299120" y="3017880"/>
              <a:ext cx="15588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>
              <a:off x="2584800" y="275004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Text Box 15"/>
            <p:cNvSpPr/>
            <p:nvPr/>
          </p:nvSpPr>
          <p:spPr>
            <a:xfrm>
              <a:off x="2428920" y="2214720"/>
              <a:ext cx="31176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- 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Text Box 16"/>
            <p:cNvSpPr/>
            <p:nvPr/>
          </p:nvSpPr>
          <p:spPr>
            <a:xfrm>
              <a:off x="5546160" y="2214720"/>
              <a:ext cx="31176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V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3052080" y="2214720"/>
              <a:ext cx="31176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Text Box 18"/>
            <p:cNvSpPr/>
            <p:nvPr/>
          </p:nvSpPr>
          <p:spPr>
            <a:xfrm>
              <a:off x="3675600" y="2214720"/>
              <a:ext cx="31176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4299120" y="2214720"/>
              <a:ext cx="31176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Text Box 20"/>
            <p:cNvSpPr/>
            <p:nvPr/>
          </p:nvSpPr>
          <p:spPr>
            <a:xfrm>
              <a:off x="4922640" y="2214720"/>
              <a:ext cx="31176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4" name="Object 2"/>
              <p:cNvSpPr txBox="1"/>
              <p:nvPr/>
            </p:nvSpPr>
            <p:spPr>
              <a:xfrm>
                <a:off x="3286080" y="3929040"/>
                <a:ext cx="17636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R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5" name="Line 7"/>
          <p:cNvSpPr/>
          <p:nvPr/>
        </p:nvSpPr>
        <p:spPr>
          <a:xfrm>
            <a:off x="5715000" y="2714760"/>
            <a:ext cx="0" cy="26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Obbligazioni con cedol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9375-DF70-49C9-89A3-68DE5ED5E26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8" name="Group 2"/>
          <p:cNvGrpSpPr/>
          <p:nvPr/>
        </p:nvGrpSpPr>
        <p:grpSpPr>
          <a:xfrm>
            <a:off x="2428920" y="2214720"/>
            <a:ext cx="3569760" cy="1071000"/>
            <a:chOff x="2428920" y="2214720"/>
            <a:chExt cx="3569760" cy="1071000"/>
          </a:xfrm>
        </p:grpSpPr>
        <p:sp>
          <p:nvSpPr>
            <p:cNvPr id="419" name="Line 3"/>
            <p:cNvSpPr/>
            <p:nvPr/>
          </p:nvSpPr>
          <p:spPr>
            <a:xfrm>
              <a:off x="2584440" y="3017880"/>
              <a:ext cx="311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4"/>
            <p:cNvSpPr/>
            <p:nvPr/>
          </p:nvSpPr>
          <p:spPr>
            <a:xfrm>
              <a:off x="3207960" y="275004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5"/>
            <p:cNvSpPr/>
            <p:nvPr/>
          </p:nvSpPr>
          <p:spPr>
            <a:xfrm>
              <a:off x="3831120" y="275004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Line 6"/>
            <p:cNvSpPr/>
            <p:nvPr/>
          </p:nvSpPr>
          <p:spPr>
            <a:xfrm>
              <a:off x="4454640" y="275004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Line 7"/>
            <p:cNvSpPr/>
            <p:nvPr/>
          </p:nvSpPr>
          <p:spPr>
            <a:xfrm>
              <a:off x="5077800" y="275004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Text Box 8"/>
            <p:cNvSpPr/>
            <p:nvPr/>
          </p:nvSpPr>
          <p:spPr>
            <a:xfrm>
              <a:off x="2584440" y="3017880"/>
              <a:ext cx="15552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Text Box 9"/>
            <p:cNvSpPr/>
            <p:nvPr/>
          </p:nvSpPr>
          <p:spPr>
            <a:xfrm>
              <a:off x="3052080" y="3017880"/>
              <a:ext cx="15552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Text Box 10"/>
            <p:cNvSpPr/>
            <p:nvPr/>
          </p:nvSpPr>
          <p:spPr>
            <a:xfrm>
              <a:off x="3675240" y="3017880"/>
              <a:ext cx="15552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Text Box 11"/>
            <p:cNvSpPr/>
            <p:nvPr/>
          </p:nvSpPr>
          <p:spPr>
            <a:xfrm>
              <a:off x="5545440" y="3017880"/>
              <a:ext cx="15552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Text Box 12"/>
            <p:cNvSpPr/>
            <p:nvPr/>
          </p:nvSpPr>
          <p:spPr>
            <a:xfrm>
              <a:off x="4921920" y="3017880"/>
              <a:ext cx="15552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Text Box 13"/>
            <p:cNvSpPr/>
            <p:nvPr/>
          </p:nvSpPr>
          <p:spPr>
            <a:xfrm>
              <a:off x="4298760" y="3017880"/>
              <a:ext cx="15552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Line 14"/>
            <p:cNvSpPr/>
            <p:nvPr/>
          </p:nvSpPr>
          <p:spPr>
            <a:xfrm>
              <a:off x="2584440" y="275004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Text Box 15"/>
            <p:cNvSpPr/>
            <p:nvPr/>
          </p:nvSpPr>
          <p:spPr>
            <a:xfrm>
              <a:off x="2428920" y="2214720"/>
              <a:ext cx="31140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- 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Text Box 16"/>
            <p:cNvSpPr/>
            <p:nvPr/>
          </p:nvSpPr>
          <p:spPr>
            <a:xfrm>
              <a:off x="5499360" y="2214720"/>
              <a:ext cx="4993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VR+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Text Box 17"/>
            <p:cNvSpPr/>
            <p:nvPr/>
          </p:nvSpPr>
          <p:spPr>
            <a:xfrm>
              <a:off x="3052080" y="2214720"/>
              <a:ext cx="31140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Text Box 18"/>
            <p:cNvSpPr/>
            <p:nvPr/>
          </p:nvSpPr>
          <p:spPr>
            <a:xfrm>
              <a:off x="3675240" y="2214720"/>
              <a:ext cx="31140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Text Box 19"/>
            <p:cNvSpPr/>
            <p:nvPr/>
          </p:nvSpPr>
          <p:spPr>
            <a:xfrm>
              <a:off x="4298760" y="2214720"/>
              <a:ext cx="31140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Text Box 20"/>
            <p:cNvSpPr/>
            <p:nvPr/>
          </p:nvSpPr>
          <p:spPr>
            <a:xfrm>
              <a:off x="4921920" y="2214720"/>
              <a:ext cx="31140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7" name="Line 7"/>
          <p:cNvSpPr/>
          <p:nvPr/>
        </p:nvSpPr>
        <p:spPr>
          <a:xfrm>
            <a:off x="5715000" y="2714760"/>
            <a:ext cx="0" cy="26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21"/>
              <p:cNvSpPr txBox="1"/>
              <p:nvPr/>
            </p:nvSpPr>
            <p:spPr>
              <a:xfrm>
                <a:off x="1928880" y="3643200"/>
                <a:ext cx="47466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R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23"/>
              <p:cNvSpPr txBox="1"/>
              <p:nvPr/>
            </p:nvSpPr>
            <p:spPr>
              <a:xfrm>
                <a:off x="3214800" y="5286240"/>
                <a:ext cx="19555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b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2" name="CasellaDiTesto 46"/>
          <p:cNvSpPr/>
          <p:nvPr/>
        </p:nvSpPr>
        <p:spPr>
          <a:xfrm>
            <a:off x="3071880" y="464328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eneralizzan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prestito irredimibi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4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F5D6-38C2-49A7-805D-325F5A71C157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1"/>
              <p:cNvSpPr txBox="1"/>
              <p:nvPr/>
            </p:nvSpPr>
            <p:spPr>
              <a:xfrm>
                <a:off x="3214800" y="2071800"/>
                <a:ext cx="15634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3"/>
              <p:cNvSpPr txBox="1"/>
              <p:nvPr/>
            </p:nvSpPr>
            <p:spPr>
              <a:xfrm>
                <a:off x="3286080" y="3143160"/>
                <a:ext cx="1643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CasellaDiTesto 7"/>
          <p:cNvSpPr/>
          <p:nvPr/>
        </p:nvSpPr>
        <p:spPr>
          <a:xfrm>
            <a:off x="1143000" y="3929040"/>
            <a:ext cx="43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tasso cedol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tasso di attualizz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 &gt; 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i &lt; 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CasellaDiTesto 8"/>
          <p:cNvSpPr/>
          <p:nvPr/>
        </p:nvSpPr>
        <p:spPr>
          <a:xfrm>
            <a:off x="3143160" y="5072040"/>
            <a:ext cx="46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itolo quotato sotto la p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itolo quotato sopra la p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Freccia a destra 9"/>
          <p:cNvSpPr/>
          <p:nvPr/>
        </p:nvSpPr>
        <p:spPr>
          <a:xfrm>
            <a:off x="2286000" y="521496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Freccia a destra 10"/>
          <p:cNvSpPr/>
          <p:nvPr/>
        </p:nvSpPr>
        <p:spPr>
          <a:xfrm>
            <a:off x="2286000" y="592920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rendimento effettivo lordo (REL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6204-1775-46FB-8E2C-324AE255199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1"/>
              <p:cNvSpPr txBox="1"/>
              <p:nvPr/>
            </p:nvSpPr>
            <p:spPr>
              <a:xfrm>
                <a:off x="3000240" y="2286000"/>
                <a:ext cx="23907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b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’analisi tecn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17F7-82D9-44A2-A1B2-329938314947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3"/>
          <p:cNvSpPr/>
          <p:nvPr/>
        </p:nvSpPr>
        <p:spPr>
          <a:xfrm>
            <a:off x="1000080" y="1785960"/>
            <a:ext cx="7143840" cy="3051000"/>
          </a:xfrm>
          <a:prstGeom prst="horizontalScroll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Obiettiv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tudiare l’andamento di prezzi e volumi ed individuare gli strumenti e le tecniche di analisi in grado di far emergere segnali di acquisto o di vendita per “battere il mercato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egnaposto numero diapositiva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72AE-C03A-4BD6-BAF4-111515876E4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udio delle serie storiche dei prezz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udio dei volumi scambia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icerca di segnali di acquisto o vendi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ssoluto disinteresse per l’oggetto scambiato e per i valori fondamentali dell’azienda emitt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e basi dell’analisi tecn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egnaposto numero diapositiva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F5FF-B6D3-49FE-ADA3-2FA1C814B8D5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asce agli inizi del ‘900 in seguito ad alcuni articoli pubblicati da Charles 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opera di diffusione avviene su iniziativa di altri autori (Hamilton e Rhea) che sistematizzarono gli scritti di 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o sviluppo di tale approccio avvenne negli USA dopo la crisi del 192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Europa arrivò solo negli anni ’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gli ultimi anni il suo utilizzo ha superato quello dell’analisi fondament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Origine ed evoluzio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egnaposto numero diapositiva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85F4-3A36-4ACB-8A5B-59B197427A36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rte crescita del numero di titoli e strumenti finanzi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cessità di dover gestire una quantità sempre maggiore di flussi informati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rescita dei costi legati alle informazio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eguente crisi dell’analisi fondamentale che richiede tempi lunghi di analisi, costi elevati e conoscenze specialisti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innovazione tecnologica (reti neuronali, sistemi esperti, ec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motivi del success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6555-A6A9-43C4-A2C5-BA5AA6D6BE3B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2438280" y="200016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nalisi tecn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507960" y="2857680"/>
            <a:ext cx="416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rescente diffusione presso gli operato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4673520" y="2857680"/>
            <a:ext cx="416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ffidenza da parte degli “accademici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Line 6"/>
          <p:cNvSpPr/>
          <p:nvPr/>
        </p:nvSpPr>
        <p:spPr>
          <a:xfrm flipH="1">
            <a:off x="3149280" y="2343240"/>
            <a:ext cx="1320840" cy="39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4673520" y="2343240"/>
            <a:ext cx="1320840" cy="39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406440" y="4000680"/>
            <a:ext cx="8737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’analisi tecnica non ha un apparato teorico di riferimento e non ha fondamenta scientifi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gli operatori interessano solo i risultati e dunque che il metodo funzioni, non il perché della sua effica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AutoShape 9"/>
          <p:cNvSpPr/>
          <p:nvPr/>
        </p:nvSpPr>
        <p:spPr>
          <a:xfrm>
            <a:off x="3860640" y="3486240"/>
            <a:ext cx="1524240" cy="514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4064040" y="3543480"/>
            <a:ext cx="11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Analisi tecnica e teoria econom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5255-358E-46DA-9C4C-60545D80F847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2209680"/>
            <a:ext cx="668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rcato domes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rcato internazion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143000" y="3581280"/>
            <a:ext cx="637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rcato di bro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rcato di dea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143000" y="4876920"/>
            <a:ext cx="59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rcato ad a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rcato con ricerca diretta della contropar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Classificazioni 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DAD3-8B39-4886-A7B8-807A856539BD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609480" y="2400480"/>
            <a:ext cx="193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nalisi tecn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609480" y="3657600"/>
            <a:ext cx="26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eoria econom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4071960" y="228600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al passato si prevede il futuro andamento dei prezz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4064040" y="3543480"/>
            <a:ext cx="477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 un mercato efficiente è impossibile fare previsi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AutoShape 7"/>
          <p:cNvSpPr/>
          <p:nvPr/>
        </p:nvSpPr>
        <p:spPr>
          <a:xfrm>
            <a:off x="3048120" y="2514600"/>
            <a:ext cx="812520" cy="2286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AutoShape 8"/>
          <p:cNvSpPr/>
          <p:nvPr/>
        </p:nvSpPr>
        <p:spPr>
          <a:xfrm>
            <a:off x="3149640" y="3772080"/>
            <a:ext cx="812880" cy="22860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motivi del contrast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egnaposto numero diapositiva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4908-E718-4241-9494-7C7F160218D9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’azione del mercato sconta ogni co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 prezzi si muovono all’interno di un tr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a storia ripete se stes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presupposti dell’analisi tecn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6D52-8D14-447A-90F3-A7194AA3898F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711360" y="2057400"/>
            <a:ext cx="75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w intuì che i movimenti di mercato erano ciclici e cercò le cause di tale ciclic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714240" y="3143160"/>
            <a:ext cx="64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reò i primi indici di merca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w-Jones Industrial Average (D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w-Jones Transportation Average (DJ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1143000" y="5000760"/>
            <a:ext cx="69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ttuali indici Dow-Jones tuttora in u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AutoShape 6"/>
          <p:cNvSpPr/>
          <p:nvPr/>
        </p:nvSpPr>
        <p:spPr>
          <a:xfrm>
            <a:off x="4000680" y="4429080"/>
            <a:ext cx="111744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teoria di Dow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egnaposto numero diapositiva 4"/>
          <p:cNvSpPr/>
          <p:nvPr/>
        </p:nvSpPr>
        <p:spPr>
          <a:xfrm>
            <a:off x="7000920" y="6215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91F3-A9D1-474D-B5B7-4C3F434131B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Text Box 3"/>
          <p:cNvSpPr/>
          <p:nvPr/>
        </p:nvSpPr>
        <p:spPr>
          <a:xfrm>
            <a:off x="609480" y="2114640"/>
            <a:ext cx="80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. Le medie-indice scontano ogni co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609480" y="2971800"/>
            <a:ext cx="78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. Il mercato presenta tre tr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1219320" y="35434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rend primario (almeno 1 ann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rend secondario (da 3 settimane a 3 mesi) – correzioni del trend prim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rend minore (fino a 3 settimane) – correzioni del trend second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914400" y="4857840"/>
            <a:ext cx="355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rend crescent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Bull mar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rend decrerscent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Bear mar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5079960" y="4857840"/>
            <a:ext cx="4064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ssimi e minimi locali cresce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ssimi e minimi locali decresce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AutoShape 8"/>
          <p:cNvSpPr/>
          <p:nvPr/>
        </p:nvSpPr>
        <p:spPr>
          <a:xfrm>
            <a:off x="4357800" y="5000760"/>
            <a:ext cx="609480" cy="228600"/>
          </a:xfrm>
          <a:prstGeom prst="rightArrow">
            <a:avLst>
              <a:gd name="adj1" fmla="val 50000"/>
              <a:gd name="adj2" fmla="val 374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4368960" y="5600880"/>
            <a:ext cx="609480" cy="228600"/>
          </a:xfrm>
          <a:prstGeom prst="rightArrow">
            <a:avLst>
              <a:gd name="adj1" fmla="val 50000"/>
              <a:gd name="adj2" fmla="val 374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principi enunciati da Dow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C719-CC76-4F14-BC23-C9648EAC2B6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1214280" y="1071720"/>
            <a:ext cx="74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3. I trend primari sono caratterizzati da 3 f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914400" y="2057400"/>
            <a:ext cx="7416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 Fase – Accumulazione – dopo un forte ribasso gli operatori più attenti capiscono l’inversione in atto e danno luogo ad una serie di acquisti gradu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I Fase – prezzi in ascesa, volumi in aumento, crescita delle informazi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II Fase – Distribuzione – acquisti in blocco da parte dei risparmiatori e inizio delle vendite da parte dei più esperti – inizio fase ribassi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4286-57E3-41B2-864B-8B4E4D61DB75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2"/>
          <p:cNvSpPr/>
          <p:nvPr/>
        </p:nvSpPr>
        <p:spPr>
          <a:xfrm>
            <a:off x="642960" y="21420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4. Le medie indice devono confermarsi reciproc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1015920" y="857160"/>
            <a:ext cx="751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iferimento agli indici DJIA e DJ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Un segnale di inversione di tendenza deve essere espresso da entramb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empi di reazione brev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711360" y="2457360"/>
            <a:ext cx="75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5. Il volume deve confermare il trend in at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9"/>
          <p:cNvGrpSpPr/>
          <p:nvPr/>
        </p:nvGrpSpPr>
        <p:grpSpPr>
          <a:xfrm>
            <a:off x="857160" y="3071880"/>
            <a:ext cx="7810200" cy="1824120"/>
            <a:chOff x="857160" y="3071880"/>
            <a:chExt cx="7810200" cy="1824120"/>
          </a:xfrm>
        </p:grpSpPr>
        <p:sp>
          <p:nvSpPr>
            <p:cNvPr id="513" name="Text Box 6"/>
            <p:cNvSpPr/>
            <p:nvPr/>
          </p:nvSpPr>
          <p:spPr>
            <a:xfrm>
              <a:off x="857160" y="3305160"/>
              <a:ext cx="1714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Mercato bul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Mercato bea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Text Box 7"/>
            <p:cNvSpPr/>
            <p:nvPr/>
          </p:nvSpPr>
          <p:spPr>
            <a:xfrm>
              <a:off x="4502160" y="3162240"/>
              <a:ext cx="416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se Prezzo    Volum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se Prezzo    Volum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Text Box 8"/>
            <p:cNvSpPr/>
            <p:nvPr/>
          </p:nvSpPr>
          <p:spPr>
            <a:xfrm>
              <a:off x="4499640" y="4162680"/>
              <a:ext cx="416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se Prezzo    Volum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se Prezzo    Volum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Line 9"/>
            <p:cNvSpPr/>
            <p:nvPr/>
          </p:nvSpPr>
          <p:spPr>
            <a:xfrm flipV="1">
              <a:off x="5659920" y="307188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10"/>
            <p:cNvSpPr/>
            <p:nvPr/>
          </p:nvSpPr>
          <p:spPr>
            <a:xfrm flipV="1">
              <a:off x="6787800" y="3090600"/>
              <a:ext cx="0" cy="28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11"/>
            <p:cNvSpPr/>
            <p:nvPr/>
          </p:nvSpPr>
          <p:spPr>
            <a:xfrm>
              <a:off x="5659920" y="3471840"/>
              <a:ext cx="0" cy="28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Line 12"/>
            <p:cNvSpPr/>
            <p:nvPr/>
          </p:nvSpPr>
          <p:spPr>
            <a:xfrm>
              <a:off x="6787800" y="351936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13"/>
            <p:cNvSpPr/>
            <p:nvPr/>
          </p:nvSpPr>
          <p:spPr>
            <a:xfrm>
              <a:off x="6786000" y="4214880"/>
              <a:ext cx="0" cy="28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>
              <a:off x="5659920" y="4557960"/>
              <a:ext cx="0" cy="28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15"/>
            <p:cNvSpPr/>
            <p:nvPr/>
          </p:nvSpPr>
          <p:spPr>
            <a:xfrm flipV="1">
              <a:off x="5659920" y="410040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16"/>
            <p:cNvSpPr/>
            <p:nvPr/>
          </p:nvSpPr>
          <p:spPr>
            <a:xfrm flipV="1">
              <a:off x="6786000" y="4500360"/>
              <a:ext cx="0" cy="28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AutoShape 17"/>
            <p:cNvSpPr/>
            <p:nvPr/>
          </p:nvSpPr>
          <p:spPr>
            <a:xfrm>
              <a:off x="2499480" y="3162240"/>
              <a:ext cx="531000" cy="733320"/>
            </a:xfrm>
            <a:prstGeom prst="rightArrow">
              <a:avLst>
                <a:gd name="adj1" fmla="val 50000"/>
                <a:gd name="adj2" fmla="val 3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AutoShape 18"/>
            <p:cNvSpPr/>
            <p:nvPr/>
          </p:nvSpPr>
          <p:spPr>
            <a:xfrm>
              <a:off x="2499480" y="4162680"/>
              <a:ext cx="531000" cy="733320"/>
            </a:xfrm>
            <a:prstGeom prst="rightArrow">
              <a:avLst>
                <a:gd name="adj1" fmla="val 50000"/>
                <a:gd name="adj2" fmla="val 3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6" name="Text Box 20"/>
          <p:cNvSpPr/>
          <p:nvPr/>
        </p:nvSpPr>
        <p:spPr>
          <a:xfrm>
            <a:off x="714240" y="5286240"/>
            <a:ext cx="751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6. La continuazione di un trend è da assumersi fino a quando non si verifichino chiari segnali di invers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96EF-6C1B-4C20-80DE-E91FC3D0CC4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711360" y="1943280"/>
            <a:ext cx="772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trend esprime la direzione assunta dal mercato e fornisce indicazioni sui movimenti dei prezzi nel periodo considera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9" name="Group 12"/>
          <p:cNvGrpSpPr/>
          <p:nvPr/>
        </p:nvGrpSpPr>
        <p:grpSpPr>
          <a:xfrm>
            <a:off x="711360" y="3144960"/>
            <a:ext cx="8273520" cy="2796840"/>
            <a:chOff x="711360" y="3144960"/>
            <a:chExt cx="8273520" cy="2796840"/>
          </a:xfrm>
        </p:grpSpPr>
        <p:sp>
          <p:nvSpPr>
            <p:cNvPr id="530" name="Text Box 5"/>
            <p:cNvSpPr/>
            <p:nvPr/>
          </p:nvSpPr>
          <p:spPr>
            <a:xfrm>
              <a:off x="711360" y="3256920"/>
              <a:ext cx="406368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Punti di massimo e minimo crescent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Punti di massimo e minimo decrescent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Assenza di una chiara tendenz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Text Box 6"/>
            <p:cNvSpPr/>
            <p:nvPr/>
          </p:nvSpPr>
          <p:spPr>
            <a:xfrm>
              <a:off x="5286960" y="3285360"/>
              <a:ext cx="355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Trend rialzista – Bull marke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Text Box 7"/>
            <p:cNvSpPr/>
            <p:nvPr/>
          </p:nvSpPr>
          <p:spPr>
            <a:xfrm>
              <a:off x="5357160" y="4286160"/>
              <a:ext cx="3555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Trend ribassista – Bear marke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AutoShape 8"/>
            <p:cNvSpPr/>
            <p:nvPr/>
          </p:nvSpPr>
          <p:spPr>
            <a:xfrm>
              <a:off x="4428000" y="3144960"/>
              <a:ext cx="715680" cy="795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AutoShape 9"/>
            <p:cNvSpPr/>
            <p:nvPr/>
          </p:nvSpPr>
          <p:spPr>
            <a:xfrm>
              <a:off x="4428000" y="4173840"/>
              <a:ext cx="715680" cy="795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Text Box 10"/>
            <p:cNvSpPr/>
            <p:nvPr/>
          </p:nvSpPr>
          <p:spPr>
            <a:xfrm>
              <a:off x="5429160" y="5358240"/>
              <a:ext cx="35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Mercato laterale o trendles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AutoShape 11"/>
            <p:cNvSpPr/>
            <p:nvPr/>
          </p:nvSpPr>
          <p:spPr>
            <a:xfrm>
              <a:off x="4428000" y="5146200"/>
              <a:ext cx="715680" cy="795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7" name="Text Box 13"/>
          <p:cNvSpPr/>
          <p:nvPr/>
        </p:nvSpPr>
        <p:spPr>
          <a:xfrm>
            <a:off x="609480" y="6114960"/>
            <a:ext cx="772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.B. Il trend ha significato in funzione del tempo di rifer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tre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C6E6-AF79-491D-8FA1-2648C50A350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711360" y="19432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inea di tendenza rialzis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711360" y="40006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inea di tendenza ribassis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5486400" y="1943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ongiunzione dei punti di minimo crescen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5486400" y="394344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ongiunzione dei punti di massimo decrescen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AutoShape 7"/>
          <p:cNvSpPr/>
          <p:nvPr/>
        </p:nvSpPr>
        <p:spPr>
          <a:xfrm>
            <a:off x="4000680" y="1919160"/>
            <a:ext cx="614160" cy="733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AutoShape 8"/>
          <p:cNvSpPr/>
          <p:nvPr/>
        </p:nvSpPr>
        <p:spPr>
          <a:xfrm>
            <a:off x="4071960" y="3862440"/>
            <a:ext cx="542880" cy="733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6" name="Group 20"/>
          <p:cNvGrpSpPr/>
          <p:nvPr/>
        </p:nvGrpSpPr>
        <p:grpSpPr>
          <a:xfrm>
            <a:off x="1930320" y="2742840"/>
            <a:ext cx="5587560" cy="971640"/>
            <a:chOff x="1930320" y="2742840"/>
            <a:chExt cx="5587560" cy="971640"/>
          </a:xfrm>
        </p:grpSpPr>
        <p:grpSp>
          <p:nvGrpSpPr>
            <p:cNvPr id="547" name="Group 11"/>
            <p:cNvGrpSpPr/>
            <p:nvPr/>
          </p:nvGrpSpPr>
          <p:grpSpPr>
            <a:xfrm>
              <a:off x="2031480" y="2742840"/>
              <a:ext cx="5486400" cy="959760"/>
              <a:chOff x="2031480" y="2742840"/>
              <a:chExt cx="5486400" cy="959760"/>
            </a:xfrm>
          </p:grpSpPr>
          <p:sp>
            <p:nvSpPr>
              <p:cNvPr id="548" name="Line 12"/>
              <p:cNvSpPr/>
              <p:nvPr/>
            </p:nvSpPr>
            <p:spPr>
              <a:xfrm flipV="1">
                <a:off x="2031480" y="3222720"/>
                <a:ext cx="975240" cy="47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Line 13"/>
              <p:cNvSpPr/>
              <p:nvPr/>
            </p:nvSpPr>
            <p:spPr>
              <a:xfrm>
                <a:off x="3006720" y="3223080"/>
                <a:ext cx="48744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Line 14"/>
              <p:cNvSpPr/>
              <p:nvPr/>
            </p:nvSpPr>
            <p:spPr>
              <a:xfrm flipV="1">
                <a:off x="3494520" y="3085560"/>
                <a:ext cx="975240" cy="47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1" name="Line 15"/>
              <p:cNvSpPr/>
              <p:nvPr/>
            </p:nvSpPr>
            <p:spPr>
              <a:xfrm>
                <a:off x="4469760" y="3085920"/>
                <a:ext cx="48744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2" name="Line 16"/>
              <p:cNvSpPr/>
              <p:nvPr/>
            </p:nvSpPr>
            <p:spPr>
              <a:xfrm flipV="1">
                <a:off x="4957560" y="2948400"/>
                <a:ext cx="975240" cy="47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3" name="Line 17"/>
              <p:cNvSpPr/>
              <p:nvPr/>
            </p:nvSpPr>
            <p:spPr>
              <a:xfrm>
                <a:off x="5932800" y="2948760"/>
                <a:ext cx="48744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Line 18"/>
              <p:cNvSpPr/>
              <p:nvPr/>
            </p:nvSpPr>
            <p:spPr>
              <a:xfrm flipV="1">
                <a:off x="6420600" y="2742840"/>
                <a:ext cx="1097280" cy="54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5" name="Line 19"/>
            <p:cNvSpPr/>
            <p:nvPr/>
          </p:nvSpPr>
          <p:spPr>
            <a:xfrm flipV="1">
              <a:off x="1930320" y="3200040"/>
              <a:ext cx="5486400" cy="51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6" name="Group 23"/>
          <p:cNvGrpSpPr/>
          <p:nvPr/>
        </p:nvGrpSpPr>
        <p:grpSpPr>
          <a:xfrm>
            <a:off x="1828800" y="5029200"/>
            <a:ext cx="5638680" cy="960480"/>
            <a:chOff x="1828800" y="5029200"/>
            <a:chExt cx="5638680" cy="960480"/>
          </a:xfrm>
        </p:grpSpPr>
        <p:grpSp>
          <p:nvGrpSpPr>
            <p:cNvPr id="557" name="Group 24"/>
            <p:cNvGrpSpPr/>
            <p:nvPr/>
          </p:nvGrpSpPr>
          <p:grpSpPr>
            <a:xfrm>
              <a:off x="1828800" y="5029200"/>
              <a:ext cx="5486400" cy="960480"/>
              <a:chOff x="1828800" y="5029200"/>
              <a:chExt cx="5486400" cy="960480"/>
            </a:xfrm>
          </p:grpSpPr>
          <p:sp>
            <p:nvSpPr>
              <p:cNvPr id="558" name="Line 25"/>
              <p:cNvSpPr/>
              <p:nvPr/>
            </p:nvSpPr>
            <p:spPr>
              <a:xfrm>
                <a:off x="1828800" y="5029200"/>
                <a:ext cx="975240" cy="48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Line 26"/>
              <p:cNvSpPr/>
              <p:nvPr/>
            </p:nvSpPr>
            <p:spPr>
              <a:xfrm flipV="1">
                <a:off x="2804040" y="5166360"/>
                <a:ext cx="487440" cy="34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Line 27"/>
              <p:cNvSpPr/>
              <p:nvPr/>
            </p:nvSpPr>
            <p:spPr>
              <a:xfrm>
                <a:off x="3291840" y="5166360"/>
                <a:ext cx="975240" cy="48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Line 28"/>
              <p:cNvSpPr/>
              <p:nvPr/>
            </p:nvSpPr>
            <p:spPr>
              <a:xfrm flipV="1">
                <a:off x="4267080" y="5303520"/>
                <a:ext cx="487440" cy="34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2" name="Line 29"/>
              <p:cNvSpPr/>
              <p:nvPr/>
            </p:nvSpPr>
            <p:spPr>
              <a:xfrm>
                <a:off x="4754880" y="5303880"/>
                <a:ext cx="975240" cy="48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" name="Line 30"/>
              <p:cNvSpPr/>
              <p:nvPr/>
            </p:nvSpPr>
            <p:spPr>
              <a:xfrm flipV="1">
                <a:off x="5730120" y="5441040"/>
                <a:ext cx="487440" cy="34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" name="Line 31"/>
              <p:cNvSpPr/>
              <p:nvPr/>
            </p:nvSpPr>
            <p:spPr>
              <a:xfrm>
                <a:off x="6217920" y="5441040"/>
                <a:ext cx="1097280" cy="54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5" name="Line 32"/>
            <p:cNvSpPr/>
            <p:nvPr/>
          </p:nvSpPr>
          <p:spPr>
            <a:xfrm>
              <a:off x="1981080" y="5046840"/>
              <a:ext cx="5486400" cy="51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Come disegnare una trend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C59B-A4F4-42C4-8AE4-77A413495DF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8" name="Group 15"/>
          <p:cNvGrpSpPr/>
          <p:nvPr/>
        </p:nvGrpSpPr>
        <p:grpSpPr>
          <a:xfrm>
            <a:off x="1692360" y="2771280"/>
            <a:ext cx="5892480" cy="514800"/>
            <a:chOff x="1692360" y="2771280"/>
            <a:chExt cx="5892480" cy="514800"/>
          </a:xfrm>
        </p:grpSpPr>
        <p:grpSp>
          <p:nvGrpSpPr>
            <p:cNvPr id="569" name="Group 5"/>
            <p:cNvGrpSpPr/>
            <p:nvPr/>
          </p:nvGrpSpPr>
          <p:grpSpPr>
            <a:xfrm>
              <a:off x="2098440" y="2771280"/>
              <a:ext cx="5486400" cy="514800"/>
              <a:chOff x="2098440" y="2771280"/>
              <a:chExt cx="5486400" cy="514800"/>
            </a:xfrm>
          </p:grpSpPr>
          <p:sp>
            <p:nvSpPr>
              <p:cNvPr id="570" name="Line 6"/>
              <p:cNvSpPr/>
              <p:nvPr/>
            </p:nvSpPr>
            <p:spPr>
              <a:xfrm flipV="1">
                <a:off x="2098440" y="2771280"/>
                <a:ext cx="914040" cy="51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" name="Line 7"/>
              <p:cNvSpPr/>
              <p:nvPr/>
            </p:nvSpPr>
            <p:spPr>
              <a:xfrm flipV="1">
                <a:off x="6670440" y="2771280"/>
                <a:ext cx="914400" cy="51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2" name="Line 8"/>
              <p:cNvSpPr/>
              <p:nvPr/>
            </p:nvSpPr>
            <p:spPr>
              <a:xfrm flipV="1">
                <a:off x="5146200" y="2771280"/>
                <a:ext cx="914040" cy="51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" name="Line 9"/>
              <p:cNvSpPr/>
              <p:nvPr/>
            </p:nvSpPr>
            <p:spPr>
              <a:xfrm flipV="1">
                <a:off x="3622320" y="2771280"/>
                <a:ext cx="914400" cy="51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4" name="Line 10"/>
              <p:cNvSpPr/>
              <p:nvPr/>
            </p:nvSpPr>
            <p:spPr>
              <a:xfrm>
                <a:off x="3012480" y="2771640"/>
                <a:ext cx="609480" cy="51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" name="Line 11"/>
              <p:cNvSpPr/>
              <p:nvPr/>
            </p:nvSpPr>
            <p:spPr>
              <a:xfrm>
                <a:off x="6060600" y="2771640"/>
                <a:ext cx="609480" cy="51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" name="Line 12"/>
              <p:cNvSpPr/>
              <p:nvPr/>
            </p:nvSpPr>
            <p:spPr>
              <a:xfrm>
                <a:off x="4536720" y="2771640"/>
                <a:ext cx="609480" cy="51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7" name="Line 13"/>
            <p:cNvSpPr/>
            <p:nvPr/>
          </p:nvSpPr>
          <p:spPr>
            <a:xfrm>
              <a:off x="1793520" y="2771640"/>
              <a:ext cx="5791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14"/>
            <p:cNvSpPr/>
            <p:nvPr/>
          </p:nvSpPr>
          <p:spPr>
            <a:xfrm>
              <a:off x="1692360" y="3286080"/>
              <a:ext cx="5791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9" name="Text Box 17"/>
          <p:cNvSpPr/>
          <p:nvPr/>
        </p:nvSpPr>
        <p:spPr>
          <a:xfrm>
            <a:off x="1285920" y="185724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rendle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Text Box 19"/>
          <p:cNvSpPr/>
          <p:nvPr/>
        </p:nvSpPr>
        <p:spPr>
          <a:xfrm>
            <a:off x="1285920" y="391464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fficacia di una trendli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umero di “contatti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empo per oltrepassar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Gli strument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2" name="Segnaposto numero diapositiva 1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04B0-81B9-421C-9BC9-890FB6D61C6A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CasellaDiTesto 3"/>
          <p:cNvSpPr/>
          <p:nvPr/>
        </p:nvSpPr>
        <p:spPr>
          <a:xfrm>
            <a:off x="1214280" y="2214720"/>
            <a:ext cx="54295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rumenti 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trend follow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Oscillator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Gli operator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AC71-DA10-4396-AFA2-792C3F27B55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027"/>
          <p:cNvSpPr/>
          <p:nvPr/>
        </p:nvSpPr>
        <p:spPr>
          <a:xfrm>
            <a:off x="1000080" y="1928880"/>
            <a:ext cx="608328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 impre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Teso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 ban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 famigl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li investitori istituzion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peratori specializzati (brokers, deal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Banca cent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E0BF-B8E4-42C8-920D-A5B00883B2E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914400" y="1943280"/>
            <a:ext cx="7721640" cy="22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mento di analisi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trend-following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che consente di “smussare” le fluttuazioni dei prezzi e di costruire una linea di trend più regol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i calcola come media aritmetica “dinamica”: la prima media è calcolata su N prezzi, mentre i calcoli successivi si ottengono togliendo il prezzo più vecchio e aggiungendo il più rec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Media mobile semplice (SM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2"/>
              <p:cNvSpPr txBox="1"/>
              <p:nvPr/>
            </p:nvSpPr>
            <p:spPr>
              <a:xfrm>
                <a:off x="2071800" y="4429080"/>
                <a:ext cx="53578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M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7" name="Text Box 6"/>
          <p:cNvSpPr/>
          <p:nvPr/>
        </p:nvSpPr>
        <p:spPr>
          <a:xfrm>
            <a:off x="714240" y="5286240"/>
            <a:ext cx="58928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= prezzo del tito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= lunghezza della med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= periodo di rifer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e medie mobil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555C-8C60-491D-8984-3FDEA78396D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Text Box 2"/>
          <p:cNvSpPr/>
          <p:nvPr/>
        </p:nvSpPr>
        <p:spPr>
          <a:xfrm>
            <a:off x="1000080" y="428760"/>
            <a:ext cx="69087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Scelta del prezz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rezzo di chius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edia aritmetica tra prezzo di chiusura prezzo minimo e prezzo massi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642960" y="2143080"/>
            <a:ext cx="792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Scelta della lunghezza della media mob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714240" y="2786040"/>
            <a:ext cx="365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Breve perio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5429160" y="2786040"/>
            <a:ext cx="2946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ungo perio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357120" y="3714840"/>
            <a:ext cx="4470480" cy="30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levata reattività ai movimenti dei prezz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ggiore probabilità di generare falsi segn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iù adatta per fasi trendl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AutoShape 7"/>
          <p:cNvSpPr/>
          <p:nvPr/>
        </p:nvSpPr>
        <p:spPr>
          <a:xfrm>
            <a:off x="2214720" y="3214800"/>
            <a:ext cx="711000" cy="453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AutoShape 8"/>
          <p:cNvSpPr/>
          <p:nvPr/>
        </p:nvSpPr>
        <p:spPr>
          <a:xfrm>
            <a:off x="2214720" y="4500720"/>
            <a:ext cx="711000" cy="453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AutoShape 9"/>
          <p:cNvSpPr/>
          <p:nvPr/>
        </p:nvSpPr>
        <p:spPr>
          <a:xfrm>
            <a:off x="6500880" y="3214800"/>
            <a:ext cx="711000" cy="453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Text Box 10"/>
          <p:cNvSpPr/>
          <p:nvPr/>
        </p:nvSpPr>
        <p:spPr>
          <a:xfrm>
            <a:off x="4876920" y="3643200"/>
            <a:ext cx="426708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inore reattività ai movimenti dei prezz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inore probabilità di generare falsi segn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iù adatta per fasi con trend defini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AutoShape 11"/>
          <p:cNvSpPr/>
          <p:nvPr/>
        </p:nvSpPr>
        <p:spPr>
          <a:xfrm>
            <a:off x="6572160" y="4429080"/>
            <a:ext cx="711360" cy="453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AutoShape 12"/>
          <p:cNvSpPr/>
          <p:nvPr/>
        </p:nvSpPr>
        <p:spPr>
          <a:xfrm>
            <a:off x="6643800" y="5786280"/>
            <a:ext cx="711000" cy="454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AutoShape 13"/>
          <p:cNvSpPr/>
          <p:nvPr/>
        </p:nvSpPr>
        <p:spPr>
          <a:xfrm>
            <a:off x="2286000" y="5857920"/>
            <a:ext cx="711360" cy="453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3570-AA3A-4C2C-8C76-135BF755724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Text Box 2"/>
          <p:cNvSpPr/>
          <p:nvPr/>
        </p:nvSpPr>
        <p:spPr>
          <a:xfrm>
            <a:off x="711360" y="685800"/>
            <a:ext cx="79246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imite della S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ttribuisce lo stesso peso a tutte le quotazi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642960" y="2143080"/>
            <a:ext cx="3759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edia mobile ponder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4857840" y="2143080"/>
            <a:ext cx="3759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edia mobile esponenzi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Line 6"/>
          <p:cNvSpPr/>
          <p:nvPr/>
        </p:nvSpPr>
        <p:spPr>
          <a:xfrm flipH="1">
            <a:off x="2857320" y="1500120"/>
            <a:ext cx="1726920" cy="514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7"/>
          <p:cNvSpPr/>
          <p:nvPr/>
        </p:nvSpPr>
        <p:spPr>
          <a:xfrm>
            <a:off x="4786200" y="1500120"/>
            <a:ext cx="1727280" cy="514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1143000" y="2928960"/>
            <a:ext cx="73152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Tahoma"/>
              </a:rPr>
              <a:t>Media mobile ponderata (WM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714240" y="3500280"/>
            <a:ext cx="8128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ssegna un peso maggiore alle quotazioni più rece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È più sensibile rispetto alla S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Rectangle 11"/>
          <p:cNvSpPr/>
          <p:nvPr/>
        </p:nvSpPr>
        <p:spPr>
          <a:xfrm>
            <a:off x="2305080" y="318924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Object 2"/>
              <p:cNvSpPr txBox="1"/>
              <p:nvPr/>
            </p:nvSpPr>
            <p:spPr>
              <a:xfrm>
                <a:off x="1357200" y="4429080"/>
                <a:ext cx="64515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M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2" name="Text Box 12"/>
          <p:cNvSpPr/>
          <p:nvPr/>
        </p:nvSpPr>
        <p:spPr>
          <a:xfrm>
            <a:off x="785880" y="5572080"/>
            <a:ext cx="3657600" cy="4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= pondera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30EA-5460-4C1B-8AC0-4D8F3CC6F4CA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Text Box 2"/>
          <p:cNvSpPr/>
          <p:nvPr/>
        </p:nvSpPr>
        <p:spPr>
          <a:xfrm>
            <a:off x="609480" y="1200240"/>
            <a:ext cx="802656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Media mobile esponenziale (EM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3232080" y="334332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2"/>
              <p:cNvSpPr txBox="1"/>
              <p:nvPr/>
            </p:nvSpPr>
            <p:spPr>
              <a:xfrm>
                <a:off x="1117440" y="1886040"/>
                <a:ext cx="5475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M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MA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7" name="Rectangle 6"/>
          <p:cNvSpPr/>
          <p:nvPr/>
        </p:nvSpPr>
        <p:spPr>
          <a:xfrm>
            <a:off x="4114800" y="3282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3"/>
              <p:cNvSpPr txBox="1"/>
              <p:nvPr/>
            </p:nvSpPr>
            <p:spPr>
              <a:xfrm>
                <a:off x="1015920" y="2514600"/>
                <a:ext cx="15591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9" name="Text Box 7"/>
          <p:cNvSpPr/>
          <p:nvPr/>
        </p:nvSpPr>
        <p:spPr>
          <a:xfrm>
            <a:off x="1015920" y="3314880"/>
            <a:ext cx="46735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EM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se 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609480" y="4000680"/>
            <a:ext cx="802656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Media mobile variabile (VM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711360" y="4514760"/>
            <a:ext cx="79246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articolare configurazione dell’EMA il cui peso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varia in funzione della volatilità del merca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a misura della volatilità è data dal Chande momentum oscill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E5AB-5319-4566-8AC7-2336BE89A4EF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2"/>
          <p:cNvSpPr/>
          <p:nvPr/>
        </p:nvSpPr>
        <p:spPr>
          <a:xfrm>
            <a:off x="928800" y="285840"/>
            <a:ext cx="7981920" cy="32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390600">
              <a:tabLst>
                <a:tab algn="l" pos="0"/>
                <a:tab algn="r" pos="44928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prezzo al temp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1680" indent="-390600">
              <a:tabLst>
                <a:tab algn="l" pos="0"/>
                <a:tab algn="r" pos="44928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prezzo del giorno preced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1680" indent="-390600">
              <a:tabLst>
                <a:tab algn="l" pos="0"/>
                <a:tab algn="r" pos="44928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P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differenza positiva tra due prezzi consecutiv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1680" indent="-390600">
              <a:tabLst>
                <a:tab algn="l" pos="0"/>
                <a:tab algn="r" pos="44928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N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differenza negativa tra due prezzi consecutiv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1680" indent="-390600">
              <a:tabLst>
                <a:tab algn="l" pos="0"/>
                <a:tab algn="r" pos="44928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DP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somma delle differenze pos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1680" indent="-390600">
              <a:tabLst>
                <a:tab algn="l" pos="0"/>
                <a:tab algn="r" pos="44928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DN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somma delle differenze negativ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1680" indent="-390600">
              <a:tabLst>
                <a:tab algn="l" pos="0"/>
                <a:tab algn="r" pos="44928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numero di addendi per le somme ovvero lunghezza del C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1680" indent="-390600">
              <a:tabLst>
                <a:tab algn="l" pos="0"/>
                <a:tab algn="r" pos="44928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MO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ande momentum oscill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928800" y="3286080"/>
            <a:ext cx="61354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&gt; P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llor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P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P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– P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rimenti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P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e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i="1" lang="fr-FR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&lt; P </a:t>
            </a:r>
            <a:r>
              <a:rPr b="0" i="1" lang="fr-FR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llora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N</a:t>
            </a:r>
            <a:r>
              <a:rPr b="0" i="1" lang="fr-FR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P</a:t>
            </a:r>
            <a:r>
              <a:rPr b="0" i="1" lang="fr-FR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- P</a:t>
            </a:r>
            <a:r>
              <a:rPr b="0" i="1" lang="fr-FR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rimenti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N</a:t>
            </a:r>
            <a:r>
              <a:rPr b="0" i="1" lang="fr-FR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0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DP</a:t>
            </a:r>
            <a:r>
              <a:rPr b="0" i="1" lang="de-DE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 DP</a:t>
            </a:r>
            <a:r>
              <a:rPr b="0" i="1" lang="de-DE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-M+1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DP</a:t>
            </a:r>
            <a:r>
              <a:rPr b="0" i="1" lang="de-DE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-M+2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.....+ DP</a:t>
            </a:r>
            <a:r>
              <a:rPr b="0" i="1" lang="de-DE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-1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DP</a:t>
            </a:r>
            <a:r>
              <a:rPr b="0" i="1" lang="de-DE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DN</a:t>
            </a:r>
            <a:r>
              <a:rPr b="0" i="1" lang="de-DE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DN</a:t>
            </a:r>
            <a:r>
              <a:rPr b="0" i="1" lang="de-DE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-M+1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DN</a:t>
            </a:r>
            <a:r>
              <a:rPr b="0" i="1" lang="de-DE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-M+2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.....+ DN</a:t>
            </a:r>
            <a:r>
              <a:rPr b="0" i="1" lang="de-DE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-1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DN</a:t>
            </a:r>
            <a:r>
              <a:rPr b="0" i="1" lang="de-DE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utoShape 4"/>
          <p:cNvSpPr/>
          <p:nvPr/>
        </p:nvSpPr>
        <p:spPr>
          <a:xfrm>
            <a:off x="3759120" y="2936880"/>
            <a:ext cx="741600" cy="420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3371760" y="32608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2"/>
              <p:cNvSpPr txBox="1"/>
              <p:nvPr/>
            </p:nvSpPr>
            <p:spPr>
              <a:xfrm>
                <a:off x="2214720" y="5786280"/>
                <a:ext cx="40478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D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D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D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D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76D7-2365-48FF-B662-AAD3741ECFF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2"/>
              <p:cNvSpPr txBox="1"/>
              <p:nvPr/>
            </p:nvSpPr>
            <p:spPr>
              <a:xfrm>
                <a:off x="1285920" y="285840"/>
                <a:ext cx="550080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O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M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W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W</m:t>
                                    </m:r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M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0" name="Text Box 4"/>
          <p:cNvSpPr/>
          <p:nvPr/>
        </p:nvSpPr>
        <p:spPr>
          <a:xfrm>
            <a:off x="609480" y="3200400"/>
            <a:ext cx="802656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Media mobile ponderata con il volume (VWM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711360" y="4000680"/>
            <a:ext cx="78231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ssegna un peso maggiore ai prezzi registrati nei giorni in cui i volumi sono più eleva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3753000" y="311472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3"/>
              <p:cNvSpPr txBox="1"/>
              <p:nvPr/>
            </p:nvSpPr>
            <p:spPr>
              <a:xfrm>
                <a:off x="2714760" y="4643280"/>
                <a:ext cx="228744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WM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4" name="Text Box 8"/>
          <p:cNvSpPr/>
          <p:nvPr/>
        </p:nvSpPr>
        <p:spPr>
          <a:xfrm>
            <a:off x="812880" y="6058080"/>
            <a:ext cx="365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V = volum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7073-F18B-444E-B0B5-E1425150032B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1714680" y="1928880"/>
            <a:ext cx="5767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Trading system con una media mobile (</a:t>
            </a:r>
            <a:r>
              <a:rPr b="0" i="1" lang="it-IT" sz="2400" spc="-1" strike="noStrike">
                <a:solidFill>
                  <a:srgbClr val="ff0000"/>
                </a:solidFill>
                <a:latin typeface="Tahoma"/>
              </a:rPr>
              <a:t>single moving average system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571680" y="2928960"/>
            <a:ext cx="802620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 il prezzo taglia dal basso verso l’alto la media mob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izio di un trend cresc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AutoShape 5"/>
          <p:cNvSpPr/>
          <p:nvPr/>
        </p:nvSpPr>
        <p:spPr>
          <a:xfrm>
            <a:off x="4071960" y="3357720"/>
            <a:ext cx="714240" cy="428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6"/>
          <p:cNvSpPr/>
          <p:nvPr/>
        </p:nvSpPr>
        <p:spPr>
          <a:xfrm>
            <a:off x="642960" y="4643280"/>
            <a:ext cx="802620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 il prezzo taglia dall’alto verso il basso la media mob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izio di un trend decresc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AutoShape 7"/>
          <p:cNvSpPr/>
          <p:nvPr/>
        </p:nvSpPr>
        <p:spPr>
          <a:xfrm>
            <a:off x="4071960" y="5072040"/>
            <a:ext cx="714240" cy="428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e medie mobili nei trading sytem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0AD9-30CB-423D-BFBA-039E575BAB47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43" name="Object 2"/>
          <p:cNvGraphicFramePr/>
          <p:nvPr/>
        </p:nvGraphicFramePr>
        <p:xfrm>
          <a:off x="357120" y="500040"/>
          <a:ext cx="853452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500040"/>
                    <a:ext cx="85345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Text Box 4"/>
          <p:cNvSpPr/>
          <p:nvPr/>
        </p:nvSpPr>
        <p:spPr>
          <a:xfrm>
            <a:off x="785880" y="4614840"/>
            <a:ext cx="365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tilizzo di medie mobili brev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5560920" y="4614840"/>
            <a:ext cx="3251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ggior numero di segn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4500720" y="4357800"/>
            <a:ext cx="515880" cy="795240"/>
          </a:xfrm>
          <a:prstGeom prst="rightArrow">
            <a:avLst>
              <a:gd name="adj1" fmla="val 50000"/>
              <a:gd name="adj2" fmla="val 3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Text Box 7"/>
          <p:cNvSpPr/>
          <p:nvPr/>
        </p:nvSpPr>
        <p:spPr>
          <a:xfrm>
            <a:off x="785880" y="5643720"/>
            <a:ext cx="8128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.B. In questo trading system possono essere utilizzati tutti i tipi di media descrit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156C-0145-4EF9-8BDD-2F18F159E82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Text Box 2"/>
          <p:cNvSpPr/>
          <p:nvPr/>
        </p:nvSpPr>
        <p:spPr>
          <a:xfrm>
            <a:off x="1643040" y="928800"/>
            <a:ext cx="5910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Trading system con due medie mobili (</a:t>
            </a:r>
            <a:r>
              <a:rPr b="0" i="1" lang="it-IT" sz="2400" spc="-1" strike="noStrike">
                <a:solidFill>
                  <a:srgbClr val="ff0000"/>
                </a:solidFill>
                <a:latin typeface="Tahoma"/>
              </a:rPr>
              <a:t>double moving average system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1" name="Group 8"/>
          <p:cNvGrpSpPr/>
          <p:nvPr/>
        </p:nvGrpSpPr>
        <p:grpSpPr>
          <a:xfrm>
            <a:off x="571680" y="1857240"/>
            <a:ext cx="7922520" cy="1676160"/>
            <a:chOff x="571680" y="1857240"/>
            <a:chExt cx="7922520" cy="1676160"/>
          </a:xfrm>
        </p:grpSpPr>
        <p:sp>
          <p:nvSpPr>
            <p:cNvPr id="652" name="Text Box 3"/>
            <p:cNvSpPr/>
            <p:nvPr/>
          </p:nvSpPr>
          <p:spPr>
            <a:xfrm>
              <a:off x="571680" y="1857240"/>
              <a:ext cx="792252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Utilizzo congiunto di una media mobile breve e di una media mobile di lungo periodo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Ridurre la formazione di falsi segnal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AutoShape 5"/>
            <p:cNvSpPr/>
            <p:nvPr/>
          </p:nvSpPr>
          <p:spPr>
            <a:xfrm>
              <a:off x="4072320" y="2714760"/>
              <a:ext cx="1218960" cy="419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Text Box 4"/>
            <p:cNvSpPr/>
            <p:nvPr/>
          </p:nvSpPr>
          <p:spPr>
            <a:xfrm>
              <a:off x="2785320" y="2786400"/>
              <a:ext cx="3657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ahoma"/>
                </a:rPr>
                <a:t>Obiettivo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5" name="Group 9"/>
          <p:cNvGrpSpPr/>
          <p:nvPr/>
        </p:nvGrpSpPr>
        <p:grpSpPr>
          <a:xfrm>
            <a:off x="785880" y="3643200"/>
            <a:ext cx="8127720" cy="1291320"/>
            <a:chOff x="785880" y="3643200"/>
            <a:chExt cx="8127720" cy="1291320"/>
          </a:xfrm>
        </p:grpSpPr>
        <p:sp>
          <p:nvSpPr>
            <p:cNvPr id="656" name="Text Box 6"/>
            <p:cNvSpPr/>
            <p:nvPr/>
          </p:nvSpPr>
          <p:spPr>
            <a:xfrm>
              <a:off x="785880" y="3643200"/>
              <a:ext cx="7924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Un segnale di acquisto si ha quando: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Text Box 7"/>
            <p:cNvSpPr/>
            <p:nvPr/>
          </p:nvSpPr>
          <p:spPr>
            <a:xfrm>
              <a:off x="785880" y="3928680"/>
              <a:ext cx="812772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76280" indent="-476280">
                <a:lnSpc>
                  <a:spcPct val="110000"/>
                </a:lnSpc>
                <a:buClr>
                  <a:srgbClr val="000000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Il prezzo taglia dal basso verso l’alto entrambe le medie mobil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476280" indent="-476280">
                <a:lnSpc>
                  <a:spcPct val="110000"/>
                </a:lnSpc>
                <a:buClr>
                  <a:srgbClr val="000000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La media mobile più veloce (a breve) taglia dal basso verso l’alto la più lent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8" name="Group 10"/>
          <p:cNvGrpSpPr/>
          <p:nvPr/>
        </p:nvGrpSpPr>
        <p:grpSpPr>
          <a:xfrm>
            <a:off x="711360" y="5143680"/>
            <a:ext cx="8432280" cy="1291320"/>
            <a:chOff x="711360" y="5143680"/>
            <a:chExt cx="8432280" cy="1291320"/>
          </a:xfrm>
        </p:grpSpPr>
        <p:sp>
          <p:nvSpPr>
            <p:cNvPr id="659" name="Text Box 11"/>
            <p:cNvSpPr/>
            <p:nvPr/>
          </p:nvSpPr>
          <p:spPr>
            <a:xfrm>
              <a:off x="711360" y="5143680"/>
              <a:ext cx="8221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Un segnale di vendita si ha quando: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0" name="Text Box 12"/>
            <p:cNvSpPr/>
            <p:nvPr/>
          </p:nvSpPr>
          <p:spPr>
            <a:xfrm>
              <a:off x="711360" y="5429160"/>
              <a:ext cx="843228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76280" indent="-476280">
                <a:lnSpc>
                  <a:spcPct val="110000"/>
                </a:lnSpc>
                <a:buClr>
                  <a:srgbClr val="000000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Il prezzo taglia dall’alto verso il basso entrambe le medie mobil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476280" indent="-476280">
                <a:lnSpc>
                  <a:spcPct val="110000"/>
                </a:lnSpc>
                <a:buClr>
                  <a:srgbClr val="000000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La media mobile più veloce (a breve) taglia dall’alto verso il basso la più lent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5913-5479-4ECB-9A64-86F45983247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2" name="Object 2"/>
          <p:cNvGraphicFramePr/>
          <p:nvPr/>
        </p:nvGraphicFramePr>
        <p:xfrm>
          <a:off x="304920" y="228600"/>
          <a:ext cx="8534160" cy="34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853416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Text Box 3"/>
          <p:cNvSpPr/>
          <p:nvPr/>
        </p:nvSpPr>
        <p:spPr>
          <a:xfrm>
            <a:off x="714240" y="3929040"/>
            <a:ext cx="7823160" cy="26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 il prezzo, la media mobile a breve e la media mobile a lungo sono posizionate rispettivamente dall’alto verso il bass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osizione lung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 il prezzo, la media mobile a breve e la media mobile a lungo sono posizionate rispettivamente dal basso verso l’al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osizione corta o fuori dal merca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AutoShape 4"/>
          <p:cNvSpPr/>
          <p:nvPr/>
        </p:nvSpPr>
        <p:spPr>
          <a:xfrm>
            <a:off x="4357800" y="4497480"/>
            <a:ext cx="500040" cy="419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AutoShape 5"/>
          <p:cNvSpPr/>
          <p:nvPr/>
        </p:nvSpPr>
        <p:spPr>
          <a:xfrm>
            <a:off x="4286160" y="5857920"/>
            <a:ext cx="642960" cy="419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e varie forme di efficienz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25FE-383D-49FB-BF94-EC53B57C2867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Segnaposto numero diapositiva 4"/>
          <p:cNvSpPr/>
          <p:nvPr/>
        </p:nvSpPr>
        <p:spPr>
          <a:xfrm>
            <a:off x="5407200" y="7039080"/>
            <a:ext cx="208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FD5C-5E0E-4F80-9DE4-018B7F6FDD4D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CasellaDiTesto 19"/>
          <p:cNvSpPr/>
          <p:nvPr/>
        </p:nvSpPr>
        <p:spPr>
          <a:xfrm>
            <a:off x="1071720" y="2143080"/>
            <a:ext cx="542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0360">
              <a:lnSpc>
                <a:spcPct val="2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fficienza informa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0360">
              <a:lnSpc>
                <a:spcPct val="2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fficienza valuta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0360">
              <a:lnSpc>
                <a:spcPct val="2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fficienza di completez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0360">
              <a:lnSpc>
                <a:spcPct val="2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fficienza funzion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60360">
              <a:lnSpc>
                <a:spcPct val="2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fficienza tecnico-opera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D8AE-9C10-4A9A-9FF9-7235DA308BFA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Text Box 3"/>
          <p:cNvSpPr/>
          <p:nvPr/>
        </p:nvSpPr>
        <p:spPr>
          <a:xfrm>
            <a:off x="857160" y="2286000"/>
            <a:ext cx="701064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trumenti per operare in fasi di mercato trend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857160" y="3143160"/>
            <a:ext cx="772164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bietti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10000"/>
              </a:lnSpc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isurare la velocità di una serie di prezzo o di volume (moment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10000"/>
              </a:lnSpc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dividuare zone di “iper-comprato” o “iper-venduto” e trarre indicazioni di acquisto o vendi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Gli oscillator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D5CF-ACAD-49C0-8FEB-4234F478C0DB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Text Box 2"/>
          <p:cNvSpPr/>
          <p:nvPr/>
        </p:nvSpPr>
        <p:spPr>
          <a:xfrm>
            <a:off x="785880" y="2143080"/>
            <a:ext cx="81280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 genera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 l’oscillatore taglia dal basso verso l’alto la sua linea mediana, c’è un segnale di acquisto; viceversa per la vendi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Gli oscillatori possono individuare segnali di inversione del tr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785880" y="3929040"/>
            <a:ext cx="792468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 principali oscillato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Moment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Commodity Channel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Relative Strength Index (RS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o Stocas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Williams %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EF96-9FBD-4736-8684-C0E787947C77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711360" y="2057400"/>
            <a:ext cx="802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isura la velocità (accelerazione o decelerazione) del movimento di mercato, confermando o meno la forza della tendenza in at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3968640" y="334332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Object 2"/>
              <p:cNvSpPr txBox="1"/>
              <p:nvPr/>
            </p:nvSpPr>
            <p:spPr>
              <a:xfrm>
                <a:off x="714240" y="2928960"/>
                <a:ext cx="26463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8" name="Rectangle 6"/>
          <p:cNvSpPr/>
          <p:nvPr/>
        </p:nvSpPr>
        <p:spPr>
          <a:xfrm>
            <a:off x="428760" y="3571920"/>
            <a:ext cx="701028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prezzo al tempo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lunghezza del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ment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periodo di riferimen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9" name="Group 12"/>
          <p:cNvGrpSpPr/>
          <p:nvPr/>
        </p:nvGrpSpPr>
        <p:grpSpPr>
          <a:xfrm>
            <a:off x="712800" y="5000760"/>
            <a:ext cx="7801920" cy="1005840"/>
            <a:chOff x="712800" y="5000760"/>
            <a:chExt cx="7801920" cy="1005840"/>
          </a:xfrm>
        </p:grpSpPr>
        <p:sp>
          <p:nvSpPr>
            <p:cNvPr id="680" name="Text Box 7"/>
            <p:cNvSpPr/>
            <p:nvPr/>
          </p:nvSpPr>
          <p:spPr>
            <a:xfrm>
              <a:off x="712800" y="5000760"/>
              <a:ext cx="356472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0440" indent="-19044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M &gt; 0 con valori crescent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190440" indent="-19044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190440" indent="-19044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M &gt; 0 con valori decrescent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Text Box 8"/>
            <p:cNvSpPr/>
            <p:nvPr/>
          </p:nvSpPr>
          <p:spPr>
            <a:xfrm>
              <a:off x="4857120" y="5000760"/>
              <a:ext cx="365760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Rafforzamento di un uptren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Indebolimento di un uptren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momentum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Freccia a destra 13"/>
          <p:cNvSpPr/>
          <p:nvPr/>
        </p:nvSpPr>
        <p:spPr>
          <a:xfrm>
            <a:off x="4143240" y="500076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Freccia a destra 14"/>
          <p:cNvSpPr/>
          <p:nvPr/>
        </p:nvSpPr>
        <p:spPr>
          <a:xfrm>
            <a:off x="4143240" y="571500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0ACD-639D-4755-BCE7-F8E0B59485C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6" name="Group 7"/>
          <p:cNvGrpSpPr/>
          <p:nvPr/>
        </p:nvGrpSpPr>
        <p:grpSpPr>
          <a:xfrm>
            <a:off x="785880" y="457200"/>
            <a:ext cx="7786440" cy="1719000"/>
            <a:chOff x="785880" y="457200"/>
            <a:chExt cx="7786440" cy="1719000"/>
          </a:xfrm>
        </p:grpSpPr>
        <p:sp>
          <p:nvSpPr>
            <p:cNvPr id="687" name="Text Box 3"/>
            <p:cNvSpPr/>
            <p:nvPr/>
          </p:nvSpPr>
          <p:spPr>
            <a:xfrm>
              <a:off x="785880" y="457200"/>
              <a:ext cx="419292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90440" indent="-19044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M &lt; 0 con valori crescent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190440" indent="-19044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190440" indent="-19044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M &lt; 0 con valori decrescent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Text Box 4"/>
            <p:cNvSpPr/>
            <p:nvPr/>
          </p:nvSpPr>
          <p:spPr>
            <a:xfrm>
              <a:off x="5072040" y="500040"/>
              <a:ext cx="350028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Rafforzamento del downtren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Indebolimento del downtren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9" name="Text Box 10"/>
          <p:cNvSpPr/>
          <p:nvPr/>
        </p:nvSpPr>
        <p:spPr>
          <a:xfrm>
            <a:off x="914400" y="2000160"/>
            <a:ext cx="7721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omentum espresso in percentu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Rectangle 12"/>
          <p:cNvSpPr/>
          <p:nvPr/>
        </p:nvSpPr>
        <p:spPr>
          <a:xfrm>
            <a:off x="3930480" y="32608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2"/>
              <p:cNvSpPr txBox="1"/>
              <p:nvPr/>
            </p:nvSpPr>
            <p:spPr>
              <a:xfrm>
                <a:off x="812880" y="2457360"/>
                <a:ext cx="22590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2" name="Text Box 13"/>
          <p:cNvSpPr/>
          <p:nvPr/>
        </p:nvSpPr>
        <p:spPr>
          <a:xfrm>
            <a:off x="3286080" y="2643120"/>
            <a:ext cx="365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Fluttua intorno al valore 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Text Box 14"/>
          <p:cNvSpPr/>
          <p:nvPr/>
        </p:nvSpPr>
        <p:spPr>
          <a:xfrm>
            <a:off x="609480" y="3371760"/>
            <a:ext cx="8229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.B. Il momentum non ha una banda di oscillazione definita verso il basso e verso l’al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Text Box 15"/>
          <p:cNvSpPr/>
          <p:nvPr/>
        </p:nvSpPr>
        <p:spPr>
          <a:xfrm>
            <a:off x="609480" y="4400640"/>
            <a:ext cx="81280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tilizzo del momentum per generare segnali di compravendi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uperamento della linea dello 0 (o del 100) dal basso verso l’alto = acquis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uperamento della linea dello 0 (o del 100) dall’alto verso il basso = vendi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Freccia a destra 13"/>
          <p:cNvSpPr/>
          <p:nvPr/>
        </p:nvSpPr>
        <p:spPr>
          <a:xfrm>
            <a:off x="4143240" y="121428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Freccia a destra 14"/>
          <p:cNvSpPr/>
          <p:nvPr/>
        </p:nvSpPr>
        <p:spPr>
          <a:xfrm>
            <a:off x="4143240" y="50004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73F1-3F5C-45D6-B70B-5C2445E3657A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8" name="Object 2"/>
          <p:cNvGraphicFramePr/>
          <p:nvPr/>
        </p:nvGraphicFramePr>
        <p:xfrm>
          <a:off x="428760" y="1857240"/>
          <a:ext cx="8331120" cy="41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857240"/>
                    <a:ext cx="833112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Text Box 3"/>
          <p:cNvSpPr/>
          <p:nvPr/>
        </p:nvSpPr>
        <p:spPr>
          <a:xfrm>
            <a:off x="1214280" y="1071720"/>
            <a:ext cx="4470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mentum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B86D-3848-40AD-926E-31D67F19177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Rectangle 5"/>
          <p:cNvSpPr/>
          <p:nvPr/>
        </p:nvSpPr>
        <p:spPr>
          <a:xfrm>
            <a:off x="3784680" y="32749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2844720" y="32749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1555920" y="325764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Rectangle 11"/>
          <p:cNvSpPr/>
          <p:nvPr/>
        </p:nvSpPr>
        <p:spPr>
          <a:xfrm>
            <a:off x="3816360" y="325764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6" name="Group 17"/>
          <p:cNvGrpSpPr/>
          <p:nvPr/>
        </p:nvGrpSpPr>
        <p:grpSpPr>
          <a:xfrm>
            <a:off x="714240" y="1857240"/>
            <a:ext cx="8229240" cy="4939200"/>
            <a:chOff x="714240" y="1857240"/>
            <a:chExt cx="8229240" cy="4939200"/>
          </a:xfrm>
        </p:grpSpPr>
        <p:sp>
          <p:nvSpPr>
            <p:cNvPr id="707" name="Rectangle 13"/>
            <p:cNvSpPr/>
            <p:nvPr/>
          </p:nvSpPr>
          <p:spPr>
            <a:xfrm>
              <a:off x="714240" y="1857240"/>
              <a:ext cx="8229240" cy="49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Dati: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= periodo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</a:t>
              </a:r>
              <a:r>
                <a:rPr b="0" i="1" lang="en-US" sz="2000" spc="-1" strike="noStrike" baseline="-30000">
                  <a:solidFill>
                    <a:srgbClr val="000000"/>
                  </a:solidFill>
                  <a:latin typeface="Tahoma"/>
                  <a:ea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= prezzo di chiusura al tempo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H</a:t>
              </a:r>
              <a:r>
                <a:rPr b="0" i="1" lang="en-US" sz="2000" spc="-1" strike="noStrike" baseline="-30000">
                  <a:solidFill>
                    <a:srgbClr val="000000"/>
                  </a:solidFill>
                  <a:latin typeface="Tahoma"/>
                  <a:ea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= prezzo massimo al tempo 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L</a:t>
              </a:r>
              <a:r>
                <a:rPr b="0" i="1" lang="en-US" sz="2000" spc="-1" strike="noStrike" baseline="-30000">
                  <a:solidFill>
                    <a:srgbClr val="000000"/>
                  </a:solidFill>
                  <a:latin typeface="Tahoma"/>
                  <a:ea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= prezzo minimo al tempo 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</a:t>
              </a:r>
              <a:r>
                <a:rPr b="0" i="1" lang="en-US" sz="2000" spc="-1" strike="noStrike" baseline="-30000">
                  <a:solidFill>
                    <a:srgbClr val="000000"/>
                  </a:solidFill>
                  <a:latin typeface="Tahoma"/>
                  <a:ea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ypical price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al tempo 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= media mobile semplice di N dati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</a:t>
              </a:r>
              <a:r>
                <a:rPr b="0" i="1" lang="en-US" sz="2000" spc="-1" strike="noStrike" baseline="-30000">
                  <a:solidFill>
                    <a:srgbClr val="000000"/>
                  </a:solidFill>
                  <a:latin typeface="Tahoma"/>
                  <a:ea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= media aritmetica semplice delle N differenze in valore assoluto tra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</a:t>
              </a:r>
              <a:r>
                <a:rPr b="0" i="1" lang="en-US" sz="2000" spc="-1" strike="noStrike" baseline="-30000">
                  <a:solidFill>
                    <a:srgbClr val="000000"/>
                  </a:solidFill>
                  <a:latin typeface="Tahoma"/>
                  <a:ea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e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= lunghezza del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commodity channel inde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CI</a:t>
              </a:r>
              <a:r>
                <a:rPr b="0" i="1" lang="it-IT" sz="2000" spc="-1" strike="noStrike" baseline="-30000">
                  <a:solidFill>
                    <a:srgbClr val="000000"/>
                  </a:solidFill>
                  <a:latin typeface="Tahoma"/>
                  <a:ea typeface="Times New Roman"/>
                </a:rPr>
                <a:t>t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= 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modity channel index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al tempo t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,015 = parametro fissato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8" name="Object 2"/>
                <p:cNvSpPr txBox="1"/>
                <p:nvPr/>
              </p:nvSpPr>
              <p:spPr>
                <a:xfrm>
                  <a:off x="1357560" y="4857480"/>
                  <a:ext cx="4294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9" name="Object 3"/>
                <p:cNvSpPr txBox="1"/>
                <p:nvPr/>
              </p:nvSpPr>
              <p:spPr>
                <a:xfrm>
                  <a:off x="785880" y="4500360"/>
                  <a:ext cx="3553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0" name="Object 4"/>
                <p:cNvSpPr txBox="1"/>
                <p:nvPr/>
              </p:nvSpPr>
              <p:spPr>
                <a:xfrm>
                  <a:off x="714240" y="4142880"/>
                  <a:ext cx="45720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Commodity Channel Index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1E17-08D1-4533-9A23-B0F362451335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Object 2"/>
              <p:cNvSpPr txBox="1"/>
              <p:nvPr/>
            </p:nvSpPr>
            <p:spPr>
              <a:xfrm>
                <a:off x="1071720" y="214200"/>
                <a:ext cx="20444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ct 3"/>
              <p:cNvSpPr txBox="1"/>
              <p:nvPr/>
            </p:nvSpPr>
            <p:spPr>
              <a:xfrm>
                <a:off x="1071720" y="857160"/>
                <a:ext cx="4390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Object 4"/>
              <p:cNvSpPr txBox="1"/>
              <p:nvPr/>
            </p:nvSpPr>
            <p:spPr>
              <a:xfrm>
                <a:off x="928800" y="1857240"/>
                <a:ext cx="7000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5"/>
              <p:cNvSpPr txBox="1"/>
              <p:nvPr/>
            </p:nvSpPr>
            <p:spPr>
              <a:xfrm>
                <a:off x="914400" y="2514600"/>
                <a:ext cx="20145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C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5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17" name="Object 6"/>
          <p:cNvGraphicFramePr/>
          <p:nvPr/>
        </p:nvGraphicFramePr>
        <p:xfrm>
          <a:off x="406440" y="3371760"/>
          <a:ext cx="7823160" cy="26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3371760"/>
                    <a:ext cx="782316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Text Box 13"/>
          <p:cNvSpPr/>
          <p:nvPr/>
        </p:nvSpPr>
        <p:spPr>
          <a:xfrm>
            <a:off x="571680" y="6000840"/>
            <a:ext cx="79246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 segnali di acquisto e vendita emergono quando l’oscillatore incrocia la linea dello z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3E15-D044-4C04-AB71-E30DF236F07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Text Box 3"/>
          <p:cNvSpPr/>
          <p:nvPr/>
        </p:nvSpPr>
        <p:spPr>
          <a:xfrm>
            <a:off x="1071720" y="2071800"/>
            <a:ext cx="72183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deato per superare i limiti del Momentu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ccessiva variabilit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ncanza di una banda di oscillazione defini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Rectangle 4"/>
          <p:cNvSpPr/>
          <p:nvPr/>
        </p:nvSpPr>
        <p:spPr>
          <a:xfrm>
            <a:off x="785880" y="3429000"/>
            <a:ext cx="7748640" cy="28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dicando c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periodo di rifer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prezzo al tempo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ΔP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variazione positiva tra due prezzi consecutivi al tempo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ΔN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variazione negativa tra due prezzi consecutivi al tempo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ΔP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media delle variazioni positive al tempo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ΔN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media delle variazioni negative al tempo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SI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ve strength inde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l tempo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Relative Strength Index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F076-C4E2-474B-8CF2-E4CFFE1EAF54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Rectangle 2"/>
          <p:cNvSpPr/>
          <p:nvPr/>
        </p:nvSpPr>
        <p:spPr>
          <a:xfrm>
            <a:off x="1143000" y="500040"/>
            <a:ext cx="6643800" cy="15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&gt; P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ΔP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P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– P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-1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rimenti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ΔP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&lt; P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-1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ΔN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P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– P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-1 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riment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ΔN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571680" y="2071800"/>
            <a:ext cx="79246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 M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è il primo termine della ser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Rectangle 8"/>
          <p:cNvSpPr/>
          <p:nvPr/>
        </p:nvSpPr>
        <p:spPr>
          <a:xfrm>
            <a:off x="2787480" y="32749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Object 2"/>
              <p:cNvSpPr txBox="1"/>
              <p:nvPr/>
            </p:nvSpPr>
            <p:spPr>
              <a:xfrm>
                <a:off x="1357200" y="3071880"/>
                <a:ext cx="5707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Δ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9" name="AutoShape 9"/>
          <p:cNvSpPr/>
          <p:nvPr/>
        </p:nvSpPr>
        <p:spPr>
          <a:xfrm>
            <a:off x="3929040" y="2496960"/>
            <a:ext cx="642960" cy="419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285840" y="4143240"/>
            <a:ext cx="792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ltriment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AutoShape 11"/>
          <p:cNvSpPr/>
          <p:nvPr/>
        </p:nvSpPr>
        <p:spPr>
          <a:xfrm>
            <a:off x="3929040" y="4568760"/>
            <a:ext cx="642960" cy="419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Rectangle 13"/>
          <p:cNvSpPr/>
          <p:nvPr/>
        </p:nvSpPr>
        <p:spPr>
          <a:xfrm>
            <a:off x="3327480" y="32749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3"/>
              <p:cNvSpPr txBox="1"/>
              <p:nvPr/>
            </p:nvSpPr>
            <p:spPr>
              <a:xfrm>
                <a:off x="2071800" y="5357880"/>
                <a:ext cx="42861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Δ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Δ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845D-57E2-4EE7-8635-DABBDCDF19C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Text Box 2"/>
          <p:cNvSpPr/>
          <p:nvPr/>
        </p:nvSpPr>
        <p:spPr>
          <a:xfrm>
            <a:off x="357120" y="357120"/>
            <a:ext cx="79250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 M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è il primo termine della ser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AutoShape 3"/>
          <p:cNvSpPr/>
          <p:nvPr/>
        </p:nvSpPr>
        <p:spPr>
          <a:xfrm>
            <a:off x="3962520" y="736560"/>
            <a:ext cx="366480" cy="412920"/>
          </a:xfrm>
          <a:prstGeom prst="downArrow">
            <a:avLst>
              <a:gd name="adj1" fmla="val 50000"/>
              <a:gd name="adj2" fmla="val 2507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Rectangle 5"/>
          <p:cNvSpPr/>
          <p:nvPr/>
        </p:nvSpPr>
        <p:spPr>
          <a:xfrm>
            <a:off x="2647800" y="32749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2"/>
              <p:cNvSpPr txBox="1"/>
              <p:nvPr/>
            </p:nvSpPr>
            <p:spPr>
              <a:xfrm>
                <a:off x="1857240" y="1143000"/>
                <a:ext cx="49737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ΔN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N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N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N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9" name="Text Box 6"/>
          <p:cNvSpPr/>
          <p:nvPr/>
        </p:nvSpPr>
        <p:spPr>
          <a:xfrm>
            <a:off x="406440" y="1886040"/>
            <a:ext cx="7523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ltriment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AutoShape 7"/>
          <p:cNvSpPr/>
          <p:nvPr/>
        </p:nvSpPr>
        <p:spPr>
          <a:xfrm>
            <a:off x="3962520" y="2222640"/>
            <a:ext cx="366480" cy="412560"/>
          </a:xfrm>
          <a:prstGeom prst="downArrow">
            <a:avLst>
              <a:gd name="adj1" fmla="val 50000"/>
              <a:gd name="adj2" fmla="val 2505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3244680" y="32749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Object 3"/>
              <p:cNvSpPr txBox="1"/>
              <p:nvPr/>
            </p:nvSpPr>
            <p:spPr>
              <a:xfrm>
                <a:off x="2214720" y="2643120"/>
                <a:ext cx="38448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ΔN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ΔN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3" name="Rectangle 11"/>
          <p:cNvSpPr/>
          <p:nvPr/>
        </p:nvSpPr>
        <p:spPr>
          <a:xfrm>
            <a:off x="3994200" y="32608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Object 4"/>
              <p:cNvSpPr txBox="1"/>
              <p:nvPr/>
            </p:nvSpPr>
            <p:spPr>
              <a:xfrm>
                <a:off x="1500120" y="3571920"/>
                <a:ext cx="17478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Δ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Δ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5" name="Rectangle 13"/>
          <p:cNvSpPr/>
          <p:nvPr/>
        </p:nvSpPr>
        <p:spPr>
          <a:xfrm>
            <a:off x="3556080" y="32464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Object 5"/>
              <p:cNvSpPr txBox="1"/>
              <p:nvPr/>
            </p:nvSpPr>
            <p:spPr>
              <a:xfrm>
                <a:off x="4572000" y="3500280"/>
                <a:ext cx="29862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S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7" name="Text Box 14"/>
          <p:cNvSpPr/>
          <p:nvPr/>
        </p:nvSpPr>
        <p:spPr>
          <a:xfrm>
            <a:off x="711360" y="4743360"/>
            <a:ext cx="8127720" cy="67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’RSI è il rapporto tra la media delle variazioni positive di prezzo del periodo e la media delle variazioni negative di prezzo del perio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Caratteristiche del mercato azion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9B70-0D77-4BEA-9436-9365789EFEE4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1143000" y="2143080"/>
            <a:ext cx="594360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mogene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dipendenza dai gusti degli investito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dipendenza rispetto al luo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rande supporto informa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EBBC-935E-46BC-961A-939062DEA0F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Text Box 2"/>
          <p:cNvSpPr/>
          <p:nvPr/>
        </p:nvSpPr>
        <p:spPr>
          <a:xfrm>
            <a:off x="500040" y="857160"/>
            <a:ext cx="792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’RSI ha un campo di variazione compreso tra 0 e 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714240" y="1857240"/>
            <a:ext cx="3657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SI &gt; 70 o 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Zona di iper-compra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Line 5"/>
          <p:cNvSpPr/>
          <p:nvPr/>
        </p:nvSpPr>
        <p:spPr>
          <a:xfrm flipH="1">
            <a:off x="2643120" y="1285920"/>
            <a:ext cx="1524240" cy="51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Line 6"/>
          <p:cNvSpPr/>
          <p:nvPr/>
        </p:nvSpPr>
        <p:spPr>
          <a:xfrm>
            <a:off x="4357800" y="1285920"/>
            <a:ext cx="1523880" cy="51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Text Box 7"/>
          <p:cNvSpPr/>
          <p:nvPr/>
        </p:nvSpPr>
        <p:spPr>
          <a:xfrm>
            <a:off x="4572000" y="1857240"/>
            <a:ext cx="3657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SI &lt; 30 o 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Zona di iper-vendu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54" name="Object 2"/>
          <p:cNvGraphicFramePr/>
          <p:nvPr/>
        </p:nvGraphicFramePr>
        <p:xfrm>
          <a:off x="609480" y="3143160"/>
          <a:ext cx="822960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822960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Text Box 9"/>
          <p:cNvSpPr/>
          <p:nvPr/>
        </p:nvSpPr>
        <p:spPr>
          <a:xfrm>
            <a:off x="857160" y="2714760"/>
            <a:ext cx="4470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SI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B694-BBA6-4BCA-B7F8-C0CF22DB3A4F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Text Box 3"/>
          <p:cNvSpPr/>
          <p:nvPr/>
        </p:nvSpPr>
        <p:spPr>
          <a:xfrm>
            <a:off x="785880" y="2071800"/>
            <a:ext cx="7924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potesi di partenz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Quando il mercato è bull il prezzo di chiusura è vicino al massi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Quando il mercato è bear il prezzo di chiusura è vicino al mini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20"/>
          <p:cNvGrpSpPr/>
          <p:nvPr/>
        </p:nvGrpSpPr>
        <p:grpSpPr>
          <a:xfrm>
            <a:off x="214200" y="3429000"/>
            <a:ext cx="8215200" cy="1918080"/>
            <a:chOff x="214200" y="3429000"/>
            <a:chExt cx="8215200" cy="1918080"/>
          </a:xfrm>
        </p:grpSpPr>
        <p:sp>
          <p:nvSpPr>
            <p:cNvPr id="760" name="Text Box 4"/>
            <p:cNvSpPr/>
            <p:nvPr/>
          </p:nvSpPr>
          <p:spPr>
            <a:xfrm>
              <a:off x="944280" y="3429000"/>
              <a:ext cx="7120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Le componenti: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Text Box 5"/>
            <p:cNvSpPr/>
            <p:nvPr/>
          </p:nvSpPr>
          <p:spPr>
            <a:xfrm>
              <a:off x="579240" y="4114800"/>
              <a:ext cx="2007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%K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Text Box 6"/>
            <p:cNvSpPr/>
            <p:nvPr/>
          </p:nvSpPr>
          <p:spPr>
            <a:xfrm>
              <a:off x="3500280" y="4114800"/>
              <a:ext cx="2008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%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Text Box 7"/>
            <p:cNvSpPr/>
            <p:nvPr/>
          </p:nvSpPr>
          <p:spPr>
            <a:xfrm>
              <a:off x="6147360" y="4114800"/>
              <a:ext cx="2008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Signal l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Line 8"/>
            <p:cNvSpPr/>
            <p:nvPr/>
          </p:nvSpPr>
          <p:spPr>
            <a:xfrm flipH="1">
              <a:off x="1765800" y="3714480"/>
              <a:ext cx="255600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Line 9"/>
            <p:cNvSpPr/>
            <p:nvPr/>
          </p:nvSpPr>
          <p:spPr>
            <a:xfrm>
              <a:off x="4687200" y="3714480"/>
              <a:ext cx="246456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Line 10"/>
            <p:cNvSpPr/>
            <p:nvPr/>
          </p:nvSpPr>
          <p:spPr>
            <a:xfrm>
              <a:off x="4504320" y="3714480"/>
              <a:ext cx="0" cy="39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Text Box 11"/>
            <p:cNvSpPr/>
            <p:nvPr/>
          </p:nvSpPr>
          <p:spPr>
            <a:xfrm>
              <a:off x="214200" y="4743360"/>
              <a:ext cx="28296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Relazione tra Pc e price rang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AutoShape 12"/>
            <p:cNvSpPr/>
            <p:nvPr/>
          </p:nvSpPr>
          <p:spPr>
            <a:xfrm>
              <a:off x="1309320" y="4365720"/>
              <a:ext cx="329040" cy="411840"/>
            </a:xfrm>
            <a:prstGeom prst="downArrow">
              <a:avLst>
                <a:gd name="adj1" fmla="val 50000"/>
                <a:gd name="adj2" fmla="val 15646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Text Box 13"/>
            <p:cNvSpPr/>
            <p:nvPr/>
          </p:nvSpPr>
          <p:spPr>
            <a:xfrm>
              <a:off x="3226320" y="4743360"/>
              <a:ext cx="2738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Media costruita sul %K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Text Box 14"/>
            <p:cNvSpPr/>
            <p:nvPr/>
          </p:nvSpPr>
          <p:spPr>
            <a:xfrm>
              <a:off x="6056280" y="4743360"/>
              <a:ext cx="2373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Media mobile del %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1" name="AutoShape 15"/>
            <p:cNvSpPr/>
            <p:nvPr/>
          </p:nvSpPr>
          <p:spPr>
            <a:xfrm>
              <a:off x="6968880" y="4365720"/>
              <a:ext cx="329040" cy="411840"/>
            </a:xfrm>
            <a:prstGeom prst="downArrow">
              <a:avLst>
                <a:gd name="adj1" fmla="val 50000"/>
                <a:gd name="adj2" fmla="val 15646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2" name="AutoShape 16"/>
            <p:cNvSpPr/>
            <p:nvPr/>
          </p:nvSpPr>
          <p:spPr>
            <a:xfrm>
              <a:off x="4230360" y="4365720"/>
              <a:ext cx="329040" cy="411840"/>
            </a:xfrm>
            <a:prstGeom prst="downArrow">
              <a:avLst>
                <a:gd name="adj1" fmla="val 50000"/>
                <a:gd name="adj2" fmla="val 15646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3" name="Text Box 17"/>
          <p:cNvSpPr/>
          <p:nvPr/>
        </p:nvSpPr>
        <p:spPr>
          <a:xfrm>
            <a:off x="1219320" y="5772240"/>
            <a:ext cx="792468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 %K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100        Pc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rezzo massim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 %K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0            Pc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rezzo minim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AutoShape 18"/>
          <p:cNvSpPr/>
          <p:nvPr/>
        </p:nvSpPr>
        <p:spPr>
          <a:xfrm>
            <a:off x="2786040" y="5643720"/>
            <a:ext cx="260280" cy="73332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AutoShape 19"/>
          <p:cNvSpPr/>
          <p:nvPr/>
        </p:nvSpPr>
        <p:spPr>
          <a:xfrm>
            <a:off x="2786040" y="6124680"/>
            <a:ext cx="260280" cy="73332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6" name="Group 24"/>
          <p:cNvGrpSpPr/>
          <p:nvPr/>
        </p:nvGrpSpPr>
        <p:grpSpPr>
          <a:xfrm>
            <a:off x="812880" y="5429160"/>
            <a:ext cx="304200" cy="1143000"/>
            <a:chOff x="812880" y="5429160"/>
            <a:chExt cx="304200" cy="1143000"/>
          </a:xfrm>
        </p:grpSpPr>
        <p:sp>
          <p:nvSpPr>
            <p:cNvPr id="777" name="Line 21"/>
            <p:cNvSpPr/>
            <p:nvPr/>
          </p:nvSpPr>
          <p:spPr>
            <a:xfrm>
              <a:off x="812880" y="54291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8" name="Line 22"/>
            <p:cNvSpPr/>
            <p:nvPr/>
          </p:nvSpPr>
          <p:spPr>
            <a:xfrm>
              <a:off x="812880" y="60004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Line 23"/>
            <p:cNvSpPr/>
            <p:nvPr/>
          </p:nvSpPr>
          <p:spPr>
            <a:xfrm>
              <a:off x="812880" y="651492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o Stocastic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EA5C-20CB-4A87-90ED-31C6BD01F849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Text Box 2"/>
          <p:cNvSpPr/>
          <p:nvPr/>
        </p:nvSpPr>
        <p:spPr>
          <a:xfrm>
            <a:off x="711360" y="2000160"/>
            <a:ext cx="72183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Obiet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gliere il momento di inversione del tr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3" name="Group 9"/>
          <p:cNvGrpSpPr/>
          <p:nvPr/>
        </p:nvGrpSpPr>
        <p:grpSpPr>
          <a:xfrm>
            <a:off x="357120" y="3286080"/>
            <a:ext cx="8611920" cy="2681640"/>
            <a:chOff x="357120" y="3286080"/>
            <a:chExt cx="8611920" cy="2681640"/>
          </a:xfrm>
        </p:grpSpPr>
        <p:sp>
          <p:nvSpPr>
            <p:cNvPr id="784" name="Text Box 4"/>
            <p:cNvSpPr/>
            <p:nvPr/>
          </p:nvSpPr>
          <p:spPr>
            <a:xfrm>
              <a:off x="357120" y="3286080"/>
              <a:ext cx="3470760" cy="26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Se in un mercato bull il Pc tende ad avvicinarsi al minimo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Se in un mercato bear il Pc tende ad avvicinarsi al massimo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Text Box 5"/>
            <p:cNvSpPr/>
            <p:nvPr/>
          </p:nvSpPr>
          <p:spPr>
            <a:xfrm>
              <a:off x="4959360" y="3286080"/>
              <a:ext cx="39690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Possibile inizio di un trend ribassist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6" name="Text Box 6"/>
            <p:cNvSpPr/>
            <p:nvPr/>
          </p:nvSpPr>
          <p:spPr>
            <a:xfrm>
              <a:off x="4999320" y="4643640"/>
              <a:ext cx="39697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Possibile inizio di un trend rialzist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87" name="Freccia a destra 10"/>
          <p:cNvSpPr/>
          <p:nvPr/>
        </p:nvSpPr>
        <p:spPr>
          <a:xfrm>
            <a:off x="4000680" y="335772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Freccia a destra 11"/>
          <p:cNvSpPr/>
          <p:nvPr/>
        </p:nvSpPr>
        <p:spPr>
          <a:xfrm>
            <a:off x="4000680" y="464328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FAA6-1A84-403D-BC49-C0CBD895DF75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Text Box 2"/>
          <p:cNvSpPr/>
          <p:nvPr/>
        </p:nvSpPr>
        <p:spPr>
          <a:xfrm>
            <a:off x="1071720" y="1000080"/>
            <a:ext cx="666576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terminazione algebrica dello Stocas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1071720" y="1928880"/>
            <a:ext cx="3759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inea %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Object 2"/>
              <p:cNvSpPr txBox="1"/>
              <p:nvPr/>
            </p:nvSpPr>
            <p:spPr>
              <a:xfrm>
                <a:off x="1015920" y="4857840"/>
                <a:ext cx="23418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U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r>
                          <m:t xml:space="preserve">%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3" name="Rectangle 5"/>
          <p:cNvSpPr/>
          <p:nvPr/>
        </p:nvSpPr>
        <p:spPr>
          <a:xfrm>
            <a:off x="1000080" y="2286000"/>
            <a:ext cx="79246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periodo di rifer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prezzo di chiusura al tempo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N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prezzo minimo più basso negli ultimi N giorni (t compres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N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prezzo massimo più elevato negli ultimi N giorni (t  compres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UM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numeratore del %K al tempo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N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denominatore del %K al tempo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lunghezza del %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AF3E-EA4A-4255-90C3-85C2A2E1664F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Text Box 2"/>
          <p:cNvSpPr/>
          <p:nvPr/>
        </p:nvSpPr>
        <p:spPr>
          <a:xfrm>
            <a:off x="1143000" y="1214280"/>
            <a:ext cx="37591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inea %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785880" y="1928880"/>
            <a:ext cx="7619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periodo di rifer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UM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numeratore del %K al tempo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N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denominatore del %K al tempo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lunghezza del %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Rectangle 5"/>
          <p:cNvSpPr/>
          <p:nvPr/>
        </p:nvSpPr>
        <p:spPr>
          <a:xfrm>
            <a:off x="1981080" y="32464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2"/>
              <p:cNvSpPr txBox="1"/>
              <p:nvPr/>
            </p:nvSpPr>
            <p:spPr>
              <a:xfrm>
                <a:off x="857160" y="3357720"/>
                <a:ext cx="728676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%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9" name="Text Box 6"/>
          <p:cNvSpPr/>
          <p:nvPr/>
        </p:nvSpPr>
        <p:spPr>
          <a:xfrm>
            <a:off x="1071720" y="4214880"/>
            <a:ext cx="37591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gnal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Rectangle 7"/>
          <p:cNvSpPr/>
          <p:nvPr/>
        </p:nvSpPr>
        <p:spPr>
          <a:xfrm>
            <a:off x="1000080" y="4643280"/>
            <a:ext cx="660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periodo di rifer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lunghezza della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gnal li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Rectangle 9"/>
          <p:cNvSpPr/>
          <p:nvPr/>
        </p:nvSpPr>
        <p:spPr>
          <a:xfrm>
            <a:off x="2692440" y="32749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Object 3"/>
              <p:cNvSpPr txBox="1"/>
              <p:nvPr/>
            </p:nvSpPr>
            <p:spPr>
              <a:xfrm>
                <a:off x="928800" y="5500800"/>
                <a:ext cx="6234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%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%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%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%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7BD2-3620-4615-98D1-43384B915A1B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928800" y="1143000"/>
            <a:ext cx="66038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tochastic Trad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05" name="Group 9"/>
          <p:cNvGrpSpPr/>
          <p:nvPr/>
        </p:nvGrpSpPr>
        <p:grpSpPr>
          <a:xfrm>
            <a:off x="609480" y="1886040"/>
            <a:ext cx="7480080" cy="1584720"/>
            <a:chOff x="609480" y="1886040"/>
            <a:chExt cx="7480080" cy="1584720"/>
          </a:xfrm>
        </p:grpSpPr>
        <p:sp>
          <p:nvSpPr>
            <p:cNvPr id="806" name="Text Box 4"/>
            <p:cNvSpPr/>
            <p:nvPr/>
          </p:nvSpPr>
          <p:spPr>
            <a:xfrm>
              <a:off x="609480" y="1886040"/>
              <a:ext cx="3759120" cy="15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Se %D taglia dal basso verso l’alto la sua medi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Se %D taglia dall’alto verso il basso la sua medi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7" name="Text Box 5"/>
            <p:cNvSpPr/>
            <p:nvPr/>
          </p:nvSpPr>
          <p:spPr>
            <a:xfrm>
              <a:off x="5143320" y="1928880"/>
              <a:ext cx="294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Segnale di acquisto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8" name="Text Box 6"/>
            <p:cNvSpPr/>
            <p:nvPr/>
          </p:nvSpPr>
          <p:spPr>
            <a:xfrm>
              <a:off x="5143320" y="2786040"/>
              <a:ext cx="2641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Segnale di vendit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809" name="Object 2"/>
          <p:cNvGraphicFramePr/>
          <p:nvPr/>
        </p:nvGraphicFramePr>
        <p:xfrm>
          <a:off x="406440" y="3500280"/>
          <a:ext cx="7924680" cy="32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3500280"/>
                    <a:ext cx="7924680" cy="32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Freccia a destra 10"/>
          <p:cNvSpPr/>
          <p:nvPr/>
        </p:nvSpPr>
        <p:spPr>
          <a:xfrm>
            <a:off x="4214880" y="2000160"/>
            <a:ext cx="571320" cy="214560"/>
          </a:xfrm>
          <a:prstGeom prst="rightArrow">
            <a:avLst>
              <a:gd name="adj1" fmla="val 50000"/>
              <a:gd name="adj2" fmla="val 4992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Freccia a destra 11"/>
          <p:cNvSpPr/>
          <p:nvPr/>
        </p:nvSpPr>
        <p:spPr>
          <a:xfrm>
            <a:off x="4214880" y="2857680"/>
            <a:ext cx="571320" cy="214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905B-9911-478B-AE6C-A8B83B942275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Text Box 3"/>
          <p:cNvSpPr/>
          <p:nvPr/>
        </p:nvSpPr>
        <p:spPr>
          <a:xfrm>
            <a:off x="785880" y="2071800"/>
            <a:ext cx="7432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potesi di partenz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Quando il mercato è bull il prezzo di chiusura è vicino al massi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1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Quando il mercato è bear il prezzo di chiusura è vicino al mini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Text Box 4"/>
          <p:cNvSpPr/>
          <p:nvPr/>
        </p:nvSpPr>
        <p:spPr>
          <a:xfrm>
            <a:off x="304920" y="3772080"/>
            <a:ext cx="792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-100 &lt; %R &l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Text Box 6"/>
          <p:cNvSpPr/>
          <p:nvPr/>
        </p:nvSpPr>
        <p:spPr>
          <a:xfrm>
            <a:off x="812880" y="4514760"/>
            <a:ext cx="79246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 %R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0                   Pc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prezzo massi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 %K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-100              Pc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prezzo mini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Williams %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8" name="Freccia a destra 10"/>
          <p:cNvSpPr/>
          <p:nvPr/>
        </p:nvSpPr>
        <p:spPr>
          <a:xfrm>
            <a:off x="2643120" y="521496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Freccia a destra 11"/>
          <p:cNvSpPr/>
          <p:nvPr/>
        </p:nvSpPr>
        <p:spPr>
          <a:xfrm>
            <a:off x="2643120" y="4572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743F-3335-4332-8745-A9C732DFF68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3397320" y="32464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Object 2"/>
              <p:cNvSpPr txBox="1"/>
              <p:nvPr/>
            </p:nvSpPr>
            <p:spPr>
              <a:xfrm>
                <a:off x="1143000" y="785880"/>
                <a:ext cx="4643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%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N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3" name="Rectangle 4"/>
          <p:cNvSpPr/>
          <p:nvPr/>
        </p:nvSpPr>
        <p:spPr>
          <a:xfrm>
            <a:off x="714240" y="1928880"/>
            <a:ext cx="7823160" cy="19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periodo di rifer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prezzo di chiusura al tempo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N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prezzo massimo più elevato negli ultimi N giorni (t compres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N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prezzo minimo più basso negli ultimi N giorni (t compreso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24" name="Object 3"/>
          <p:cNvGraphicFramePr/>
          <p:nvPr/>
        </p:nvGraphicFramePr>
        <p:xfrm>
          <a:off x="406440" y="3429000"/>
          <a:ext cx="822960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3429000"/>
                    <a:ext cx="822960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’efficienza informativ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Segnaposto numero diapositiva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AB71-A46A-447A-AAF3-DB6242CC75F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1357200" y="1857240"/>
            <a:ext cx="5500800" cy="188388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marL="90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 mercato è efficiente sotto il profilo informativo se in ogni momento i prezzi rispecchiano pienamente le informazioni disponibili (Fam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CasellaDiTesto 4"/>
          <p:cNvSpPr/>
          <p:nvPr/>
        </p:nvSpPr>
        <p:spPr>
          <a:xfrm>
            <a:off x="1428840" y="3929040"/>
            <a:ext cx="571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fficienza in forma debo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fficienza in forma semi-for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fficienza in forma semi-for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erta Pace</cp:lastModifiedBy>
  <dcterms:modified xsi:type="dcterms:W3CDTF">2018-10-01T14:08:55Z</dcterms:modified>
  <cp:revision>80</cp:revision>
  <dc:subject/>
  <dc:title>PowerPoint Presentation</dc:title>
</cp:coreProperties>
</file>