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8460-CDF2-4FF0-9A74-81CBCD884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21D4-B60E-400C-926B-ABDC355F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ACE2-F4BB-4FA6-ADDA-79B7EA83F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5269-8CE0-48F3-8F80-EC075E93D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689E-1E69-44DE-B6A3-5D224DE73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2FCE-DA17-4CC6-B535-835D010C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8989-B70E-4B8A-8314-41350BBF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0DCE-974B-474D-93CD-2793888D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66318-5468-4477-A26F-F12D3352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D33B8-FAE8-4E8A-9CEE-67A0E4FB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8C32-BA36-4B6B-A73F-1001D42C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4728-1362-4F6E-AF49-1FFD0F8F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D752-9F04-4B25-98B9-38367C9C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28B1-5CF8-4809-A2EE-BEC85381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CD20-5D0F-4E94-840C-4B1EBFD4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E48A-6ABA-458B-9E61-5C5956CA0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D22C-C5EF-4AEB-B76A-DB9B65575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CBCC-521D-450B-93CF-419045B3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A93D-0D0B-4141-B046-C22AB31E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FB69-04C5-4507-A510-751A86A4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D890-5DCA-47DA-8A10-0088F6EB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AE26-60F0-4B72-A994-D1B39E59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2034-8532-406B-B300-7A9D3816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C6AC-2C27-42A0-8A16-D23F5F33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F59E-6154-4B85-9E90-9F61E04D919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D621-F390-4A40-A6E9-D69A815290B2}" type="slidenum">
              <a:rPr b="0" lang="it-IT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815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Tahoma"/>
              </a:rPr>
              <a:t>Corso di Valutazione delle aziende</a:t>
            </a:r>
            <a:br>
              <a:rPr sz="4000"/>
            </a:br>
            <a:r>
              <a:rPr b="0" lang="it-IT" sz="4000" spc="-1" strike="noStrike">
                <a:solidFill>
                  <a:srgbClr val="333399"/>
                </a:solidFill>
                <a:latin typeface="Tahoma"/>
              </a:rPr>
              <a:t>Gestione e diffusione del valor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04292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f.ssa Roberta 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Università degli Studi dell’Aqui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.a. 2018-20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La catena del valo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D944-3F2C-49C8-BBA5-D2503A885712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2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" name="Group 3"/>
          <p:cNvGrpSpPr/>
          <p:nvPr/>
        </p:nvGrpSpPr>
        <p:grpSpPr>
          <a:xfrm>
            <a:off x="785880" y="2143080"/>
            <a:ext cx="7643880" cy="3500640"/>
            <a:chOff x="785880" y="2143080"/>
            <a:chExt cx="7643880" cy="3500640"/>
          </a:xfrm>
        </p:grpSpPr>
        <p:sp>
          <p:nvSpPr>
            <p:cNvPr id="158" name="AutoShape 24"/>
            <p:cNvSpPr/>
            <p:nvPr/>
          </p:nvSpPr>
          <p:spPr>
            <a:xfrm>
              <a:off x="785880" y="2143080"/>
              <a:ext cx="7643880" cy="350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AutoShape 23"/>
            <p:cNvSpPr/>
            <p:nvPr/>
          </p:nvSpPr>
          <p:spPr>
            <a:xfrm>
              <a:off x="1804680" y="2143080"/>
              <a:ext cx="6454800" cy="2981880"/>
            </a:xfrm>
            <a:custGeom>
              <a:avLst/>
              <a:gdLst>
                <a:gd name="textAreaLeft" fmla="*/ 0 w 6454800"/>
                <a:gd name="textAreaRight" fmla="*/ 6455160 w 6454800"/>
                <a:gd name="textAreaTop" fmla="*/ 0 h 2981880"/>
                <a:gd name="textAreaBottom" fmla="*/ 2982240 h 298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Line 22"/>
            <p:cNvSpPr/>
            <p:nvPr/>
          </p:nvSpPr>
          <p:spPr>
            <a:xfrm>
              <a:off x="1804680" y="3699000"/>
              <a:ext cx="64548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Line 21"/>
            <p:cNvSpPr/>
            <p:nvPr/>
          </p:nvSpPr>
          <p:spPr>
            <a:xfrm>
              <a:off x="2993760" y="3699000"/>
              <a:ext cx="720" cy="142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Line 20"/>
            <p:cNvSpPr/>
            <p:nvPr/>
          </p:nvSpPr>
          <p:spPr>
            <a:xfrm>
              <a:off x="4182840" y="3699000"/>
              <a:ext cx="720" cy="142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Line 19"/>
            <p:cNvSpPr/>
            <p:nvPr/>
          </p:nvSpPr>
          <p:spPr>
            <a:xfrm>
              <a:off x="5371920" y="3699000"/>
              <a:ext cx="0" cy="142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Line 18"/>
            <p:cNvSpPr/>
            <p:nvPr/>
          </p:nvSpPr>
          <p:spPr>
            <a:xfrm>
              <a:off x="6561360" y="3699000"/>
              <a:ext cx="720" cy="142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Line 17"/>
            <p:cNvSpPr/>
            <p:nvPr/>
          </p:nvSpPr>
          <p:spPr>
            <a:xfrm>
              <a:off x="1804680" y="3309840"/>
              <a:ext cx="61149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Line 16"/>
            <p:cNvSpPr/>
            <p:nvPr/>
          </p:nvSpPr>
          <p:spPr>
            <a:xfrm>
              <a:off x="1804680" y="2921040"/>
              <a:ext cx="560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Line 15"/>
            <p:cNvSpPr/>
            <p:nvPr/>
          </p:nvSpPr>
          <p:spPr>
            <a:xfrm>
              <a:off x="1804680" y="2531880"/>
              <a:ext cx="5265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Text Box 14"/>
            <p:cNvSpPr/>
            <p:nvPr/>
          </p:nvSpPr>
          <p:spPr>
            <a:xfrm>
              <a:off x="1974960" y="4087800"/>
              <a:ext cx="849240" cy="64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Logistica in entr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" name="Text Box 13"/>
            <p:cNvSpPr/>
            <p:nvPr/>
          </p:nvSpPr>
          <p:spPr>
            <a:xfrm>
              <a:off x="4353120" y="4087800"/>
              <a:ext cx="848880" cy="64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Logistica in usci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" name="Text Box 12"/>
            <p:cNvSpPr/>
            <p:nvPr/>
          </p:nvSpPr>
          <p:spPr>
            <a:xfrm>
              <a:off x="3164040" y="4087800"/>
              <a:ext cx="848880" cy="64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Attività operativ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" name="Text Box 11"/>
            <p:cNvSpPr/>
            <p:nvPr/>
          </p:nvSpPr>
          <p:spPr>
            <a:xfrm>
              <a:off x="5541840" y="4087800"/>
              <a:ext cx="849240" cy="64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arketing e vendit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" name="Text Box 10"/>
            <p:cNvSpPr/>
            <p:nvPr/>
          </p:nvSpPr>
          <p:spPr>
            <a:xfrm>
              <a:off x="6730920" y="4087800"/>
              <a:ext cx="679320" cy="25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ervizi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" name="Text Box 9"/>
            <p:cNvSpPr/>
            <p:nvPr/>
          </p:nvSpPr>
          <p:spPr>
            <a:xfrm>
              <a:off x="2824200" y="2272680"/>
              <a:ext cx="312948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Attività infrastrutturali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4" name="Text Box 8"/>
            <p:cNvSpPr/>
            <p:nvPr/>
          </p:nvSpPr>
          <p:spPr>
            <a:xfrm>
              <a:off x="2824200" y="2661840"/>
              <a:ext cx="312948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Gestione delle risorse uman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" name="Text Box 7"/>
            <p:cNvSpPr/>
            <p:nvPr/>
          </p:nvSpPr>
          <p:spPr>
            <a:xfrm>
              <a:off x="2824200" y="3050640"/>
              <a:ext cx="312948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viluppo delle tecnologi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" name="Text Box 6"/>
            <p:cNvSpPr/>
            <p:nvPr/>
          </p:nvSpPr>
          <p:spPr>
            <a:xfrm>
              <a:off x="2824200" y="3439440"/>
              <a:ext cx="312948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Approvvigionamento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Text Box 5"/>
            <p:cNvSpPr/>
            <p:nvPr/>
          </p:nvSpPr>
          <p:spPr>
            <a:xfrm>
              <a:off x="3503520" y="5254920"/>
              <a:ext cx="2717640" cy="25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Attività primari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Text Box 4"/>
            <p:cNvSpPr/>
            <p:nvPr/>
          </p:nvSpPr>
          <p:spPr>
            <a:xfrm>
              <a:off x="785880" y="2661840"/>
              <a:ext cx="1018800" cy="90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Attività di supporto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" name="Rectangle 37"/>
          <p:cNvSpPr/>
          <p:nvPr/>
        </p:nvSpPr>
        <p:spPr>
          <a:xfrm>
            <a:off x="18108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CasellaDiTesto 29"/>
          <p:cNvSpPr/>
          <p:nvPr/>
        </p:nvSpPr>
        <p:spPr>
          <a:xfrm>
            <a:off x="1071720" y="5857920"/>
            <a:ext cx="63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assaggio al concetto di “rete del valor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La pianificazione di portafogli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BDD2-E55E-4D25-8790-326702E1CA56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CasellaDiTesto 3"/>
          <p:cNvSpPr/>
          <p:nvPr/>
        </p:nvSpPr>
        <p:spPr>
          <a:xfrm>
            <a:off x="1214280" y="2000160"/>
            <a:ext cx="650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’azienda è vista come un portafoglio di busi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70c0"/>
                </a:solidFill>
                <a:latin typeface="Tahoma"/>
              </a:rPr>
              <a:t>Matrice BC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" name="Group 2"/>
          <p:cNvGrpSpPr/>
          <p:nvPr/>
        </p:nvGrpSpPr>
        <p:grpSpPr>
          <a:xfrm>
            <a:off x="1285920" y="3714840"/>
            <a:ext cx="5714640" cy="2714040"/>
            <a:chOff x="1285920" y="3714840"/>
            <a:chExt cx="5714640" cy="2714040"/>
          </a:xfrm>
        </p:grpSpPr>
        <p:sp>
          <p:nvSpPr>
            <p:cNvPr id="185" name="Text Box 3"/>
            <p:cNvSpPr/>
            <p:nvPr/>
          </p:nvSpPr>
          <p:spPr>
            <a:xfrm>
              <a:off x="1285920" y="4422960"/>
              <a:ext cx="869400" cy="59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Times New Roman"/>
                </a:rPr>
                <a:t>Tasso di</a:t>
              </a: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it-IT" sz="1600" spc="-1" strike="noStrike">
                  <a:solidFill>
                    <a:srgbClr val="000000"/>
                  </a:solidFill>
                  <a:latin typeface="Times New Roman"/>
                </a:rPr>
                <a:t>crescit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Text Box 4"/>
            <p:cNvSpPr/>
            <p:nvPr/>
          </p:nvSpPr>
          <p:spPr>
            <a:xfrm>
              <a:off x="3149280" y="6075000"/>
              <a:ext cx="2484720" cy="35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Times New Roman"/>
                </a:rPr>
                <a:t>Quota di mercato relativ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" name="Rectangle 5"/>
            <p:cNvSpPr/>
            <p:nvPr/>
          </p:nvSpPr>
          <p:spPr>
            <a:xfrm>
              <a:off x="2155320" y="3714840"/>
              <a:ext cx="4845240" cy="2360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" name="Line 6"/>
            <p:cNvSpPr/>
            <p:nvPr/>
          </p:nvSpPr>
          <p:spPr>
            <a:xfrm>
              <a:off x="4516200" y="3714840"/>
              <a:ext cx="0" cy="2360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Line 7"/>
            <p:cNvSpPr/>
            <p:nvPr/>
          </p:nvSpPr>
          <p:spPr>
            <a:xfrm>
              <a:off x="2155320" y="4894920"/>
              <a:ext cx="4845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Text Box 8"/>
            <p:cNvSpPr/>
            <p:nvPr/>
          </p:nvSpPr>
          <p:spPr>
            <a:xfrm>
              <a:off x="2806920" y="4041000"/>
              <a:ext cx="1118160" cy="47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Times New Roman"/>
                </a:rPr>
                <a:t>STAR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Text Box 9"/>
            <p:cNvSpPr/>
            <p:nvPr/>
          </p:nvSpPr>
          <p:spPr>
            <a:xfrm>
              <a:off x="4640400" y="4186800"/>
              <a:ext cx="2236320" cy="35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STION MARK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Text Box 10"/>
            <p:cNvSpPr/>
            <p:nvPr/>
          </p:nvSpPr>
          <p:spPr>
            <a:xfrm>
              <a:off x="2496240" y="5073840"/>
              <a:ext cx="1614960" cy="47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Times New Roman"/>
                </a:rPr>
                <a:t>CASH COW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Text Box 11"/>
            <p:cNvSpPr/>
            <p:nvPr/>
          </p:nvSpPr>
          <p:spPr>
            <a:xfrm>
              <a:off x="5385600" y="5249160"/>
              <a:ext cx="869400" cy="47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OG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Text Box 12"/>
            <p:cNvSpPr/>
            <p:nvPr/>
          </p:nvSpPr>
          <p:spPr>
            <a:xfrm>
              <a:off x="2185560" y="6106320"/>
              <a:ext cx="621000" cy="29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Text Box 13"/>
            <p:cNvSpPr/>
            <p:nvPr/>
          </p:nvSpPr>
          <p:spPr>
            <a:xfrm>
              <a:off x="1409040" y="3745800"/>
              <a:ext cx="621000" cy="29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Text Box 14"/>
            <p:cNvSpPr/>
            <p:nvPr/>
          </p:nvSpPr>
          <p:spPr>
            <a:xfrm>
              <a:off x="1409040" y="5663880"/>
              <a:ext cx="621000" cy="29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 –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Text Box 15"/>
            <p:cNvSpPr/>
            <p:nvPr/>
          </p:nvSpPr>
          <p:spPr>
            <a:xfrm>
              <a:off x="6068160" y="6106320"/>
              <a:ext cx="621000" cy="29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 –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La matrice di creazione del valo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01AA-E05A-4AEF-A40B-855C8CB17A0D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Rettangolo 11"/>
          <p:cNvSpPr/>
          <p:nvPr/>
        </p:nvSpPr>
        <p:spPr>
          <a:xfrm>
            <a:off x="2143080" y="2357280"/>
            <a:ext cx="2214720" cy="142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ttangolo 12"/>
          <p:cNvSpPr/>
          <p:nvPr/>
        </p:nvSpPr>
        <p:spPr>
          <a:xfrm>
            <a:off x="4357800" y="2357280"/>
            <a:ext cx="2214360" cy="142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Rettangolo 13"/>
          <p:cNvSpPr/>
          <p:nvPr/>
        </p:nvSpPr>
        <p:spPr>
          <a:xfrm>
            <a:off x="2143080" y="3786120"/>
            <a:ext cx="2214720" cy="142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ttangolo 14"/>
          <p:cNvSpPr/>
          <p:nvPr/>
        </p:nvSpPr>
        <p:spPr>
          <a:xfrm>
            <a:off x="4357800" y="3786120"/>
            <a:ext cx="2214360" cy="142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CasellaDiTesto 15"/>
          <p:cNvSpPr/>
          <p:nvPr/>
        </p:nvSpPr>
        <p:spPr>
          <a:xfrm>
            <a:off x="4714920" y="2714760"/>
            <a:ext cx="15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Business che creano val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CasellaDiTesto 16"/>
          <p:cNvSpPr/>
          <p:nvPr/>
        </p:nvSpPr>
        <p:spPr>
          <a:xfrm>
            <a:off x="2500200" y="4000680"/>
            <a:ext cx="15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Business che distruggono val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CasellaDiTesto 18"/>
          <p:cNvSpPr/>
          <p:nvPr/>
        </p:nvSpPr>
        <p:spPr>
          <a:xfrm>
            <a:off x="4643280" y="4143240"/>
            <a:ext cx="17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Business sottovalutat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CasellaDiTesto 19"/>
          <p:cNvSpPr/>
          <p:nvPr/>
        </p:nvSpPr>
        <p:spPr>
          <a:xfrm>
            <a:off x="2500200" y="2714760"/>
            <a:ext cx="17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Business sopravvalutat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CasellaDiTesto 20"/>
          <p:cNvSpPr/>
          <p:nvPr/>
        </p:nvSpPr>
        <p:spPr>
          <a:xfrm>
            <a:off x="1143000" y="3571920"/>
            <a:ext cx="78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CasellaDiTesto 21"/>
          <p:cNvSpPr/>
          <p:nvPr/>
        </p:nvSpPr>
        <p:spPr>
          <a:xfrm>
            <a:off x="3429000" y="535788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OI – wac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CasellaDiTesto 22"/>
          <p:cNvSpPr/>
          <p:nvPr/>
        </p:nvSpPr>
        <p:spPr>
          <a:xfrm>
            <a:off x="1428840" y="450072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CasellaDiTesto 23"/>
          <p:cNvSpPr/>
          <p:nvPr/>
        </p:nvSpPr>
        <p:spPr>
          <a:xfrm>
            <a:off x="2286000" y="528624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CasellaDiTesto 24"/>
          <p:cNvSpPr/>
          <p:nvPr/>
        </p:nvSpPr>
        <p:spPr>
          <a:xfrm>
            <a:off x="1500120" y="242892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CasellaDiTesto 25"/>
          <p:cNvSpPr/>
          <p:nvPr/>
        </p:nvSpPr>
        <p:spPr>
          <a:xfrm>
            <a:off x="5857920" y="528624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l pentagono del valo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2BD3-2AEF-40AA-A48D-559584C23E28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Rectangle 35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Line 8"/>
          <p:cNvSpPr/>
          <p:nvPr/>
        </p:nvSpPr>
        <p:spPr>
          <a:xfrm>
            <a:off x="3191040" y="543384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8" name="Group 23"/>
          <p:cNvGrpSpPr/>
          <p:nvPr/>
        </p:nvGrpSpPr>
        <p:grpSpPr>
          <a:xfrm>
            <a:off x="1285920" y="1928880"/>
            <a:ext cx="6477120" cy="4337640"/>
            <a:chOff x="1285920" y="1928880"/>
            <a:chExt cx="6477120" cy="4337640"/>
          </a:xfrm>
        </p:grpSpPr>
        <p:sp>
          <p:nvSpPr>
            <p:cNvPr id="219" name="Line 9"/>
            <p:cNvSpPr/>
            <p:nvPr/>
          </p:nvSpPr>
          <p:spPr>
            <a:xfrm flipV="1">
              <a:off x="5477040" y="3980880"/>
              <a:ext cx="762120" cy="1420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Line 10"/>
            <p:cNvSpPr/>
            <p:nvPr/>
          </p:nvSpPr>
          <p:spPr>
            <a:xfrm flipH="1" flipV="1">
              <a:off x="2276640" y="3980880"/>
              <a:ext cx="914400" cy="1420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Line 11"/>
            <p:cNvSpPr/>
            <p:nvPr/>
          </p:nvSpPr>
          <p:spPr>
            <a:xfrm flipV="1">
              <a:off x="2276640" y="2717640"/>
              <a:ext cx="1981080" cy="126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" name="Line 12"/>
            <p:cNvSpPr/>
            <p:nvPr/>
          </p:nvSpPr>
          <p:spPr>
            <a:xfrm flipH="1" flipV="1">
              <a:off x="4257720" y="2717640"/>
              <a:ext cx="1981440" cy="126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Oval 13"/>
            <p:cNvSpPr/>
            <p:nvPr/>
          </p:nvSpPr>
          <p:spPr>
            <a:xfrm>
              <a:off x="1971720" y="3668400"/>
              <a:ext cx="540000" cy="5173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Oval 14"/>
            <p:cNvSpPr/>
            <p:nvPr/>
          </p:nvSpPr>
          <p:spPr>
            <a:xfrm>
              <a:off x="5934240" y="3668400"/>
              <a:ext cx="539640" cy="5173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Oval 15"/>
            <p:cNvSpPr/>
            <p:nvPr/>
          </p:nvSpPr>
          <p:spPr>
            <a:xfrm>
              <a:off x="5172120" y="5168160"/>
              <a:ext cx="540000" cy="5173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Oval 16"/>
            <p:cNvSpPr/>
            <p:nvPr/>
          </p:nvSpPr>
          <p:spPr>
            <a:xfrm>
              <a:off x="2962440" y="5168160"/>
              <a:ext cx="539640" cy="5173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" name="Oval 17"/>
            <p:cNvSpPr/>
            <p:nvPr/>
          </p:nvSpPr>
          <p:spPr>
            <a:xfrm>
              <a:off x="3953160" y="2484360"/>
              <a:ext cx="539640" cy="5173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2962440" y="1928880"/>
              <a:ext cx="25909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ahoma"/>
                </a:rPr>
                <a:t>Valore di mercato attual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Text Box 19"/>
            <p:cNvSpPr/>
            <p:nvPr/>
          </p:nvSpPr>
          <p:spPr>
            <a:xfrm>
              <a:off x="1285920" y="2718000"/>
              <a:ext cx="13716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ahoma"/>
                </a:rPr>
                <a:t>Valore economico “AS  IS”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Text Box 20"/>
            <p:cNvSpPr/>
            <p:nvPr/>
          </p:nvSpPr>
          <p:spPr>
            <a:xfrm>
              <a:off x="1438560" y="5717520"/>
              <a:ext cx="28191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ahoma"/>
                </a:rPr>
                <a:t>Valore potenziale dopo miglioramenti intern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Text Box 21"/>
            <p:cNvSpPr/>
            <p:nvPr/>
          </p:nvSpPr>
          <p:spPr>
            <a:xfrm>
              <a:off x="4562640" y="5717520"/>
              <a:ext cx="29718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ahoma"/>
                </a:rPr>
                <a:t>Valore potenziale dopo miglioramenti estern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Text Box 22"/>
            <p:cNvSpPr/>
            <p:nvPr/>
          </p:nvSpPr>
          <p:spPr>
            <a:xfrm>
              <a:off x="5553360" y="2876040"/>
              <a:ext cx="22096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ahoma"/>
                </a:rPr>
                <a:t>Valore ottimale ristrutturat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l rombo del valo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EE62-237E-467B-91D8-D21DE0382DD5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5" name="Group 11"/>
          <p:cNvGrpSpPr/>
          <p:nvPr/>
        </p:nvGrpSpPr>
        <p:grpSpPr>
          <a:xfrm>
            <a:off x="2023920" y="2422440"/>
            <a:ext cx="4495680" cy="3810240"/>
            <a:chOff x="2023920" y="2422440"/>
            <a:chExt cx="4495680" cy="3810240"/>
          </a:xfrm>
        </p:grpSpPr>
        <p:sp>
          <p:nvSpPr>
            <p:cNvPr id="236" name="Rectangle 3"/>
            <p:cNvSpPr/>
            <p:nvPr/>
          </p:nvSpPr>
          <p:spPr>
            <a:xfrm>
              <a:off x="2023920" y="2422440"/>
              <a:ext cx="4495680" cy="3810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Line 4"/>
            <p:cNvSpPr/>
            <p:nvPr/>
          </p:nvSpPr>
          <p:spPr>
            <a:xfrm>
              <a:off x="4233600" y="2422440"/>
              <a:ext cx="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" name="Line 5"/>
            <p:cNvSpPr/>
            <p:nvPr/>
          </p:nvSpPr>
          <p:spPr>
            <a:xfrm>
              <a:off x="2100240" y="4251240"/>
              <a:ext cx="441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Line 6"/>
            <p:cNvSpPr/>
            <p:nvPr/>
          </p:nvSpPr>
          <p:spPr>
            <a:xfrm flipH="1">
              <a:off x="2023920" y="2498760"/>
              <a:ext cx="22096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Line 7"/>
            <p:cNvSpPr/>
            <p:nvPr/>
          </p:nvSpPr>
          <p:spPr>
            <a:xfrm>
              <a:off x="2023920" y="4251240"/>
              <a:ext cx="220968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Line 8"/>
            <p:cNvSpPr/>
            <p:nvPr/>
          </p:nvSpPr>
          <p:spPr>
            <a:xfrm>
              <a:off x="4233600" y="2422440"/>
              <a:ext cx="228600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Line 10"/>
            <p:cNvSpPr/>
            <p:nvPr/>
          </p:nvSpPr>
          <p:spPr>
            <a:xfrm flipH="1">
              <a:off x="4233600" y="4251240"/>
              <a:ext cx="228600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3" name="Text Box 12"/>
          <p:cNvSpPr/>
          <p:nvPr/>
        </p:nvSpPr>
        <p:spPr>
          <a:xfrm>
            <a:off x="2862360" y="646128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Eccellenza dei process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Text Box 13"/>
          <p:cNvSpPr/>
          <p:nvPr/>
        </p:nvSpPr>
        <p:spPr>
          <a:xfrm>
            <a:off x="804960" y="34894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Validità meta ski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Text Box 14"/>
          <p:cNvSpPr/>
          <p:nvPr/>
        </p:nvSpPr>
        <p:spPr>
          <a:xfrm>
            <a:off x="2786040" y="18892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Attrattività del busin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Text Box 15"/>
          <p:cNvSpPr/>
          <p:nvPr/>
        </p:nvSpPr>
        <p:spPr>
          <a:xfrm>
            <a:off x="6519960" y="34894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Rilevanza unicit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 Box 16"/>
          <p:cNvSpPr/>
          <p:nvPr/>
        </p:nvSpPr>
        <p:spPr>
          <a:xfrm>
            <a:off x="3319560" y="3794040"/>
            <a:ext cx="19047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Forza competitiva dell’impre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La misurazione del valo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0700-1F7A-4BE8-B148-C9D62DA995B0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CasellaDiTesto 3"/>
          <p:cNvSpPr/>
          <p:nvPr/>
        </p:nvSpPr>
        <p:spPr>
          <a:xfrm>
            <a:off x="1214280" y="2286000"/>
            <a:ext cx="51436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’Economic Value Added (EV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isultato economico integrato residuale (RE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L’Economic Value Adde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70E8-E19F-47CE-871C-685E5A0A51FE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1"/>
              <p:cNvSpPr txBox="1"/>
              <p:nvPr/>
            </p:nvSpPr>
            <p:spPr>
              <a:xfrm>
                <a:off x="1214280" y="2286000"/>
                <a:ext cx="3727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OPAT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wac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I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5" name="CasellaDiTesto 5"/>
          <p:cNvSpPr/>
          <p:nvPr/>
        </p:nvSpPr>
        <p:spPr>
          <a:xfrm>
            <a:off x="1214280" y="3214800"/>
            <a:ext cx="3357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Ricavi di vendi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- consumi di mater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- costo del lavor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- ammortament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reddito operativ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- imposte della gestione operati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= NOP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4643280" y="3286080"/>
          <a:ext cx="3929400" cy="3017880"/>
        </p:xfrm>
        <a:graphic>
          <a:graphicData uri="http://schemas.openxmlformats.org/drawingml/2006/table">
            <a:tbl>
              <a:tblPr/>
              <a:tblGrid>
                <a:gridCol w="3929400"/>
              </a:tblGrid>
              <a:tr h="5490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ttività operative legate al ciclo corr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–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ssività legate alla gestione corr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= Capitale circolante netto commerciale o operativo (CCN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+ Altre attività correnti legate alla strut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+ Investimenti accesso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+ Investimenti finanzia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= Capitale investito netto (</a:t>
                      </a:r>
                      <a:r>
                        <a:rPr b="1" i="1" lang="it-IT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IN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l Market Value Adde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6BF7-9BAA-40F1-8F65-19A039F95640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1"/>
              <p:cNvSpPr txBox="1"/>
              <p:nvPr/>
            </p:nvSpPr>
            <p:spPr>
              <a:xfrm>
                <a:off x="1285920" y="2214720"/>
                <a:ext cx="216540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VA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V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nary>
                    <m:r>
                      <m:t xml:space="preserve">⋅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3"/>
              <p:cNvSpPr txBox="1"/>
              <p:nvPr/>
            </p:nvSpPr>
            <p:spPr>
              <a:xfrm>
                <a:off x="4071960" y="2428920"/>
                <a:ext cx="20113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V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M</m:t>
                    </m:r>
                    <m:r>
                      <m:t xml:space="preserve">−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5"/>
              <p:cNvSpPr txBox="1"/>
              <p:nvPr/>
            </p:nvSpPr>
            <p:spPr>
              <a:xfrm>
                <a:off x="1285920" y="3071880"/>
                <a:ext cx="27432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M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V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nary>
                    <m:r>
                      <m:t xml:space="preserve">⋅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6" name="Group 7"/>
          <p:cNvGrpSpPr/>
          <p:nvPr/>
        </p:nvGrpSpPr>
        <p:grpSpPr>
          <a:xfrm>
            <a:off x="1500120" y="4071960"/>
            <a:ext cx="5143680" cy="2571840"/>
            <a:chOff x="1500120" y="4071960"/>
            <a:chExt cx="5143680" cy="2571840"/>
          </a:xfrm>
        </p:grpSpPr>
        <p:sp>
          <p:nvSpPr>
            <p:cNvPr id="267" name="Text Box 15"/>
            <p:cNvSpPr/>
            <p:nvPr/>
          </p:nvSpPr>
          <p:spPr>
            <a:xfrm>
              <a:off x="1500120" y="4525560"/>
              <a:ext cx="964080" cy="211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Valore di mercato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" name="Text Box 14"/>
            <p:cNvSpPr/>
            <p:nvPr/>
          </p:nvSpPr>
          <p:spPr>
            <a:xfrm>
              <a:off x="2625120" y="5433480"/>
              <a:ext cx="964080" cy="121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apitale investito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" name="Text Box 13"/>
            <p:cNvSpPr/>
            <p:nvPr/>
          </p:nvSpPr>
          <p:spPr>
            <a:xfrm>
              <a:off x="2625120" y="4525560"/>
              <a:ext cx="964080" cy="75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V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Text Box 12"/>
            <p:cNvSpPr/>
            <p:nvPr/>
          </p:nvSpPr>
          <p:spPr>
            <a:xfrm>
              <a:off x="4554000" y="5130720"/>
              <a:ext cx="964080" cy="151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Valore di mercato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Text Box 11"/>
            <p:cNvSpPr/>
            <p:nvPr/>
          </p:nvSpPr>
          <p:spPr>
            <a:xfrm>
              <a:off x="5679360" y="4525560"/>
              <a:ext cx="964440" cy="211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apitale investito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Text Box 10"/>
            <p:cNvSpPr/>
            <p:nvPr/>
          </p:nvSpPr>
          <p:spPr>
            <a:xfrm>
              <a:off x="4554000" y="4525560"/>
              <a:ext cx="964080" cy="45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VL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" name="Text Box 9"/>
            <p:cNvSpPr/>
            <p:nvPr/>
          </p:nvSpPr>
          <p:spPr>
            <a:xfrm>
              <a:off x="1660680" y="4071960"/>
              <a:ext cx="1982520" cy="35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l valore del premio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" name="Text Box 8"/>
            <p:cNvSpPr/>
            <p:nvPr/>
          </p:nvSpPr>
          <p:spPr>
            <a:xfrm>
              <a:off x="4554000" y="4071960"/>
              <a:ext cx="2089440" cy="30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l valore dello sconto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l REIR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4C7B-E6C7-4C0C-8C62-17E36887A2C7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1"/>
              <p:cNvSpPr txBox="1"/>
              <p:nvPr/>
            </p:nvSpPr>
            <p:spPr>
              <a:xfrm>
                <a:off x="1357200" y="2286000"/>
                <a:ext cx="37386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or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BI</m:t>
                    </m:r>
                    <m:r>
                      <m:t xml:space="preserve">+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P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3"/>
              <p:cNvSpPr txBox="1"/>
              <p:nvPr/>
            </p:nvSpPr>
            <p:spPr>
              <a:xfrm>
                <a:off x="1357200" y="3143160"/>
                <a:ext cx="32482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IE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I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N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 meccanismi di incentivazione: i piani di stock op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43F4-4FC8-4898-990F-697B35914056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CasellaDiTesto 3"/>
          <p:cNvSpPr/>
          <p:nvPr/>
        </p:nvSpPr>
        <p:spPr>
          <a:xfrm>
            <a:off x="1143000" y="2071800"/>
            <a:ext cx="6500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piani di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ck op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consistono nell’attribuzione di opzioni di tipo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ca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sulle azioni dell’impresa, assegnate dalla stessa ai propri lavoratori ed in particolare ai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 momenti della creazione del valo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Segnaposto numero diapositiva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B0F0-AB5B-4161-ACCF-BB91FC08401F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CasellaDiTesto 5"/>
          <p:cNvSpPr/>
          <p:nvPr/>
        </p:nvSpPr>
        <p:spPr>
          <a:xfrm>
            <a:off x="1214280" y="2428920"/>
            <a:ext cx="46436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a gestione del val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a diffusione del val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La diffusione del valo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3DE1-DF7B-47B9-933D-EACEAECADA3A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AutoShape 8"/>
          <p:cNvSpPr/>
          <p:nvPr/>
        </p:nvSpPr>
        <p:spPr>
          <a:xfrm>
            <a:off x="1357200" y="1785960"/>
            <a:ext cx="5643720" cy="256356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sso di comunicazione in grado di garantire l’afflusso di informazioni corrette al mercato e permettere agli investitori di formulare giudizi di convenienz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CasellaDiTesto 5"/>
          <p:cNvSpPr/>
          <p:nvPr/>
        </p:nvSpPr>
        <p:spPr>
          <a:xfrm>
            <a:off x="1428840" y="4643280"/>
            <a:ext cx="578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blema che si pone nella TCV e non nello S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 coefficienti di diffusione borsistic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9059-4A82-4CD9-A39B-579F5C3A4262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1"/>
              <p:cNvSpPr txBox="1"/>
              <p:nvPr/>
            </p:nvSpPr>
            <p:spPr>
              <a:xfrm>
                <a:off x="1143000" y="2214720"/>
                <a:ext cx="144288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sub>
                        </m:sSub>
                      </m:num>
                      <m:den>
                        <m:r>
                          <m:t xml:space="preserve">Δ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3"/>
              <p:cNvSpPr txBox="1"/>
              <p:nvPr/>
            </p:nvSpPr>
            <p:spPr>
              <a:xfrm>
                <a:off x="1143000" y="3429000"/>
                <a:ext cx="12142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W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Δ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4" name="CasellaDiTesto 7"/>
          <p:cNvSpPr/>
          <p:nvPr/>
        </p:nvSpPr>
        <p:spPr>
          <a:xfrm>
            <a:off x="1214280" y="4572000"/>
            <a:ext cx="557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 una situazione ide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Z = z =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 coefficienti di valutazione del mercat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6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579C-F928-4BE6-BDBD-B02256F72B8C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1"/>
              <p:cNvSpPr txBox="1"/>
              <p:nvPr/>
            </p:nvSpPr>
            <p:spPr>
              <a:xfrm>
                <a:off x="1214280" y="2214720"/>
                <a:ext cx="12146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sub>
                        </m:sSub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3"/>
              <p:cNvSpPr txBox="1"/>
              <p:nvPr/>
            </p:nvSpPr>
            <p:spPr>
              <a:xfrm>
                <a:off x="1285920" y="3286080"/>
                <a:ext cx="8571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Strumenti per la diffusione del valo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0802-622D-4CE5-B70F-0D97300D8F1E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CasellaDiTesto 3"/>
          <p:cNvSpPr/>
          <p:nvPr/>
        </p:nvSpPr>
        <p:spPr>
          <a:xfrm>
            <a:off x="1285920" y="2286000"/>
            <a:ext cx="5500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municazione finanzia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terventi diretti sul merca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La comunicazione finanziari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3350-6261-4271-AF83-C76A35A0D470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AutoShape 7"/>
          <p:cNvSpPr/>
          <p:nvPr/>
        </p:nvSpPr>
        <p:spPr>
          <a:xfrm>
            <a:off x="1143000" y="1714680"/>
            <a:ext cx="6019920" cy="305100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sso attraverso il quale l’impresa fa pervenire all’esterno informazioni relative all’assetto reddituale, finanziario e patrimoniale, influenzando il prezzo delle azion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Text Box 2"/>
          <p:cNvSpPr/>
          <p:nvPr/>
        </p:nvSpPr>
        <p:spPr>
          <a:xfrm>
            <a:off x="1357200" y="4286160"/>
            <a:ext cx="571500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2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vvicinare le aspettative degli investitori alle previsioni dell’azie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2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Rispettare le norme di legge sulla divulgazione delle informazio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12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ccrescere la credibilità dell’impre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2AD7-1040-4881-8240-118AD656ADD6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CasellaDiTesto 3"/>
          <p:cNvSpPr/>
          <p:nvPr/>
        </p:nvSpPr>
        <p:spPr>
          <a:xfrm>
            <a:off x="1428840" y="1071720"/>
            <a:ext cx="46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municazione volonta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municazione obbligato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CasellaDiTesto 4"/>
          <p:cNvSpPr/>
          <p:nvPr/>
        </p:nvSpPr>
        <p:spPr>
          <a:xfrm>
            <a:off x="4071960" y="2428920"/>
            <a:ext cx="357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Periodic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81080" indent="-18108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Straordinaria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Connettore 1 6"/>
          <p:cNvSpPr/>
          <p:nvPr/>
        </p:nvSpPr>
        <p:spPr>
          <a:xfrm>
            <a:off x="2928960" y="2357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312" name="Connettore 2 8"/>
          <p:cNvCxnSpPr/>
          <p:nvPr/>
        </p:nvCxnSpPr>
        <p:spPr>
          <a:xfrm>
            <a:off x="2928600" y="2786040"/>
            <a:ext cx="1072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313" name="Group 2"/>
          <p:cNvGrpSpPr/>
          <p:nvPr/>
        </p:nvGrpSpPr>
        <p:grpSpPr>
          <a:xfrm>
            <a:off x="1285920" y="3643200"/>
            <a:ext cx="6428880" cy="2643120"/>
            <a:chOff x="1285920" y="3643200"/>
            <a:chExt cx="6428880" cy="2643120"/>
          </a:xfrm>
        </p:grpSpPr>
        <p:sp>
          <p:nvSpPr>
            <p:cNvPr id="314" name="Text Box 3"/>
            <p:cNvSpPr/>
            <p:nvPr/>
          </p:nvSpPr>
          <p:spPr>
            <a:xfrm>
              <a:off x="1285920" y="4634280"/>
              <a:ext cx="2079720" cy="82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Credibilità strategica e redditual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Text Box 4"/>
            <p:cNvSpPr/>
            <p:nvPr/>
          </p:nvSpPr>
          <p:spPr>
            <a:xfrm>
              <a:off x="4122000" y="4303800"/>
              <a:ext cx="3592800" cy="49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Risultati ottenuti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4122000" y="3643200"/>
              <a:ext cx="3592800" cy="49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Capacità strategic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4122000" y="4964760"/>
              <a:ext cx="3592800" cy="66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Programmi, Prospettive e valutazioni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Text Box 7"/>
            <p:cNvSpPr/>
            <p:nvPr/>
          </p:nvSpPr>
          <p:spPr>
            <a:xfrm>
              <a:off x="4122000" y="5790960"/>
              <a:ext cx="3592800" cy="49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Efficacia della comunicazion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AutoShape 8"/>
            <p:cNvSpPr/>
            <p:nvPr/>
          </p:nvSpPr>
          <p:spPr>
            <a:xfrm>
              <a:off x="3555000" y="3808440"/>
              <a:ext cx="378000" cy="2313000"/>
            </a:xfrm>
            <a:custGeom>
              <a:avLst/>
              <a:gdLst>
                <a:gd name="textAreaLeft" fmla="*/ 241560 w 378000"/>
                <a:gd name="textAreaRight" fmla="*/ 378360 w 378000"/>
                <a:gd name="textAreaTop" fmla="*/ 60120 h 2313000"/>
                <a:gd name="textAreaBottom" fmla="*/ 2252880 h 231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l Value Repor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Segnaposto numero diapositiva 1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12D4-2D54-4523-9E5A-1663DD1B81CA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CasellaDiTesto 3"/>
          <p:cNvSpPr/>
          <p:nvPr/>
        </p:nvSpPr>
        <p:spPr>
          <a:xfrm>
            <a:off x="1214280" y="2071800"/>
            <a:ext cx="63579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È uno strumento di comunicazione per il mercato che, oltre a dati e indicatori economico-finanziari, accoglie una serie di informazioni idonee a rappresentare la capacità attuale e prospettica dell’impresa di creare val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Natura, dinamica e dimensione dei flussi di cassa della gesti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nformazioni non finanziar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Gli interventi diretti sul mercat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4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9BFA-A271-43F9-819F-5E0546419064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CasellaDiTesto 3"/>
          <p:cNvSpPr/>
          <p:nvPr/>
        </p:nvSpPr>
        <p:spPr>
          <a:xfrm>
            <a:off x="1285920" y="2214720"/>
            <a:ext cx="635796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iacquisto di azioni propr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zionariato dei dipenden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zionariato dei manager (stock op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Gli effetti della diffusione del valo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2FEF-2A09-42FB-9F42-65B82D6C2661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8" name="Group 19"/>
          <p:cNvGrpSpPr/>
          <p:nvPr/>
        </p:nvGrpSpPr>
        <p:grpSpPr>
          <a:xfrm>
            <a:off x="1857240" y="2214720"/>
            <a:ext cx="5333760" cy="4267080"/>
            <a:chOff x="1857240" y="2214720"/>
            <a:chExt cx="5333760" cy="4267080"/>
          </a:xfrm>
        </p:grpSpPr>
        <p:sp>
          <p:nvSpPr>
            <p:cNvPr id="329" name="Line 5"/>
            <p:cNvSpPr/>
            <p:nvPr/>
          </p:nvSpPr>
          <p:spPr>
            <a:xfrm>
              <a:off x="1857240" y="5824440"/>
              <a:ext cx="4038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Line 6"/>
            <p:cNvSpPr/>
            <p:nvPr/>
          </p:nvSpPr>
          <p:spPr>
            <a:xfrm flipV="1">
              <a:off x="1857240" y="2298600"/>
              <a:ext cx="0" cy="352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Arc 7"/>
            <p:cNvSpPr/>
            <p:nvPr/>
          </p:nvSpPr>
          <p:spPr>
            <a:xfrm flipV="1">
              <a:off x="1857240" y="2504880"/>
              <a:ext cx="2931840" cy="1535040"/>
            </a:xfrm>
            <a:custGeom>
              <a:avLst/>
              <a:gdLst>
                <a:gd name="textAreaLeft" fmla="*/ 0 w 2931840"/>
                <a:gd name="textAreaRight" fmla="*/ 2932200 w 2931840"/>
                <a:gd name="textAreaTop" fmla="*/ 360 h 1535040"/>
                <a:gd name="textAreaBottom" fmla="*/ 1535760 h 15350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Arc 8"/>
            <p:cNvSpPr/>
            <p:nvPr/>
          </p:nvSpPr>
          <p:spPr>
            <a:xfrm flipV="1">
              <a:off x="1857240" y="2669760"/>
              <a:ext cx="4038480" cy="1370160"/>
            </a:xfrm>
            <a:custGeom>
              <a:avLst/>
              <a:gdLst>
                <a:gd name="textAreaLeft" fmla="*/ 0 w 4038480"/>
                <a:gd name="textAreaRight" fmla="*/ 4038840 w 4038480"/>
                <a:gd name="textAreaTop" fmla="*/ 360 h 1370160"/>
                <a:gd name="textAreaBottom" fmla="*/ 1370880 h 13701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Arc 9"/>
            <p:cNvSpPr/>
            <p:nvPr/>
          </p:nvSpPr>
          <p:spPr>
            <a:xfrm flipV="1">
              <a:off x="1857240" y="3042720"/>
              <a:ext cx="4548240" cy="1827000"/>
            </a:xfrm>
            <a:custGeom>
              <a:avLst/>
              <a:gdLst>
                <a:gd name="textAreaLeft" fmla="*/ 0 w 4548240"/>
                <a:gd name="textAreaRight" fmla="*/ 4548600 w 4548240"/>
                <a:gd name="textAreaTop" fmla="*/ -360 h 1827000"/>
                <a:gd name="textAreaBottom" fmla="*/ 1827000 h 18270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Text Box 10"/>
            <p:cNvSpPr/>
            <p:nvPr/>
          </p:nvSpPr>
          <p:spPr>
            <a:xfrm>
              <a:off x="5981400" y="2505240"/>
              <a:ext cx="5238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it-IT" sz="28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Text Box 11"/>
            <p:cNvSpPr/>
            <p:nvPr/>
          </p:nvSpPr>
          <p:spPr>
            <a:xfrm>
              <a:off x="6532200" y="3168720"/>
              <a:ext cx="658800" cy="56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it-IT" sz="28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" name="Text Box 12"/>
            <p:cNvSpPr/>
            <p:nvPr/>
          </p:nvSpPr>
          <p:spPr>
            <a:xfrm>
              <a:off x="4917960" y="2463840"/>
              <a:ext cx="596880" cy="41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it-IT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Text Box 13"/>
            <p:cNvSpPr/>
            <p:nvPr/>
          </p:nvSpPr>
          <p:spPr>
            <a:xfrm>
              <a:off x="4143240" y="6024600"/>
              <a:ext cx="2743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Raccolta programmat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Text Box 14"/>
            <p:cNvSpPr/>
            <p:nvPr/>
          </p:nvSpPr>
          <p:spPr>
            <a:xfrm>
              <a:off x="1942920" y="2214720"/>
              <a:ext cx="15714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ahoma"/>
                </a:rPr>
                <a:t>Costo del capitale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Line 15"/>
            <p:cNvSpPr/>
            <p:nvPr/>
          </p:nvSpPr>
          <p:spPr>
            <a:xfrm>
              <a:off x="3643200" y="2836800"/>
              <a:ext cx="1827000" cy="2365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Text Box 16"/>
            <p:cNvSpPr/>
            <p:nvPr/>
          </p:nvSpPr>
          <p:spPr>
            <a:xfrm>
              <a:off x="5555880" y="5037120"/>
              <a:ext cx="644760" cy="530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Times New Roman"/>
                </a:rPr>
                <a:t>D’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" name="Text Box 17"/>
            <p:cNvSpPr/>
            <p:nvPr/>
          </p:nvSpPr>
          <p:spPr>
            <a:xfrm>
              <a:off x="3684240" y="2386080"/>
              <a:ext cx="468360" cy="40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9DA8-941D-490C-BD70-887917963474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3" name="Group 33"/>
          <p:cNvGrpSpPr/>
          <p:nvPr/>
        </p:nvGrpSpPr>
        <p:grpSpPr>
          <a:xfrm>
            <a:off x="1214280" y="1214280"/>
            <a:ext cx="6858000" cy="4927320"/>
            <a:chOff x="1214280" y="1214280"/>
            <a:chExt cx="6858000" cy="4927320"/>
          </a:xfrm>
        </p:grpSpPr>
        <p:sp>
          <p:nvSpPr>
            <p:cNvPr id="344" name="Line 4"/>
            <p:cNvSpPr/>
            <p:nvPr/>
          </p:nvSpPr>
          <p:spPr>
            <a:xfrm>
              <a:off x="2636640" y="5151240"/>
              <a:ext cx="3757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Line 5"/>
            <p:cNvSpPr/>
            <p:nvPr/>
          </p:nvSpPr>
          <p:spPr>
            <a:xfrm flipV="1">
              <a:off x="2636640" y="1849320"/>
              <a:ext cx="0" cy="330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Line 6"/>
            <p:cNvSpPr/>
            <p:nvPr/>
          </p:nvSpPr>
          <p:spPr>
            <a:xfrm>
              <a:off x="2636640" y="4287600"/>
              <a:ext cx="1901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Line 7"/>
            <p:cNvSpPr/>
            <p:nvPr/>
          </p:nvSpPr>
          <p:spPr>
            <a:xfrm flipV="1">
              <a:off x="4582800" y="3169440"/>
              <a:ext cx="0" cy="111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Line 8"/>
            <p:cNvSpPr/>
            <p:nvPr/>
          </p:nvSpPr>
          <p:spPr>
            <a:xfrm>
              <a:off x="4582800" y="3169800"/>
              <a:ext cx="1586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Line 9"/>
            <p:cNvSpPr/>
            <p:nvPr/>
          </p:nvSpPr>
          <p:spPr>
            <a:xfrm flipV="1">
              <a:off x="2908080" y="3169440"/>
              <a:ext cx="1674720" cy="111780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Arc 10"/>
            <p:cNvSpPr/>
            <p:nvPr/>
          </p:nvSpPr>
          <p:spPr>
            <a:xfrm flipV="1">
              <a:off x="5443560" y="3830400"/>
              <a:ext cx="725400" cy="457200"/>
            </a:xfrm>
            <a:custGeom>
              <a:avLst/>
              <a:gdLst>
                <a:gd name="textAreaLeft" fmla="*/ 0 w 725400"/>
                <a:gd name="textAreaRight" fmla="*/ 725760 w 725400"/>
                <a:gd name="textAreaTop" fmla="*/ 360 h 457200"/>
                <a:gd name="textAreaBottom" fmla="*/ 457920 h 4572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Line 11"/>
            <p:cNvSpPr/>
            <p:nvPr/>
          </p:nvSpPr>
          <p:spPr>
            <a:xfrm flipV="1">
              <a:off x="4582800" y="2356920"/>
              <a:ext cx="0" cy="8125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Arc 12"/>
            <p:cNvSpPr/>
            <p:nvPr/>
          </p:nvSpPr>
          <p:spPr>
            <a:xfrm flipH="1" rot="3504600">
              <a:off x="4522680" y="2354760"/>
              <a:ext cx="1778040" cy="971640"/>
            </a:xfrm>
            <a:custGeom>
              <a:avLst/>
              <a:gdLst>
                <a:gd name="textAreaLeft" fmla="*/ -360 w 1778040"/>
                <a:gd name="textAreaRight" fmla="*/ 1778040 w 1778040"/>
                <a:gd name="textAreaTop" fmla="*/ 0 h 971640"/>
                <a:gd name="textAreaBottom" fmla="*/ 972000 h 971640"/>
              </a:gdLst>
              <a:ahLst/>
              <a:rect l="textAreaLeft" t="textAreaTop" r="textAreaRight" b="textAreaBottom"/>
              <a:pathLst>
                <a:path fill="none" w="21600" h="24388">
                  <a:moveTo>
                    <a:pt x="1898" y="-1"/>
                  </a:moveTo>
                  <a:cubicBezTo>
                    <a:pt x="13048" y="983"/>
                    <a:pt x="21600" y="10322"/>
                    <a:pt x="21600" y="21516"/>
                  </a:cubicBezTo>
                  <a:cubicBezTo>
                    <a:pt x="21600" y="22476"/>
                    <a:pt x="21535" y="23436"/>
                    <a:pt x="21408" y="24388"/>
                  </a:cubicBezTo>
                </a:path>
                <a:path stroke="0" w="21600" h="24388">
                  <a:moveTo>
                    <a:pt x="1898" y="-1"/>
                  </a:moveTo>
                  <a:cubicBezTo>
                    <a:pt x="13048" y="983"/>
                    <a:pt x="21600" y="10322"/>
                    <a:pt x="21600" y="21516"/>
                  </a:cubicBezTo>
                  <a:cubicBezTo>
                    <a:pt x="21600" y="22476"/>
                    <a:pt x="21535" y="23436"/>
                    <a:pt x="21408" y="24388"/>
                  </a:cubicBezTo>
                  <a:lnTo>
                    <a:pt x="0" y="21516"/>
                  </a:lnTo>
                  <a:lnTo>
                    <a:pt x="1898" y="-1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Text Box 14"/>
            <p:cNvSpPr/>
            <p:nvPr/>
          </p:nvSpPr>
          <p:spPr>
            <a:xfrm>
              <a:off x="5709960" y="1214280"/>
              <a:ext cx="190512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Tahoma"/>
                </a:rPr>
                <a:t>Reazione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it-IT" sz="1600" spc="-1" strike="noStrike">
                  <a:solidFill>
                    <a:srgbClr val="000000"/>
                  </a:solidFill>
                  <a:latin typeface="Tahoma"/>
                </a:rPr>
                <a:t>eccessiva 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Tahoma"/>
                </a:rPr>
                <a:t>e correzion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Line 15"/>
            <p:cNvSpPr/>
            <p:nvPr/>
          </p:nvSpPr>
          <p:spPr>
            <a:xfrm flipH="1">
              <a:off x="6213240" y="3220920"/>
              <a:ext cx="362160" cy="253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" name="Text Box 16"/>
            <p:cNvSpPr/>
            <p:nvPr/>
          </p:nvSpPr>
          <p:spPr>
            <a:xfrm>
              <a:off x="6665760" y="2916000"/>
              <a:ext cx="1406520" cy="50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Tahoma"/>
                </a:rPr>
                <a:t>Reazione ritardat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" name="Line 17"/>
            <p:cNvSpPr/>
            <p:nvPr/>
          </p:nvSpPr>
          <p:spPr>
            <a:xfrm flipH="1" flipV="1">
              <a:off x="4719240" y="4083840"/>
              <a:ext cx="1811160" cy="40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Text Box 18"/>
            <p:cNvSpPr/>
            <p:nvPr/>
          </p:nvSpPr>
          <p:spPr>
            <a:xfrm>
              <a:off x="6665760" y="4033440"/>
              <a:ext cx="140652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Tahoma"/>
                </a:rPr>
                <a:t>Reazione efficient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8" name="Line 19"/>
            <p:cNvSpPr/>
            <p:nvPr/>
          </p:nvSpPr>
          <p:spPr>
            <a:xfrm>
              <a:off x="3632040" y="3119040"/>
              <a:ext cx="136440" cy="40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9" name="Text Box 20"/>
            <p:cNvSpPr/>
            <p:nvPr/>
          </p:nvSpPr>
          <p:spPr>
            <a:xfrm>
              <a:off x="2890800" y="2433240"/>
              <a:ext cx="1523880" cy="50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Reazione anticipat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Line 21"/>
            <p:cNvSpPr/>
            <p:nvPr/>
          </p:nvSpPr>
          <p:spPr>
            <a:xfrm>
              <a:off x="4582800" y="4998600"/>
              <a:ext cx="0" cy="203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Line 22"/>
            <p:cNvSpPr/>
            <p:nvPr/>
          </p:nvSpPr>
          <p:spPr>
            <a:xfrm>
              <a:off x="4039920" y="49986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Line 23"/>
            <p:cNvSpPr/>
            <p:nvPr/>
          </p:nvSpPr>
          <p:spPr>
            <a:xfrm>
              <a:off x="3497040" y="49986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Line 24"/>
            <p:cNvSpPr/>
            <p:nvPr/>
          </p:nvSpPr>
          <p:spPr>
            <a:xfrm>
              <a:off x="2998800" y="49986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Line 25"/>
            <p:cNvSpPr/>
            <p:nvPr/>
          </p:nvSpPr>
          <p:spPr>
            <a:xfrm>
              <a:off x="5081400" y="49986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Line 26"/>
            <p:cNvSpPr/>
            <p:nvPr/>
          </p:nvSpPr>
          <p:spPr>
            <a:xfrm>
              <a:off x="5624280" y="49986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Line 27"/>
            <p:cNvSpPr/>
            <p:nvPr/>
          </p:nvSpPr>
          <p:spPr>
            <a:xfrm>
              <a:off x="6168960" y="49986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Text Box 29"/>
            <p:cNvSpPr/>
            <p:nvPr/>
          </p:nvSpPr>
          <p:spPr>
            <a:xfrm>
              <a:off x="3805200" y="5405040"/>
              <a:ext cx="1676160" cy="73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ahoma"/>
                </a:rPr>
                <a:t>Giorno annunci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" name="Text Box 30"/>
            <p:cNvSpPr/>
            <p:nvPr/>
          </p:nvSpPr>
          <p:spPr>
            <a:xfrm>
              <a:off x="1214280" y="1747440"/>
              <a:ext cx="13320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ahoma"/>
                </a:rPr>
                <a:t>Prezz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Line 32"/>
            <p:cNvSpPr/>
            <p:nvPr/>
          </p:nvSpPr>
          <p:spPr>
            <a:xfrm flipH="1">
              <a:off x="5862600" y="1976040"/>
              <a:ext cx="3808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La gestione del valo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C3F9-684F-48AF-B138-90DD26E00953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CasellaDiTesto 3"/>
          <p:cNvSpPr/>
          <p:nvPr/>
        </p:nvSpPr>
        <p:spPr>
          <a:xfrm>
            <a:off x="1214280" y="185724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Modello struttura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7" name="Group 12"/>
          <p:cNvGrpSpPr/>
          <p:nvPr/>
        </p:nvGrpSpPr>
        <p:grpSpPr>
          <a:xfrm>
            <a:off x="1643040" y="2357280"/>
            <a:ext cx="4581360" cy="1059840"/>
            <a:chOff x="1643040" y="2357280"/>
            <a:chExt cx="4581360" cy="1059840"/>
          </a:xfrm>
        </p:grpSpPr>
        <p:sp>
          <p:nvSpPr>
            <p:cNvPr id="108" name="Text Box 6"/>
            <p:cNvSpPr/>
            <p:nvPr/>
          </p:nvSpPr>
          <p:spPr>
            <a:xfrm>
              <a:off x="1643040" y="264276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Valore funzio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Text Box 7"/>
            <p:cNvSpPr/>
            <p:nvPr/>
          </p:nvSpPr>
          <p:spPr>
            <a:xfrm>
              <a:off x="3786120" y="2357280"/>
              <a:ext cx="243828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Settore di appartenenz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Condotta aziendal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AutoShape 8"/>
            <p:cNvSpPr/>
            <p:nvPr/>
          </p:nvSpPr>
          <p:spPr>
            <a:xfrm>
              <a:off x="3562200" y="2509560"/>
              <a:ext cx="152280" cy="7761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3480 h 776160"/>
                <a:gd name="textAreaBottom" fmla="*/ 742680 h 7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502"/>
                    <a:pt x="10800" y="3004"/>
                  </a:cubicBezTo>
                  <a:lnTo>
                    <a:pt x="10800" y="7796"/>
                  </a:lnTo>
                  <a:cubicBezTo>
                    <a:pt x="10800" y="9298"/>
                    <a:pt x="5400" y="10800"/>
                    <a:pt x="0" y="10800"/>
                  </a:cubicBezTo>
                  <a:cubicBezTo>
                    <a:pt x="5400" y="10800"/>
                    <a:pt x="10800" y="12302"/>
                    <a:pt x="10800" y="13804"/>
                  </a:cubicBezTo>
                  <a:lnTo>
                    <a:pt x="10800" y="18596"/>
                  </a:lnTo>
                  <a:cubicBezTo>
                    <a:pt x="10800" y="20098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1" name="Text Box 9"/>
          <p:cNvSpPr/>
          <p:nvPr/>
        </p:nvSpPr>
        <p:spPr>
          <a:xfrm>
            <a:off x="1500120" y="34290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Perché le aziende dello stesso settore si comportano in maniera diversa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1143000" y="485784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Focus su risorse interne e core-compete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1219320" y="59245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Necessità di 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selezionare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valutare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le alternative strategich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5"/>
          <p:cNvSpPr/>
          <p:nvPr/>
        </p:nvSpPr>
        <p:spPr>
          <a:xfrm>
            <a:off x="3286080" y="5357880"/>
            <a:ext cx="7621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CasellaDiTesto 15"/>
          <p:cNvSpPr/>
          <p:nvPr/>
        </p:nvSpPr>
        <p:spPr>
          <a:xfrm>
            <a:off x="1214280" y="4357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Modello resoursed-based approa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l Value-based management (VBM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91AC-F032-4CB6-B10B-1A78DF9D875E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CasellaDiTesto 3"/>
          <p:cNvSpPr/>
          <p:nvPr/>
        </p:nvSpPr>
        <p:spPr>
          <a:xfrm>
            <a:off x="1214280" y="2000160"/>
            <a:ext cx="62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l VBM è un processo manageriale finalizzato alla creazione di valore azionario in un’ottica di lungo perio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CasellaDiTesto 4"/>
          <p:cNvSpPr/>
          <p:nvPr/>
        </p:nvSpPr>
        <p:spPr>
          <a:xfrm>
            <a:off x="1285920" y="3286080"/>
            <a:ext cx="485784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I contenuti del VB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ogica finanziaria nella valutazione degli investimen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trategie e vantaggi competitiv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Misure di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oinvolgimento di tutti i livelli dell’organizzazi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CasellaDiTesto 5"/>
          <p:cNvSpPr/>
          <p:nvPr/>
        </p:nvSpPr>
        <p:spPr>
          <a:xfrm>
            <a:off x="6500880" y="4643280"/>
            <a:ext cx="221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arattere interdisciplinare del VB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arentesi graffa chiusa 6"/>
          <p:cNvSpPr/>
          <p:nvPr/>
        </p:nvSpPr>
        <p:spPr>
          <a:xfrm>
            <a:off x="5929200" y="3929040"/>
            <a:ext cx="428760" cy="2571840"/>
          </a:xfrm>
          <a:custGeom>
            <a:avLst/>
            <a:gdLst>
              <a:gd name="textAreaLeft" fmla="*/ 0 w 428760"/>
              <a:gd name="textAreaRight" fmla="*/ 154800 w 428760"/>
              <a:gd name="textAreaTop" fmla="*/ 11160 h 2571840"/>
              <a:gd name="textAreaBottom" fmla="*/ 2560680 h 257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Critiche al VBM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4F88-EA7F-4BFA-B1DC-BDD5357A8243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CasellaDiTesto 3"/>
          <p:cNvSpPr/>
          <p:nvPr/>
        </p:nvSpPr>
        <p:spPr>
          <a:xfrm>
            <a:off x="1214280" y="2143080"/>
            <a:ext cx="4857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ccessiva attenzione verso gli azioni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fficoltà di applicazione di alcuni approcc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L’analisi finanziari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E6EF-08B4-49A3-8959-9C8CFE6F2653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CasellaDiTesto 3"/>
          <p:cNvSpPr/>
          <p:nvPr/>
        </p:nvSpPr>
        <p:spPr>
          <a:xfrm>
            <a:off x="1143000" y="2143080"/>
            <a:ext cx="5786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mpiego delle tecniche di capital budgeting per valutare ogni strateg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N &gt; 0           creazione di val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N &lt; 0           distruzione di val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Freccia a destra 4"/>
          <p:cNvSpPr/>
          <p:nvPr/>
        </p:nvSpPr>
        <p:spPr>
          <a:xfrm>
            <a:off x="2714760" y="3357720"/>
            <a:ext cx="428400" cy="21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Freccia a destra 5"/>
          <p:cNvSpPr/>
          <p:nvPr/>
        </p:nvSpPr>
        <p:spPr>
          <a:xfrm>
            <a:off x="2714760" y="4143240"/>
            <a:ext cx="428400" cy="214560"/>
          </a:xfrm>
          <a:prstGeom prst="rightArrow">
            <a:avLst>
              <a:gd name="adj1" fmla="val 50000"/>
              <a:gd name="adj2" fmla="val 49916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Analisi strategic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5EF6-F8A0-49F5-8BF4-2689E52A6533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CasellaDiTesto 3"/>
          <p:cNvSpPr/>
          <p:nvPr/>
        </p:nvSpPr>
        <p:spPr>
          <a:xfrm>
            <a:off x="1214280" y="2143080"/>
            <a:ext cx="47149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ttrattività del sett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ff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ff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osizione competiti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L’attrattività del setto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F27C-AFF9-4D82-8F34-78FA5CEAA72D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" name="Group 2"/>
          <p:cNvGrpSpPr/>
          <p:nvPr/>
        </p:nvGrpSpPr>
        <p:grpSpPr>
          <a:xfrm>
            <a:off x="857160" y="2214720"/>
            <a:ext cx="6929640" cy="4285800"/>
            <a:chOff x="857160" y="2214720"/>
            <a:chExt cx="6929640" cy="4285800"/>
          </a:xfrm>
        </p:grpSpPr>
        <p:sp>
          <p:nvSpPr>
            <p:cNvPr id="136" name="Rectangle 3"/>
            <p:cNvSpPr/>
            <p:nvPr/>
          </p:nvSpPr>
          <p:spPr>
            <a:xfrm>
              <a:off x="3295080" y="3546720"/>
              <a:ext cx="2053800" cy="1818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Line 4"/>
            <p:cNvSpPr/>
            <p:nvPr/>
          </p:nvSpPr>
          <p:spPr>
            <a:xfrm flipV="1">
              <a:off x="4321800" y="5364360"/>
              <a:ext cx="720" cy="79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Line 5"/>
            <p:cNvSpPr/>
            <p:nvPr/>
          </p:nvSpPr>
          <p:spPr>
            <a:xfrm>
              <a:off x="4346640" y="2699280"/>
              <a:ext cx="720" cy="79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Text Box 6"/>
            <p:cNvSpPr/>
            <p:nvPr/>
          </p:nvSpPr>
          <p:spPr>
            <a:xfrm>
              <a:off x="857160" y="4228200"/>
              <a:ext cx="1026360" cy="34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Fornitori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Text Box 7"/>
            <p:cNvSpPr/>
            <p:nvPr/>
          </p:nvSpPr>
          <p:spPr>
            <a:xfrm>
              <a:off x="6631920" y="4228200"/>
              <a:ext cx="1154880" cy="34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Acquirenti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Text Box 8"/>
            <p:cNvSpPr/>
            <p:nvPr/>
          </p:nvSpPr>
          <p:spPr>
            <a:xfrm>
              <a:off x="3808440" y="2214720"/>
              <a:ext cx="1154880" cy="45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Entranti                 potenziali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Text Box 9"/>
            <p:cNvSpPr/>
            <p:nvPr/>
          </p:nvSpPr>
          <p:spPr>
            <a:xfrm>
              <a:off x="3808440" y="6159960"/>
              <a:ext cx="1026360" cy="34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it-IT" sz="1400" spc="-1" strike="noStrike">
                  <a:solidFill>
                    <a:srgbClr val="000000"/>
                  </a:solidFill>
                  <a:latin typeface="Calibri"/>
                </a:rPr>
                <a:t>Sostituti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Text Box 10"/>
            <p:cNvSpPr/>
            <p:nvPr/>
          </p:nvSpPr>
          <p:spPr>
            <a:xfrm>
              <a:off x="4578480" y="5478120"/>
              <a:ext cx="179640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Minaccia di prodotti                                                                              o servizi sostitutivi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Line 11"/>
            <p:cNvSpPr/>
            <p:nvPr/>
          </p:nvSpPr>
          <p:spPr>
            <a:xfrm>
              <a:off x="1883520" y="4341960"/>
              <a:ext cx="128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Line 12"/>
            <p:cNvSpPr/>
            <p:nvPr/>
          </p:nvSpPr>
          <p:spPr>
            <a:xfrm flipH="1">
              <a:off x="5476680" y="4341960"/>
              <a:ext cx="115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Text Box 13"/>
            <p:cNvSpPr/>
            <p:nvPr/>
          </p:nvSpPr>
          <p:spPr>
            <a:xfrm>
              <a:off x="4450320" y="2978280"/>
              <a:ext cx="2181600" cy="34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Calibri"/>
                </a:rPr>
                <a:t>Minaccia di nuovi entranti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Text Box 14"/>
            <p:cNvSpPr/>
            <p:nvPr/>
          </p:nvSpPr>
          <p:spPr>
            <a:xfrm>
              <a:off x="5605200" y="4714200"/>
              <a:ext cx="166824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Calibri"/>
                </a:rPr>
                <a:t>Potere contrattuale degli acquirenti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Text Box 15"/>
            <p:cNvSpPr/>
            <p:nvPr/>
          </p:nvSpPr>
          <p:spPr>
            <a:xfrm>
              <a:off x="1883520" y="4600800"/>
              <a:ext cx="1283040" cy="79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Calibri"/>
                </a:rPr>
                <a:t>Potere contrattuale dei fornitori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Text Box 16"/>
            <p:cNvSpPr/>
            <p:nvPr/>
          </p:nvSpPr>
          <p:spPr>
            <a:xfrm>
              <a:off x="3551760" y="3691800"/>
              <a:ext cx="153972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libri"/>
                </a:rPr>
                <a:t>Concorrenti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libri"/>
                </a:rPr>
                <a:t>nel settor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Text Box 17"/>
            <p:cNvSpPr/>
            <p:nvPr/>
          </p:nvSpPr>
          <p:spPr>
            <a:xfrm>
              <a:off x="3680280" y="4487040"/>
              <a:ext cx="1411560" cy="68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Concorrenza fra le imprese esistenti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l vantaggio competitiv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4222-2856-4B60-A223-43327E81EB98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CasellaDiTesto 3"/>
          <p:cNvSpPr/>
          <p:nvPr/>
        </p:nvSpPr>
        <p:spPr>
          <a:xfrm>
            <a:off x="1285920" y="2071800"/>
            <a:ext cx="392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eadership di cos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fferenzia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calizzazio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berta Pace</cp:lastModifiedBy>
  <dcterms:modified xsi:type="dcterms:W3CDTF">2018-10-01T14:11:11Z</dcterms:modified>
  <cp:revision>63</cp:revision>
  <dc:subject/>
  <dc:title>PowerPoint Presentation</dc:title>
</cp:coreProperties>
</file>