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E0D-DED8-43C8-AC76-E0C5EE68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61E-B9A6-4089-91F9-4438E335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062-2E7C-4239-A2E8-45BF5DFC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AE1-B832-4DF7-AEB9-15D4F91A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4B3B-6845-49AA-AC42-BBEBA477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7E37-59B4-4658-94CB-02EF16C1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859D-CB00-4830-AB43-D6D310E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0BC1-65CB-4C30-9A4F-DEA2F94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EC0-E9F0-46B5-8D6D-0596425A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BB00-24CD-43EB-B2A0-17CADD1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EC1-F9F3-438C-879B-206DA96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03E-8098-456E-9C9C-C9EC16C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FE85-709D-4D94-87D4-47952C4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2ECD-E304-487E-9870-D61BB57D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512-849A-49E9-9DAD-EE4C614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235-15EE-424C-8B68-EA53144A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135B-B69F-464E-8F4D-9A4528EC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457-4F4C-41BF-AEDF-90E7FA78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979-F3D8-4A73-AE50-4158A21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8AB-7B8B-41A5-937C-8B287AC2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81D-DC7E-4ABC-93B8-4E13D917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F28-E781-480C-98EE-DE96998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94F-786D-4337-B105-C5AABE7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F9F-E8CD-403A-B39C-4885729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F68-5CFB-4F06-A5EE-EDEBF12E28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8141-7D61-4211-9286-5AC3D1A2DA3F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rso di Valutazione delle aziende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La valutazione delle aziend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f.ssa Robert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egli Studi dell’Aqu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.a. 2018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Fattori che condizionano la scelta del metodo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F77-9441-458F-B475-A7F269B7B84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CasellaDiTesto 3"/>
          <p:cNvSpPr/>
          <p:nvPr/>
        </p:nvSpPr>
        <p:spPr>
          <a:xfrm>
            <a:off x="1214280" y="2143080"/>
            <a:ext cx="464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pologia di oper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dentità dei soggetti coinvol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po di attività svo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ase del ciclo di v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otazione dei tito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ponibilità dei 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redditua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D0A-705A-4605-ADE1-FF54148A630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"/>
              <p:cNvSpPr txBox="1"/>
              <p:nvPr/>
            </p:nvSpPr>
            <p:spPr>
              <a:xfrm>
                <a:off x="1285920" y="2214720"/>
                <a:ext cx="1589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CasellaDiTesto 5"/>
          <p:cNvSpPr/>
          <p:nvPr/>
        </p:nvSpPr>
        <p:spPr>
          <a:xfrm>
            <a:off x="3643200" y="23572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ula di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3429000" y="3214800"/>
                <a:ext cx="169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CasellaDiTesto 8"/>
          <p:cNvSpPr/>
          <p:nvPr/>
        </p:nvSpPr>
        <p:spPr>
          <a:xfrm>
            <a:off x="1143000" y="40719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blemi di affront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gica di valutazione impieg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figurazione di reddito presce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alità di determinazione del reddito 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elta della funzione che lega il reddito al capitale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96A-B0E3-4732-9705-B487F7819D5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CasellaDiTesto 3"/>
          <p:cNvSpPr/>
          <p:nvPr/>
        </p:nvSpPr>
        <p:spPr>
          <a:xfrm>
            <a:off x="1214280" y="128592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. Logica di valutazione impieg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CasellaDiTesto 4"/>
          <p:cNvSpPr/>
          <p:nvPr/>
        </p:nvSpPr>
        <p:spPr>
          <a:xfrm>
            <a:off x="1357200" y="2000160"/>
            <a:ext cx="235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quity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CasellaDiTesto 5"/>
          <p:cNvSpPr/>
          <p:nvPr/>
        </p:nvSpPr>
        <p:spPr>
          <a:xfrm>
            <a:off x="4429080" y="200016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iego del CAP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iego del wa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ccia a destra 6"/>
          <p:cNvSpPr/>
          <p:nvPr/>
        </p:nvSpPr>
        <p:spPr>
          <a:xfrm>
            <a:off x="3571920" y="21430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ccia a destra 7"/>
          <p:cNvSpPr/>
          <p:nvPr/>
        </p:nvSpPr>
        <p:spPr>
          <a:xfrm>
            <a:off x="3571920" y="321480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CasellaDiTesto 8"/>
          <p:cNvSpPr/>
          <p:nvPr/>
        </p:nvSpPr>
        <p:spPr>
          <a:xfrm>
            <a:off x="1285920" y="40719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b. Configurazione di reddito prescel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CasellaDiTesto 9"/>
          <p:cNvSpPr/>
          <p:nvPr/>
        </p:nvSpPr>
        <p:spPr>
          <a:xfrm>
            <a:off x="1428840" y="471492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eddito cont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eddito prelevabi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eddito normalizza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A19-481F-41DE-A41D-A0F8B6602EA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CasellaDiTesto 2"/>
          <p:cNvSpPr/>
          <p:nvPr/>
        </p:nvSpPr>
        <p:spPr>
          <a:xfrm>
            <a:off x="1214280" y="12859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c. Modalità di determinazione del reddito 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CasellaDiTesto 3"/>
          <p:cNvSpPr/>
          <p:nvPr/>
        </p:nvSpPr>
        <p:spPr>
          <a:xfrm>
            <a:off x="1143000" y="1928880"/>
            <a:ext cx="62866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5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erie di redditi annuali definiti analiticam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15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Tahoma"/>
              </a:rPr>
              <a:t>Reddito medio attes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15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amma di risultati tra un valore minimo e un valore massim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CasellaDiTesto 4"/>
          <p:cNvSpPr/>
          <p:nvPr/>
        </p:nvSpPr>
        <p:spPr>
          <a:xfrm>
            <a:off x="2857680" y="4286160"/>
            <a:ext cx="535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odo dei risultati stor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odo di proiezione dei risultati stor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odo dei risultati programm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odo dell’innov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todo della crescita att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onnettore 1 6"/>
          <p:cNvSpPr/>
          <p:nvPr/>
        </p:nvSpPr>
        <p:spPr>
          <a:xfrm flipH="1">
            <a:off x="571320" y="2786040"/>
            <a:ext cx="500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onnettore 1 8"/>
          <p:cNvSpPr/>
          <p:nvPr/>
        </p:nvSpPr>
        <p:spPr>
          <a:xfrm>
            <a:off x="571680" y="2786040"/>
            <a:ext cx="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4" name="Connettore 2 10"/>
          <p:cNvCxnSpPr/>
          <p:nvPr/>
        </p:nvCxnSpPr>
        <p:spPr>
          <a:xfrm>
            <a:off x="571320" y="5072040"/>
            <a:ext cx="18579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Parentesi graffa aperta 11"/>
          <p:cNvSpPr/>
          <p:nvPr/>
        </p:nvSpPr>
        <p:spPr>
          <a:xfrm>
            <a:off x="2643120" y="4357800"/>
            <a:ext cx="142920" cy="14284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428480"/>
              <a:gd name="textAreaBottom" fmla="*/ 142488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C4B9-D6FC-404C-A2C3-DBDF1A01E3D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CasellaDiTesto 2"/>
          <p:cNvSpPr/>
          <p:nvPr/>
        </p:nvSpPr>
        <p:spPr>
          <a:xfrm>
            <a:off x="1214280" y="10000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. Scelta della funzione che lega il reddito al capitale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CasellaDiTesto 4"/>
          <p:cNvSpPr/>
          <p:nvPr/>
        </p:nvSpPr>
        <p:spPr>
          <a:xfrm>
            <a:off x="714240" y="2214720"/>
            <a:ext cx="3857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urata illimitata dei reddi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urata limitata dei reddi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omposizione del periodo in due par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CasellaDiTesto 5"/>
          <p:cNvSpPr/>
          <p:nvPr/>
        </p:nvSpPr>
        <p:spPr>
          <a:xfrm>
            <a:off x="5072040" y="2214720"/>
            <a:ext cx="3857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ndita perpet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ndita annua posticip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cedimento analitico + valutazione sinte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ccia a destra 6"/>
          <p:cNvSpPr/>
          <p:nvPr/>
        </p:nvSpPr>
        <p:spPr>
          <a:xfrm>
            <a:off x="4286160" y="22860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ccia a destra 7"/>
          <p:cNvSpPr/>
          <p:nvPr/>
        </p:nvSpPr>
        <p:spPr>
          <a:xfrm>
            <a:off x="4286160" y="41432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ccia a destra 8"/>
          <p:cNvSpPr/>
          <p:nvPr/>
        </p:nvSpPr>
        <p:spPr>
          <a:xfrm>
            <a:off x="4286160" y="32148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993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reddituali nella logica equity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42AD-3A50-4C6B-9BC4-56D8A9137EE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CasellaDiTesto 9"/>
          <p:cNvSpPr/>
          <p:nvPr/>
        </p:nvSpPr>
        <p:spPr>
          <a:xfrm>
            <a:off x="1143000" y="2071800"/>
            <a:ext cx="271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ndita perpet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o finito di redd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omposizione del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4357800" y="2004840"/>
                <a:ext cx="1357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8"/>
              <p:cNvSpPr txBox="1"/>
              <p:nvPr/>
            </p:nvSpPr>
            <p:spPr>
              <a:xfrm>
                <a:off x="4357800" y="3214800"/>
                <a:ext cx="2220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10"/>
              <p:cNvSpPr txBox="1"/>
              <p:nvPr/>
            </p:nvSpPr>
            <p:spPr>
              <a:xfrm>
                <a:off x="4357800" y="3857760"/>
                <a:ext cx="2268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4357800" y="5000760"/>
                <a:ext cx="3857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4"/>
              <p:cNvSpPr txBox="1"/>
              <p:nvPr/>
            </p:nvSpPr>
            <p:spPr>
              <a:xfrm>
                <a:off x="4357800" y="5786280"/>
                <a:ext cx="4303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Connettore 1 21"/>
          <p:cNvSpPr/>
          <p:nvPr/>
        </p:nvSpPr>
        <p:spPr>
          <a:xfrm>
            <a:off x="1000080" y="285768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Connettore 1 22"/>
          <p:cNvSpPr/>
          <p:nvPr/>
        </p:nvSpPr>
        <p:spPr>
          <a:xfrm>
            <a:off x="1000080" y="478620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064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reddituali nella logica asset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5604-3A70-46AB-9DDC-50DD6AB1F61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asellaDiTesto 3"/>
          <p:cNvSpPr/>
          <p:nvPr/>
        </p:nvSpPr>
        <p:spPr>
          <a:xfrm>
            <a:off x="1143000" y="2071800"/>
            <a:ext cx="2714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ndita perpet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o finito di redd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omposizione del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"/>
              <p:cNvSpPr txBox="1"/>
              <p:nvPr/>
            </p:nvSpPr>
            <p:spPr>
              <a:xfrm>
                <a:off x="4605480" y="1989000"/>
                <a:ext cx="1780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357800" y="3286080"/>
                <a:ext cx="2517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m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4357800" y="3929040"/>
                <a:ext cx="2714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411800" y="5011560"/>
                <a:ext cx="401796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4413240" y="5869080"/>
                <a:ext cx="4424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Connettore 1 14"/>
          <p:cNvSpPr/>
          <p:nvPr/>
        </p:nvSpPr>
        <p:spPr>
          <a:xfrm>
            <a:off x="1000080" y="285768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Connettore 1 15"/>
          <p:cNvSpPr/>
          <p:nvPr/>
        </p:nvSpPr>
        <p:spPr>
          <a:xfrm>
            <a:off x="1000080" y="478620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finanzia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5A3E-7BBF-4825-A768-12B4BF954FE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CasellaDiTesto 3"/>
          <p:cNvSpPr/>
          <p:nvPr/>
        </p:nvSpPr>
        <p:spPr>
          <a:xfrm>
            <a:off x="928800" y="2000160"/>
            <a:ext cx="707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metodi finanziar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iscounted Cash Flow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CF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rappresentano un’applicazione ai processi di stima del capitale economico d’azienda delle tecniche elaborate per la valutazione di generici investiment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apital budgetin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"/>
              <p:cNvSpPr txBox="1"/>
              <p:nvPr/>
            </p:nvSpPr>
            <p:spPr>
              <a:xfrm>
                <a:off x="1071720" y="3786120"/>
                <a:ext cx="1589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CasellaDiTesto 5"/>
          <p:cNvSpPr/>
          <p:nvPr/>
        </p:nvSpPr>
        <p:spPr>
          <a:xfrm>
            <a:off x="3429000" y="392904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ula di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lussi di cassa leve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BF3-3498-43F4-91AC-FD5C517FF70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214280" y="2214720"/>
          <a:ext cx="4286520" cy="3500280"/>
        </p:xfrm>
        <a:graphic>
          <a:graphicData uri="http://schemas.openxmlformats.org/drawingml/2006/table">
            <a:tbl>
              <a:tblPr/>
              <a:tblGrid>
                <a:gridCol w="4286520"/>
              </a:tblGrid>
              <a:tr h="35002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dito op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 Ammort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Oneri fis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usso di circolante della gestione cor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/+ Variazione circo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usso monetario della gestione cor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/+ Investimenti/Disinvesti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/- Finanziamenti/Rimbor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/- Proventi/Oneri finanzi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228600" indent="-4752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Flusso di cassa disponibile per gli azionisti (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CF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CasellaDiTesto 4"/>
          <p:cNvSpPr/>
          <p:nvPr/>
        </p:nvSpPr>
        <p:spPr>
          <a:xfrm>
            <a:off x="6143760" y="4929120"/>
            <a:ext cx="25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Logica equity s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reccia a destra 5"/>
          <p:cNvSpPr/>
          <p:nvPr/>
        </p:nvSpPr>
        <p:spPr>
          <a:xfrm>
            <a:off x="5357880" y="50007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flussi di cassa unleve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9663-FDA0-405D-84AD-802B67947E6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28840" y="2214720"/>
          <a:ext cx="4255920" cy="3214440"/>
        </p:xfrm>
        <a:graphic>
          <a:graphicData uri="http://schemas.openxmlformats.org/drawingml/2006/table">
            <a:tbl>
              <a:tblPr/>
              <a:tblGrid>
                <a:gridCol w="4255920"/>
              </a:tblGrid>
              <a:tr h="32144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dito oper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 Ammort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Oneri fis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usso di circolante della gestione cor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/+ Variazione circo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usso monetario della gestione corr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/+ Investimenti/Disinvesti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179280" indent="179640" algn="just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= Flusso di cassa disponibile per azionisti e creditori (</a:t>
                      </a: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CF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CasellaDiTesto 4"/>
          <p:cNvSpPr/>
          <p:nvPr/>
        </p:nvSpPr>
        <p:spPr>
          <a:xfrm>
            <a:off x="6357960" y="4429080"/>
            <a:ext cx="25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Logica asset si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reccia a destra 5"/>
          <p:cNvSpPr/>
          <p:nvPr/>
        </p:nvSpPr>
        <p:spPr>
          <a:xfrm>
            <a:off x="5572080" y="450072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finalità del processo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erificare la creazione del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ncipi contabili internazionali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air val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erazioni di finanza straord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Quotazione in Bo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16E-704C-4C8A-89F5-C4BBD6D0E45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3429000" y="5214960"/>
            <a:ext cx="30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ferenza 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z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stima del flusso di cassa att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37D-5FF4-4359-85A4-68CFB083BC3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CasellaDiTesto 3"/>
          <p:cNvSpPr/>
          <p:nvPr/>
        </p:nvSpPr>
        <p:spPr>
          <a:xfrm>
            <a:off x="1000080" y="221472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lusso di cassa stimato analiticamente anno per an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lusso di cassa medio 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celta del periodo di riferim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560A-A130-4430-B36F-D162C9C940B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CasellaDiTesto 3"/>
          <p:cNvSpPr/>
          <p:nvPr/>
        </p:nvSpPr>
        <p:spPr>
          <a:xfrm>
            <a:off x="1214280" y="2143080"/>
            <a:ext cx="62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ende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dizioni oggettive dell’i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ponibilità di d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Modalità di calco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FBB-C80D-4E8E-80F4-53636A4364E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CasellaDiTesto 3"/>
          <p:cNvSpPr/>
          <p:nvPr/>
        </p:nvSpPr>
        <p:spPr>
          <a:xfrm>
            <a:off x="1000080" y="2286000"/>
            <a:ext cx="52866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zioni sinte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zioni anali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zioni analitiche con stima del valore resid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finanziari nella logica equity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9C2-3C6E-46FB-B3B7-E7642FACA8B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"/>
              <p:cNvSpPr txBox="1"/>
              <p:nvPr/>
            </p:nvSpPr>
            <p:spPr>
              <a:xfrm>
                <a:off x="4643280" y="2428920"/>
                <a:ext cx="1357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FE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CasellaDiTesto 5"/>
          <p:cNvSpPr/>
          <p:nvPr/>
        </p:nvSpPr>
        <p:spPr>
          <a:xfrm>
            <a:off x="1285920" y="200016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i sinteti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teady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rescita cost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643280" y="3143160"/>
                <a:ext cx="1694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FE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Connettore 1 8"/>
          <p:cNvSpPr/>
          <p:nvPr/>
        </p:nvSpPr>
        <p:spPr>
          <a:xfrm>
            <a:off x="714240" y="400068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643280" y="4286160"/>
                <a:ext cx="207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F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7" name="CasellaDiTesto 11"/>
          <p:cNvSpPr/>
          <p:nvPr/>
        </p:nvSpPr>
        <p:spPr>
          <a:xfrm>
            <a:off x="1357200" y="442908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anali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Connettore 1 12"/>
          <p:cNvSpPr/>
          <p:nvPr/>
        </p:nvSpPr>
        <p:spPr>
          <a:xfrm>
            <a:off x="714240" y="521496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4643280" y="5572080"/>
                <a:ext cx="3537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F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CasellaDiTesto 15"/>
          <p:cNvSpPr/>
          <p:nvPr/>
        </p:nvSpPr>
        <p:spPr>
          <a:xfrm>
            <a:off x="1357200" y="57150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analitica con valore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finanziari nella logica asset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A0A-65DA-4E37-A611-0CA75B7571E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"/>
              <p:cNvSpPr txBox="1"/>
              <p:nvPr/>
            </p:nvSpPr>
            <p:spPr>
              <a:xfrm>
                <a:off x="5072040" y="2500200"/>
                <a:ext cx="1835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F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CasellaDiTesto 6"/>
          <p:cNvSpPr/>
          <p:nvPr/>
        </p:nvSpPr>
        <p:spPr>
          <a:xfrm>
            <a:off x="1285920" y="200016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i sinteti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teady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rescita cost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Connettore 1 8"/>
          <p:cNvSpPr/>
          <p:nvPr/>
        </p:nvSpPr>
        <p:spPr>
          <a:xfrm>
            <a:off x="714240" y="400068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CasellaDiTesto 10"/>
          <p:cNvSpPr/>
          <p:nvPr/>
        </p:nvSpPr>
        <p:spPr>
          <a:xfrm>
            <a:off x="1357200" y="442908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analit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Connettore 1 11"/>
          <p:cNvSpPr/>
          <p:nvPr/>
        </p:nvSpPr>
        <p:spPr>
          <a:xfrm>
            <a:off x="714240" y="5214960"/>
            <a:ext cx="7786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CasellaDiTesto 13"/>
          <p:cNvSpPr/>
          <p:nvPr/>
        </p:nvSpPr>
        <p:spPr>
          <a:xfrm>
            <a:off x="1357200" y="57150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utazione analitica con valore fi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072040" y="3143160"/>
                <a:ext cx="200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CF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5072040" y="4357800"/>
                <a:ext cx="2357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F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5072040" y="5715000"/>
                <a:ext cx="3830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F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wac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stima del valore fin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Segnaposto numero diapositiva 2"/>
          <p:cNvSpPr/>
          <p:nvPr/>
        </p:nvSpPr>
        <p:spPr>
          <a:xfrm>
            <a:off x="723888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78A8-E259-41FE-BF74-16E4FF2F042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CasellaDiTesto 3"/>
          <p:cNvSpPr/>
          <p:nvPr/>
        </p:nvSpPr>
        <p:spPr>
          <a:xfrm>
            <a:off x="785880" y="2143080"/>
            <a:ext cx="35719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i liquid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i ces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ultip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CasellaDiTesto 4"/>
          <p:cNvSpPr/>
          <p:nvPr/>
        </p:nvSpPr>
        <p:spPr>
          <a:xfrm>
            <a:off x="5143680" y="21430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pitale netto rettificato (equity s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ttivo rettificato (asset s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reccia a destra 5"/>
          <p:cNvSpPr/>
          <p:nvPr/>
        </p:nvSpPr>
        <p:spPr>
          <a:xfrm>
            <a:off x="4429080" y="22860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arentesi graffa aperta 6"/>
          <p:cNvSpPr/>
          <p:nvPr/>
        </p:nvSpPr>
        <p:spPr>
          <a:xfrm>
            <a:off x="5072040" y="228600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"/>
              <p:cNvSpPr txBox="1"/>
              <p:nvPr/>
            </p:nvSpPr>
            <p:spPr>
              <a:xfrm>
                <a:off x="4857840" y="3500280"/>
                <a:ext cx="1312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4857840" y="4429080"/>
                <a:ext cx="1614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PA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"/>
              <p:cNvSpPr txBox="1"/>
              <p:nvPr/>
            </p:nvSpPr>
            <p:spPr>
              <a:xfrm>
                <a:off x="4857840" y="5286240"/>
                <a:ext cx="1857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PA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7143840" y="4857840"/>
                <a:ext cx="1477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E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7143840" y="5572080"/>
                <a:ext cx="1542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FO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Parentesi graffa aperta 17"/>
          <p:cNvSpPr/>
          <p:nvPr/>
        </p:nvSpPr>
        <p:spPr>
          <a:xfrm>
            <a:off x="7000920" y="5072040"/>
            <a:ext cx="142920" cy="9288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5400" y="10800"/>
                  <a:pt x="0" y="10800"/>
                </a:cubicBezTo>
                <a:cubicBezTo>
                  <a:pt x="54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arentesi graffa aperta 18"/>
          <p:cNvSpPr/>
          <p:nvPr/>
        </p:nvSpPr>
        <p:spPr>
          <a:xfrm>
            <a:off x="4500720" y="3857760"/>
            <a:ext cx="285480" cy="192852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928520"/>
              <a:gd name="textAreaBottom" fmla="*/ 1921320 h 192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Freccia a destra 19"/>
          <p:cNvSpPr/>
          <p:nvPr/>
        </p:nvSpPr>
        <p:spPr>
          <a:xfrm>
            <a:off x="3857760" y="3714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patrimonia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469-DAE0-404C-B373-7A532BA42C9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CasellaDiTesto 3"/>
          <p:cNvSpPr/>
          <p:nvPr/>
        </p:nvSpPr>
        <p:spPr>
          <a:xfrm>
            <a:off x="1214280" y="2286000"/>
            <a:ext cx="492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o patrimoniale sempl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o patrimoniale compl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todo patrimoniale sempl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ADA-EBF2-488A-B489-0BEF4F92EDA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1428840" y="2428920"/>
                <a:ext cx="1533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Text Box 10"/>
          <p:cNvSpPr/>
          <p:nvPr/>
        </p:nvSpPr>
        <p:spPr>
          <a:xfrm>
            <a:off x="1214280" y="3286080"/>
            <a:ext cx="5029200" cy="19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atrimonio netto contab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ttifiche posi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ttifiche 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PATRIMONIO NETTO RETTIFIC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todo patrimoniale comples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7C6-BDC7-402E-9A83-F6437B0D913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"/>
              <p:cNvSpPr txBox="1"/>
              <p:nvPr/>
            </p:nvSpPr>
            <p:spPr>
              <a:xfrm>
                <a:off x="1357200" y="2428920"/>
                <a:ext cx="29559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M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mis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5B9D-3EB9-4EAF-ADC6-66AC56C08C0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CasellaDiTesto 3"/>
          <p:cNvSpPr/>
          <p:nvPr/>
        </p:nvSpPr>
        <p:spPr>
          <a:xfrm>
            <a:off x="1214280" y="2428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o del valor me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 con stima autonoma dell’avvi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capitale economic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D61-1C21-42A9-A8A1-9A2EF74A868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CasellaDiTesto 5"/>
          <p:cNvSpPr/>
          <p:nvPr/>
        </p:nvSpPr>
        <p:spPr>
          <a:xfrm>
            <a:off x="1143000" y="2000160"/>
            <a:ext cx="678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apitale economico non è un insieme di valori distinti sebbene coordinati, ma «un valore unico, risultante dalla capitalizzazione dei redditi futuri» (G. Zap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asellaDiTesto 6"/>
          <p:cNvSpPr/>
          <p:nvPr/>
        </p:nvSpPr>
        <p:spPr>
          <a:xfrm>
            <a:off x="1214280" y="4000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dd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a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asellaDiTesto 7"/>
          <p:cNvSpPr/>
          <p:nvPr/>
        </p:nvSpPr>
        <p:spPr>
          <a:xfrm>
            <a:off x="3857760" y="4000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ndezza orig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ndezza deriv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reccia a destra 8"/>
          <p:cNvSpPr/>
          <p:nvPr/>
        </p:nvSpPr>
        <p:spPr>
          <a:xfrm>
            <a:off x="2786040" y="4071960"/>
            <a:ext cx="64296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ccia a destra 9"/>
          <p:cNvSpPr/>
          <p:nvPr/>
        </p:nvSpPr>
        <p:spPr>
          <a:xfrm>
            <a:off x="2786040" y="4786200"/>
            <a:ext cx="64296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etodo del valor med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A08-619A-4C14-AC76-844669C82B7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"/>
              <p:cNvSpPr txBox="1"/>
              <p:nvPr/>
            </p:nvSpPr>
            <p:spPr>
              <a:xfrm>
                <a:off x="1214280" y="2357280"/>
                <a:ext cx="2470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N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5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1214280" y="3643200"/>
                <a:ext cx="32274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N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arentesi graffa aperta 12"/>
          <p:cNvSpPr/>
          <p:nvPr/>
        </p:nvSpPr>
        <p:spPr>
          <a:xfrm rot="16200000">
            <a:off x="3429000" y="3857040"/>
            <a:ext cx="285480" cy="157176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1571760"/>
              <a:gd name="textAreaBottom" fmla="*/ 15645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CasellaDiTesto 13"/>
          <p:cNvSpPr/>
          <p:nvPr/>
        </p:nvSpPr>
        <p:spPr>
          <a:xfrm>
            <a:off x="2643120" y="4857840"/>
            <a:ext cx="200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vviamen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etodi con stima autonoma dell’avviam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6DB-B410-48D3-9101-5B4224C5EF9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"/>
              <p:cNvSpPr txBox="1"/>
              <p:nvPr/>
            </p:nvSpPr>
            <p:spPr>
              <a:xfrm>
                <a:off x="4255920" y="2852640"/>
                <a:ext cx="4538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N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¬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CasellaDiTesto 6"/>
          <p:cNvSpPr/>
          <p:nvPr/>
        </p:nvSpPr>
        <p:spPr>
          <a:xfrm>
            <a:off x="826920" y="278136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ttualizzazione limitata del profitto me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CasellaDiTesto 10"/>
          <p:cNvSpPr/>
          <p:nvPr/>
        </p:nvSpPr>
        <p:spPr>
          <a:xfrm>
            <a:off x="826920" y="3995640"/>
            <a:ext cx="307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pitalizzazione illimitata del profitto me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ggetto 1"/>
              <p:cNvSpPr txBox="1"/>
              <p:nvPr/>
            </p:nvSpPr>
            <p:spPr>
              <a:xfrm>
                <a:off x="4183200" y="3851280"/>
                <a:ext cx="3846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R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NR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i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intangi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ADBF-6CCD-487A-B202-B51B2F915CB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CasellaDiTesto 3"/>
          <p:cNvSpPr/>
          <p:nvPr/>
        </p:nvSpPr>
        <p:spPr>
          <a:xfrm>
            <a:off x="1143000" y="214308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angibili non identificabili o struttur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angibili identificabili o non struttur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finalità della valutazione degli intangi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0A3A-8635-4AE1-AC6D-CA86D0D62CE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CasellaDiTesto 3"/>
          <p:cNvSpPr/>
          <p:nvPr/>
        </p:nvSpPr>
        <p:spPr>
          <a:xfrm>
            <a:off x="1357200" y="2214720"/>
            <a:ext cx="50007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e di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pporto per l’applicazione dei principi contabili internaz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pporto per la valutazione del capitale economico d’i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apitale economico e intangi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AA9-8125-4004-86F4-6EE8F9DAC3C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" name="Group 1"/>
          <p:cNvGrpSpPr/>
          <p:nvPr/>
        </p:nvGrpSpPr>
        <p:grpSpPr>
          <a:xfrm>
            <a:off x="1000080" y="2357280"/>
            <a:ext cx="7232760" cy="2357640"/>
            <a:chOff x="1000080" y="2357280"/>
            <a:chExt cx="7232760" cy="2357640"/>
          </a:xfrm>
        </p:grpSpPr>
        <p:sp>
          <p:nvSpPr>
            <p:cNvPr id="343" name="AutoShape 11"/>
            <p:cNvSpPr/>
            <p:nvPr/>
          </p:nvSpPr>
          <p:spPr>
            <a:xfrm>
              <a:off x="1000080" y="2357280"/>
              <a:ext cx="72327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642680" y="2553480"/>
              <a:ext cx="5625360" cy="392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Valore unic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1642680" y="3339720"/>
              <a:ext cx="2892960" cy="392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pitale net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Text Box 8"/>
            <p:cNvSpPr/>
            <p:nvPr/>
          </p:nvSpPr>
          <p:spPr>
            <a:xfrm>
              <a:off x="4536000" y="3339720"/>
              <a:ext cx="2732400" cy="392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vviament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642680" y="4125600"/>
              <a:ext cx="2892960" cy="3927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pitale nett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>
              <a:off x="5821920" y="4125600"/>
              <a:ext cx="1446480" cy="392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vviamento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4536000" y="4125600"/>
              <a:ext cx="1285920" cy="392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tangibili sp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Text Box 4"/>
            <p:cNvSpPr/>
            <p:nvPr/>
          </p:nvSpPr>
          <p:spPr>
            <a:xfrm>
              <a:off x="1160640" y="2553480"/>
              <a:ext cx="321480" cy="39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3"/>
            <p:cNvSpPr/>
            <p:nvPr/>
          </p:nvSpPr>
          <p:spPr>
            <a:xfrm>
              <a:off x="1160640" y="3339720"/>
              <a:ext cx="321480" cy="39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2"/>
            <p:cNvSpPr/>
            <p:nvPr/>
          </p:nvSpPr>
          <p:spPr>
            <a:xfrm>
              <a:off x="1160640" y="4125600"/>
              <a:ext cx="321480" cy="39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criteri di valutazione degli intangi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3C32-FB33-4650-9EDB-AF71221CD54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CasellaDiTesto 3"/>
          <p:cNvSpPr/>
          <p:nvPr/>
        </p:nvSpPr>
        <p:spPr>
          <a:xfrm>
            <a:off x="1285920" y="2214720"/>
            <a:ext cx="47862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o del cos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o dei risultati differenz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compar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fondati su ricerche di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valutazioni assolute operate nell’ottica dell’investit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466D-615F-42F9-B5C2-712F5018BF5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CasellaDiTesto 3"/>
          <p:cNvSpPr/>
          <p:nvPr/>
        </p:nvSpPr>
        <p:spPr>
          <a:xfrm>
            <a:off x="1071720" y="2000160"/>
            <a:ext cx="735804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Dividend Discount Models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DD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ello base del D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ello di Gord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ello a due stadi di attualizzazione dei divide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ello 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ello a tre stadi di attualizzazione dei divide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base del DD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1D8A-A218-44E2-BE74-8A956F182C8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CasellaDiTesto 3"/>
          <p:cNvSpPr/>
          <p:nvPr/>
        </p:nvSpPr>
        <p:spPr>
          <a:xfrm>
            <a:off x="1285920" y="1857240"/>
            <a:ext cx="614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rivano dall’applicazione del principio del VAN, dove i flussi di cassa sono rappresentati dai dividen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siderando un solo periodo di riferiment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"/>
              <p:cNvSpPr txBox="1"/>
              <p:nvPr/>
            </p:nvSpPr>
            <p:spPr>
              <a:xfrm>
                <a:off x="1357200" y="3214800"/>
                <a:ext cx="2335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1357200" y="4143240"/>
                <a:ext cx="2524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1357200" y="5000760"/>
                <a:ext cx="63486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357200" y="5857920"/>
                <a:ext cx="664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di Gord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1F0C-6B14-46A0-8DFE-E7FE097FD05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CasellaDiTesto 3"/>
          <p:cNvSpPr/>
          <p:nvPr/>
        </p:nvSpPr>
        <p:spPr>
          <a:xfrm>
            <a:off x="1214280" y="2143080"/>
            <a:ext cx="6357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erogazione dei dividendi avviene per un periodo di tempo illimitato (n→∞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dividendi crescono sempre ad un tasso pari 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’è corrispondenza tra crescita dei dividendi e crescita degli utili, in quanto la quota di utili distribuita è cost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mpresa non è indebit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rischio associato all’investimento azionario non muta nel tempo e dunque anche il tasso di attualizzatone  è cost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e sempre essere verificata la superiorità del tasso di attualizzazione rispetto al tasso di crescita dei dividend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, ovvero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&gt; 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di Gord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AA5-C086-4AA5-B02C-272E9F1546D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CasellaDiTesto 3"/>
          <p:cNvSpPr/>
          <p:nvPr/>
        </p:nvSpPr>
        <p:spPr>
          <a:xfrm>
            <a:off x="1071720" y="2071800"/>
            <a:ext cx="585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i parte dal modello base del DD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"/>
              <p:cNvSpPr txBox="1"/>
              <p:nvPr/>
            </p:nvSpPr>
            <p:spPr>
              <a:xfrm>
                <a:off x="1214280" y="2786040"/>
                <a:ext cx="2000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214280" y="4429080"/>
                <a:ext cx="5160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CasellaDiTesto 8"/>
          <p:cNvSpPr/>
          <p:nvPr/>
        </p:nvSpPr>
        <p:spPr>
          <a:xfrm>
            <a:off x="1143000" y="3643200"/>
            <a:ext cx="58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pplicando il tasso di crescita costan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1214280" y="5643720"/>
                <a:ext cx="56041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3" name="Freccia a destra 11"/>
          <p:cNvSpPr/>
          <p:nvPr/>
        </p:nvSpPr>
        <p:spPr>
          <a:xfrm>
            <a:off x="7358040" y="59292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configurazioni di capit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098-A855-411C-8EEA-9DCE6EBE855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CasellaDiTesto 3"/>
          <p:cNvSpPr/>
          <p:nvPr/>
        </p:nvSpPr>
        <p:spPr>
          <a:xfrm>
            <a:off x="1214280" y="2143080"/>
            <a:ext cx="592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ale di costitu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ale di liquid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ale di funz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ale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BCF-232D-4DE4-9EE7-993A4889728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CasellaDiTesto 3"/>
          <p:cNvSpPr/>
          <p:nvPr/>
        </p:nvSpPr>
        <p:spPr>
          <a:xfrm>
            <a:off x="1500120" y="1000080"/>
            <a:ext cx="5143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È una progressione geometrica di ragion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1+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/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1+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"/>
              <p:cNvSpPr txBox="1"/>
              <p:nvPr/>
            </p:nvSpPr>
            <p:spPr>
              <a:xfrm>
                <a:off x="4000680" y="1428840"/>
                <a:ext cx="53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571760" y="2000160"/>
                <a:ext cx="34909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PM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1571760" y="4214880"/>
                <a:ext cx="3454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CasellaDiTesto 12"/>
          <p:cNvSpPr/>
          <p:nvPr/>
        </p:nvSpPr>
        <p:spPr>
          <a:xfrm>
            <a:off x="1571760" y="378612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nendo n       ∞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94" name="Connettore 2 14"/>
          <p:cNvCxnSpPr/>
          <p:nvPr/>
        </p:nvCxnSpPr>
        <p:spPr>
          <a:xfrm>
            <a:off x="2786040" y="400068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9"/>
              <p:cNvSpPr txBox="1"/>
              <p:nvPr/>
            </p:nvSpPr>
            <p:spPr>
              <a:xfrm>
                <a:off x="1571760" y="5857920"/>
                <a:ext cx="1655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5214960" y="5857920"/>
                <a:ext cx="167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determinazione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E062-3AE7-46C3-895E-5EA890B7638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"/>
              <p:cNvSpPr txBox="1"/>
              <p:nvPr/>
            </p:nvSpPr>
            <p:spPr>
              <a:xfrm>
                <a:off x="1214280" y="2071800"/>
                <a:ext cx="2067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4643280" y="1928880"/>
                <a:ext cx="7146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5"/>
              <p:cNvSpPr txBox="1"/>
              <p:nvPr/>
            </p:nvSpPr>
            <p:spPr>
              <a:xfrm>
                <a:off x="6000840" y="2143080"/>
                <a:ext cx="10382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7"/>
              <p:cNvSpPr txBox="1"/>
              <p:nvPr/>
            </p:nvSpPr>
            <p:spPr>
              <a:xfrm>
                <a:off x="1214280" y="2928960"/>
                <a:ext cx="3695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1143000" y="3786120"/>
                <a:ext cx="4362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Text Box 12"/>
          <p:cNvSpPr/>
          <p:nvPr/>
        </p:nvSpPr>
        <p:spPr>
          <a:xfrm>
            <a:off x="1143000" y="48578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aumento di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uò essere determinato d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iglioramento della redditivit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rescita di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" name="Group 15"/>
          <p:cNvGrpSpPr/>
          <p:nvPr/>
        </p:nvGrpSpPr>
        <p:grpSpPr>
          <a:xfrm>
            <a:off x="1785960" y="5857920"/>
            <a:ext cx="838080" cy="380880"/>
            <a:chOff x="1785960" y="5857920"/>
            <a:chExt cx="838080" cy="380880"/>
          </a:xfrm>
        </p:grpSpPr>
        <p:sp>
          <p:nvSpPr>
            <p:cNvPr id="413" name="Line 13"/>
            <p:cNvSpPr/>
            <p:nvPr/>
          </p:nvSpPr>
          <p:spPr>
            <a:xfrm>
              <a:off x="1785960" y="5857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14"/>
            <p:cNvSpPr/>
            <p:nvPr/>
          </p:nvSpPr>
          <p:spPr>
            <a:xfrm>
              <a:off x="1785960" y="6238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" name="Text Box 16"/>
          <p:cNvSpPr/>
          <p:nvPr/>
        </p:nvSpPr>
        <p:spPr>
          <a:xfrm>
            <a:off x="2571840" y="5857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valore intrinseco del titolo aumenta solo se R&gt;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2C5F-9921-4846-9A67-FD6E04B255A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000080" y="214200"/>
            <a:ext cx="71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 se si verificasse g &gt; i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714840" y="785880"/>
            <a:ext cx="101592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000080" y="121428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 dividendi più lontani nel tempo assumerebbero valori molto elev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000080" y="1785960"/>
            <a:ext cx="77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1° soluzione – L’azione del merc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000080" y="210024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li operatori agirebbero in modo da ristabilire l’equilib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406520" y="27860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 &gt; 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AutoShape 9"/>
          <p:cNvSpPr/>
          <p:nvPr/>
        </p:nvSpPr>
        <p:spPr>
          <a:xfrm>
            <a:off x="2930400" y="2843280"/>
            <a:ext cx="812880" cy="2286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048200" y="278604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ggiore risch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1"/>
          <p:cNvSpPr/>
          <p:nvPr/>
        </p:nvSpPr>
        <p:spPr>
          <a:xfrm>
            <a:off x="5369040" y="3071880"/>
            <a:ext cx="71100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3784680" y="3260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5369040" y="4100400"/>
            <a:ext cx="71100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3784680" y="3260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17"/>
          <p:cNvSpPr/>
          <p:nvPr/>
        </p:nvSpPr>
        <p:spPr>
          <a:xfrm flipH="1">
            <a:off x="2727000" y="3857760"/>
            <a:ext cx="2630520" cy="47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000080" y="435780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ggiore rischio dell’investi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1071720" y="5214960"/>
            <a:ext cx="61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2° soluzione – Tasso elev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1000080" y="5586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 applicano tassi elevati ai dividendi più remoti in modo da renderli irrilevanti e ripristinare l’operatività del modello di Gord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Oval 21"/>
          <p:cNvSpPr/>
          <p:nvPr/>
        </p:nvSpPr>
        <p:spPr>
          <a:xfrm>
            <a:off x="5357880" y="3429000"/>
            <a:ext cx="260280" cy="51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4572000" y="3357720"/>
                <a:ext cx="226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ac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6"/>
              <p:cNvSpPr txBox="1"/>
              <p:nvPr/>
            </p:nvSpPr>
            <p:spPr>
              <a:xfrm>
                <a:off x="4643280" y="4500720"/>
                <a:ext cx="226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limiti del modello di Gord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DA3-A3D9-4177-B6EC-FE12A90141C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CasellaDiTesto 3"/>
          <p:cNvSpPr/>
          <p:nvPr/>
        </p:nvSpPr>
        <p:spPr>
          <a:xfrm>
            <a:off x="1643040" y="221472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crescita unico per tutte le vari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crescita unico per tutta la vita dell’i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a due stadi di attualizzazione dei dividen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113-383D-422E-8DD1-CBE0197893B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1643040" y="2000160"/>
            <a:ext cx="3772080" cy="2514240"/>
            <a:chOff x="1643040" y="2000160"/>
            <a:chExt cx="3772080" cy="2514240"/>
          </a:xfrm>
        </p:grpSpPr>
        <p:sp>
          <p:nvSpPr>
            <p:cNvPr id="444" name="Text Box 3"/>
            <p:cNvSpPr/>
            <p:nvPr/>
          </p:nvSpPr>
          <p:spPr>
            <a:xfrm>
              <a:off x="2900520" y="40575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4"/>
            <p:cNvSpPr/>
            <p:nvPr/>
          </p:nvSpPr>
          <p:spPr>
            <a:xfrm flipV="1">
              <a:off x="1985760" y="2000160"/>
              <a:ext cx="36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5"/>
            <p:cNvSpPr/>
            <p:nvPr/>
          </p:nvSpPr>
          <p:spPr>
            <a:xfrm>
              <a:off x="1757160" y="40575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Text Box 6"/>
            <p:cNvSpPr/>
            <p:nvPr/>
          </p:nvSpPr>
          <p:spPr>
            <a:xfrm>
              <a:off x="1643040" y="2114280"/>
              <a:ext cx="228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4729320" y="4171680"/>
              <a:ext cx="6858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8"/>
            <p:cNvSpPr/>
            <p:nvPr/>
          </p:nvSpPr>
          <p:spPr>
            <a:xfrm>
              <a:off x="1985760" y="2685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9"/>
            <p:cNvSpPr/>
            <p:nvPr/>
          </p:nvSpPr>
          <p:spPr>
            <a:xfrm>
              <a:off x="3129120" y="3257280"/>
              <a:ext cx="137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Line 10"/>
            <p:cNvSpPr/>
            <p:nvPr/>
          </p:nvSpPr>
          <p:spPr>
            <a:xfrm>
              <a:off x="3129120" y="268596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1643040" y="257148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i="1" lang="it-IT" sz="1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1643040" y="3143160"/>
              <a:ext cx="3427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i="1" lang="it-IT" sz="14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Line 13"/>
            <p:cNvSpPr/>
            <p:nvPr/>
          </p:nvSpPr>
          <p:spPr>
            <a:xfrm>
              <a:off x="1985760" y="3257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4"/>
              <p:cNvSpPr txBox="1"/>
              <p:nvPr/>
            </p:nvSpPr>
            <p:spPr>
              <a:xfrm>
                <a:off x="1857240" y="4786200"/>
                <a:ext cx="3375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1857240" y="5715000"/>
                <a:ext cx="1595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610E-69C7-4798-BFE3-AAC0F1C52CB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143000" y="22860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NB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Il tasso di distribuzione degli utili è maggiore nel primo perio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1214280" y="3643200"/>
            <a:ext cx="61470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imi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blema della definizione del periodo 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assaggio repentino da un tasso elevato ad uno ba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formula contiene il prezzo finale determinato secondo il modello di Gordon del quale eredita i limi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36E0-2DE2-4AE6-902F-E780B550E30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214280" y="200016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 ipotizza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tasso di crescita iniziale elev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ale tasso decresce per un periodo pari a 2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tasso si stabilizza ad un livello norm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5" name="Group 19"/>
          <p:cNvGrpSpPr/>
          <p:nvPr/>
        </p:nvGrpSpPr>
        <p:grpSpPr>
          <a:xfrm>
            <a:off x="1143000" y="3357720"/>
            <a:ext cx="5562720" cy="2895480"/>
            <a:chOff x="1143000" y="3357720"/>
            <a:chExt cx="5562720" cy="2895480"/>
          </a:xfrm>
        </p:grpSpPr>
        <p:sp>
          <p:nvSpPr>
            <p:cNvPr id="466" name="Line 5"/>
            <p:cNvSpPr/>
            <p:nvPr/>
          </p:nvSpPr>
          <p:spPr>
            <a:xfrm>
              <a:off x="1714680" y="5689800"/>
              <a:ext cx="44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 flipV="1">
              <a:off x="1828800" y="3357720"/>
              <a:ext cx="0" cy="26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1143000" y="3357720"/>
              <a:ext cx="5716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8"/>
            <p:cNvSpPr/>
            <p:nvPr/>
          </p:nvSpPr>
          <p:spPr>
            <a:xfrm>
              <a:off x="5715000" y="5826240"/>
              <a:ext cx="99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>
              <a:off x="1828800" y="4865760"/>
              <a:ext cx="3086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Line 10"/>
            <p:cNvSpPr/>
            <p:nvPr/>
          </p:nvSpPr>
          <p:spPr>
            <a:xfrm>
              <a:off x="4915080" y="486576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686480" y="5826240"/>
              <a:ext cx="647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2"/>
            <p:cNvSpPr/>
            <p:nvPr/>
          </p:nvSpPr>
          <p:spPr>
            <a:xfrm>
              <a:off x="3200400" y="5826240"/>
              <a:ext cx="533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3429000" y="4454640"/>
              <a:ext cx="0" cy="1235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1828800" y="4043520"/>
              <a:ext cx="3086280" cy="82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4915080" y="4865760"/>
              <a:ext cx="79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1219320" y="4729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1219320" y="3906720"/>
              <a:ext cx="6094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4BCF-0F43-47D1-A87B-5E15E4D5480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1"/>
              <p:cNvSpPr txBox="1"/>
              <p:nvPr/>
            </p:nvSpPr>
            <p:spPr>
              <a:xfrm>
                <a:off x="1285920" y="1000080"/>
                <a:ext cx="38145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1285920" y="1928880"/>
                <a:ext cx="3282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4" name="Group 5"/>
          <p:cNvGrpSpPr/>
          <p:nvPr/>
        </p:nvGrpSpPr>
        <p:grpSpPr>
          <a:xfrm>
            <a:off x="1357200" y="2785680"/>
            <a:ext cx="3286080" cy="1072080"/>
            <a:chOff x="1357200" y="2785680"/>
            <a:chExt cx="3286080" cy="1072080"/>
          </a:xfrm>
        </p:grpSpPr>
        <p:sp>
          <p:nvSpPr>
            <p:cNvPr id="485" name="Text Box 6"/>
            <p:cNvSpPr/>
            <p:nvPr/>
          </p:nvSpPr>
          <p:spPr>
            <a:xfrm>
              <a:off x="1357200" y="3214800"/>
              <a:ext cx="1493640" cy="64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Valore in base al tasso di crescita normal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3149640" y="3214800"/>
              <a:ext cx="1493640" cy="64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Valore in base al tasso di crescita anormal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 flipV="1">
              <a:off x="1656000" y="2785680"/>
              <a:ext cx="29844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 flipH="1" flipV="1">
              <a:off x="4195080" y="2785680"/>
              <a:ext cx="2988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1214280" y="4143240"/>
                <a:ext cx="3845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1" name="Text Box 14"/>
          <p:cNvSpPr/>
          <p:nvPr/>
        </p:nvSpPr>
        <p:spPr>
          <a:xfrm>
            <a:off x="1000080" y="5214960"/>
            <a:ext cx="17146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&lt;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g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AutoShape 15"/>
          <p:cNvSpPr/>
          <p:nvPr/>
        </p:nvSpPr>
        <p:spPr>
          <a:xfrm>
            <a:off x="2571840" y="52862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AutoShape 16"/>
          <p:cNvSpPr/>
          <p:nvPr/>
        </p:nvSpPr>
        <p:spPr>
          <a:xfrm>
            <a:off x="2571840" y="600084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3500280" y="5143680"/>
            <a:ext cx="29718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conto sul valore intrinse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odello di Gord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E09-F4F0-4BA8-B8C6-DB45FA75954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28840" y="2071800"/>
            <a:ext cx="5562360" cy="24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mi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anormale decrescente in modo line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distribuzione dei dividendi cos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a tre stadi di attualizzazione dei dividend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8DDF-9F3E-4DC7-AC58-75436B11D6E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143000" y="2000160"/>
            <a:ext cx="594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rescita stabile nel primo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inuzione della crescita nel secondo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rescita stabile nel terzo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Group 22"/>
          <p:cNvGrpSpPr/>
          <p:nvPr/>
        </p:nvGrpSpPr>
        <p:grpSpPr>
          <a:xfrm>
            <a:off x="1071720" y="3214440"/>
            <a:ext cx="5638320" cy="2819160"/>
            <a:chOff x="1071720" y="3214440"/>
            <a:chExt cx="5638320" cy="2819160"/>
          </a:xfrm>
        </p:grpSpPr>
        <p:sp>
          <p:nvSpPr>
            <p:cNvPr id="501" name="Line 5"/>
            <p:cNvSpPr/>
            <p:nvPr/>
          </p:nvSpPr>
          <p:spPr>
            <a:xfrm>
              <a:off x="1677960" y="5610240"/>
              <a:ext cx="47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 flipV="1">
              <a:off x="1798560" y="3214440"/>
              <a:ext cx="0" cy="26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1071720" y="3214800"/>
              <a:ext cx="6062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5916600" y="5752080"/>
              <a:ext cx="79344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emp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1798560" y="4764960"/>
              <a:ext cx="266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4464000" y="4764960"/>
              <a:ext cx="0" cy="844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4221000" y="5752080"/>
              <a:ext cx="48384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2766960" y="5752080"/>
              <a:ext cx="48528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13"/>
            <p:cNvSpPr/>
            <p:nvPr/>
          </p:nvSpPr>
          <p:spPr>
            <a:xfrm>
              <a:off x="3009960" y="3919680"/>
              <a:ext cx="0" cy="169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4464000" y="4764960"/>
              <a:ext cx="12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Text Box 15"/>
            <p:cNvSpPr/>
            <p:nvPr/>
          </p:nvSpPr>
          <p:spPr>
            <a:xfrm>
              <a:off x="1224000" y="4495320"/>
              <a:ext cx="5742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1376280" y="3778200"/>
              <a:ext cx="4219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>
              <a:off x="1798560" y="3919680"/>
              <a:ext cx="12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18"/>
            <p:cNvSpPr/>
            <p:nvPr/>
          </p:nvSpPr>
          <p:spPr>
            <a:xfrm>
              <a:off x="3009960" y="3919680"/>
              <a:ext cx="1453680" cy="84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logica del processo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FD9-15B4-4C92-80D5-1A405296EE9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CasellaDiTesto 3"/>
          <p:cNvSpPr/>
          <p:nvPr/>
        </p:nvSpPr>
        <p:spPr>
          <a:xfrm>
            <a:off x="1214280" y="2000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zioni assol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zioni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1357200" y="3214800"/>
            <a:ext cx="6286320" cy="3428640"/>
            <a:chOff x="1357200" y="3214800"/>
            <a:chExt cx="6286320" cy="3428640"/>
          </a:xfrm>
        </p:grpSpPr>
        <p:sp>
          <p:nvSpPr>
            <p:cNvPr id="119" name="Oval 3"/>
            <p:cNvSpPr/>
            <p:nvPr/>
          </p:nvSpPr>
          <p:spPr>
            <a:xfrm>
              <a:off x="3838680" y="3214800"/>
              <a:ext cx="1323360" cy="571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GIV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Oval 4"/>
            <p:cNvSpPr/>
            <p:nvPr/>
          </p:nvSpPr>
          <p:spPr>
            <a:xfrm>
              <a:off x="1357200" y="4214880"/>
              <a:ext cx="2150640" cy="7142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Modelli e formule(valori assoluti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Oval 5"/>
            <p:cNvSpPr/>
            <p:nvPr/>
          </p:nvSpPr>
          <p:spPr>
            <a:xfrm>
              <a:off x="5492880" y="4214880"/>
              <a:ext cx="2150640" cy="642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Multipli (valori relativi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>
              <a:off x="3342240" y="5072040"/>
              <a:ext cx="231624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Analisi fondamental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Oval 7"/>
            <p:cNvSpPr/>
            <p:nvPr/>
          </p:nvSpPr>
          <p:spPr>
            <a:xfrm>
              <a:off x="3342240" y="6072120"/>
              <a:ext cx="2316240" cy="571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Base  informativ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4500360" y="5643720"/>
              <a:ext cx="720" cy="42840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3507840" y="4500720"/>
              <a:ext cx="19850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H="1" flipV="1">
              <a:off x="2642760" y="4929120"/>
              <a:ext cx="864360" cy="28548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5492880" y="4857840"/>
              <a:ext cx="864360" cy="35712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4500360" y="378612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2514960" y="3642840"/>
              <a:ext cx="132336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H="1" flipV="1">
              <a:off x="5162040" y="3642840"/>
              <a:ext cx="132336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0B3A-E87B-48EE-B1E8-416392AAB48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1428840" y="928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’andamento del tasso di distribuzione degli utili è oppos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7" name="Group 2"/>
          <p:cNvGrpSpPr/>
          <p:nvPr/>
        </p:nvGrpSpPr>
        <p:grpSpPr>
          <a:xfrm>
            <a:off x="1285920" y="1849320"/>
            <a:ext cx="5643360" cy="3151080"/>
            <a:chOff x="1285920" y="1849320"/>
            <a:chExt cx="5643360" cy="3151080"/>
          </a:xfrm>
        </p:grpSpPr>
        <p:sp>
          <p:nvSpPr>
            <p:cNvPr id="518" name="Text Box 3"/>
            <p:cNvSpPr/>
            <p:nvPr/>
          </p:nvSpPr>
          <p:spPr>
            <a:xfrm>
              <a:off x="1285920" y="1980720"/>
              <a:ext cx="1265400" cy="52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Tasso di distribuzione degli util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4"/>
            <p:cNvSpPr/>
            <p:nvPr/>
          </p:nvSpPr>
          <p:spPr>
            <a:xfrm>
              <a:off x="1867320" y="4475520"/>
              <a:ext cx="49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5"/>
            <p:cNvSpPr/>
            <p:nvPr/>
          </p:nvSpPr>
          <p:spPr>
            <a:xfrm flipV="1">
              <a:off x="2277720" y="1849320"/>
              <a:ext cx="720" cy="28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6"/>
            <p:cNvSpPr/>
            <p:nvPr/>
          </p:nvSpPr>
          <p:spPr>
            <a:xfrm flipV="1">
              <a:off x="2277720" y="3425040"/>
              <a:ext cx="10944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7"/>
            <p:cNvSpPr/>
            <p:nvPr/>
          </p:nvSpPr>
          <p:spPr>
            <a:xfrm flipV="1">
              <a:off x="3372120" y="2768400"/>
              <a:ext cx="1368000" cy="65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8"/>
            <p:cNvSpPr/>
            <p:nvPr/>
          </p:nvSpPr>
          <p:spPr>
            <a:xfrm flipV="1">
              <a:off x="4740120" y="2768400"/>
              <a:ext cx="1504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3372120" y="3425040"/>
              <a:ext cx="720" cy="105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4740120" y="2768400"/>
              <a:ext cx="720" cy="17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Text Box 11"/>
            <p:cNvSpPr/>
            <p:nvPr/>
          </p:nvSpPr>
          <p:spPr>
            <a:xfrm>
              <a:off x="3098520" y="4606920"/>
              <a:ext cx="41004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Text Box 12"/>
            <p:cNvSpPr/>
            <p:nvPr/>
          </p:nvSpPr>
          <p:spPr>
            <a:xfrm>
              <a:off x="4466520" y="4606920"/>
              <a:ext cx="41040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13"/>
            <p:cNvSpPr/>
            <p:nvPr/>
          </p:nvSpPr>
          <p:spPr>
            <a:xfrm>
              <a:off x="6245280" y="4606920"/>
              <a:ext cx="68400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2277720" y="4606920"/>
              <a:ext cx="82080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Fase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3645720" y="4606920"/>
              <a:ext cx="82080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Fase 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5287320" y="4606920"/>
              <a:ext cx="820800" cy="2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Fase 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7"/>
              <p:cNvSpPr txBox="1"/>
              <p:nvPr/>
            </p:nvSpPr>
            <p:spPr>
              <a:xfrm>
                <a:off x="1500120" y="5286240"/>
                <a:ext cx="5857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PM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PM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AP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19"/>
              <p:cNvSpPr txBox="1"/>
              <p:nvPr/>
            </p:nvSpPr>
            <p:spPr>
              <a:xfrm>
                <a:off x="1500120" y="6143760"/>
                <a:ext cx="2382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di Solom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5CC-DEAC-4C44-91E1-70396AA2B87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2571840" y="20718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crescita può dipendere 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4"/>
          <p:cNvSpPr/>
          <p:nvPr/>
        </p:nvSpPr>
        <p:spPr>
          <a:xfrm flipH="1">
            <a:off x="2495520" y="2771640"/>
            <a:ext cx="13716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5"/>
          <p:cNvSpPr/>
          <p:nvPr/>
        </p:nvSpPr>
        <p:spPr>
          <a:xfrm>
            <a:off x="4248000" y="2771640"/>
            <a:ext cx="12956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1071720" y="35719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vestimenti in capacità produt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286160" y="3643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litica dei dividen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2000160" y="43578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1000080" y="500076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degli utili nei primi an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5286240" y="43578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4429080" y="4929120"/>
            <a:ext cx="2743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del valore se gli utili sono reinvestiti ad un tasso &gt; del tasso medio di set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84B3-4BAB-4C5A-8C0A-1E474F99F21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285920" y="1785960"/>
            <a:ext cx="5715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tasso di rendimento degli utili reinvesti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CAPM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tasso di attualizzazione degli utili (&lt; 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percentuale di utili reinvest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m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ut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1"/>
              <p:cNvSpPr txBox="1"/>
              <p:nvPr/>
            </p:nvSpPr>
            <p:spPr>
              <a:xfrm>
                <a:off x="1357200" y="3786120"/>
                <a:ext cx="2608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357200" y="5643720"/>
                <a:ext cx="2968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CasellaDiTesto 8"/>
          <p:cNvSpPr/>
          <p:nvPr/>
        </p:nvSpPr>
        <p:spPr>
          <a:xfrm>
            <a:off x="1357200" y="5000760"/>
            <a:ext cx="342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nendo r = m i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CAP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769-B9DE-4A21-BC46-7F56D88B45A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CasellaDiTesto 2"/>
          <p:cNvSpPr/>
          <p:nvPr/>
        </p:nvSpPr>
        <p:spPr>
          <a:xfrm>
            <a:off x="1214280" y="121428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dell’impresa in crescita è funzione d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CasellaDiTesto 3"/>
          <p:cNvSpPr/>
          <p:nvPr/>
        </p:nvSpPr>
        <p:spPr>
          <a:xfrm>
            <a:off x="1214280" y="2143080"/>
            <a:ext cx="314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ell’impresa sta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ella cresc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risorse degli esercizi futu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"/>
              <p:cNvSpPr txBox="1"/>
              <p:nvPr/>
            </p:nvSpPr>
            <p:spPr>
              <a:xfrm>
                <a:off x="5072040" y="2071800"/>
                <a:ext cx="863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5072040" y="3143160"/>
                <a:ext cx="1247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PM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5"/>
              <p:cNvSpPr txBox="1"/>
              <p:nvPr/>
            </p:nvSpPr>
            <p:spPr>
              <a:xfrm>
                <a:off x="5072040" y="4071960"/>
                <a:ext cx="1092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2" name="Freccia a destra 9"/>
          <p:cNvSpPr/>
          <p:nvPr/>
        </p:nvSpPr>
        <p:spPr>
          <a:xfrm>
            <a:off x="4286160" y="2286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Freccia a destra 10"/>
          <p:cNvSpPr/>
          <p:nvPr/>
        </p:nvSpPr>
        <p:spPr>
          <a:xfrm>
            <a:off x="4357800" y="41432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Freccia a destra 11"/>
          <p:cNvSpPr/>
          <p:nvPr/>
        </p:nvSpPr>
        <p:spPr>
          <a:xfrm>
            <a:off x="4357800" y="32860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6"/>
              <p:cNvSpPr txBox="1"/>
              <p:nvPr/>
            </p:nvSpPr>
            <p:spPr>
              <a:xfrm>
                <a:off x="1357200" y="5429160"/>
                <a:ext cx="50007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valutazioni relativ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A1D-E271-4583-B6C9-6DF3FE402CC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CasellaDiTesto 3"/>
          <p:cNvSpPr/>
          <p:nvPr/>
        </p:nvSpPr>
        <p:spPr>
          <a:xfrm>
            <a:off x="1143000" y="2000160"/>
            <a:ext cx="5286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iffusione dei multipli è dovuta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ficoltà di stima dei flussi di cassa per i metodi assolu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potesi e congetture nei metodi assolu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acilità di applicazione dei multipli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, attenzione agli abusi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logica di costruzione dei multip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6DC8-56C5-442C-8AB4-84EFDC8EA9E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"/>
              <p:cNvSpPr txBox="1"/>
              <p:nvPr/>
            </p:nvSpPr>
            <p:spPr>
              <a:xfrm>
                <a:off x="1214280" y="1857240"/>
                <a:ext cx="1622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Rectangle 3"/>
          <p:cNvSpPr/>
          <p:nvPr/>
        </p:nvSpPr>
        <p:spPr>
          <a:xfrm>
            <a:off x="0" y="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5"/>
              <p:cNvSpPr txBox="1"/>
              <p:nvPr/>
            </p:nvSpPr>
            <p:spPr>
              <a:xfrm>
                <a:off x="1285920" y="2786040"/>
                <a:ext cx="6681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4"/>
              <p:cNvSpPr txBox="1"/>
              <p:nvPr/>
            </p:nvSpPr>
            <p:spPr>
              <a:xfrm>
                <a:off x="1285920" y="3643200"/>
                <a:ext cx="584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2000160" y="2801160"/>
            <a:ext cx="514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oltiplicatore dell’azieda oggetto di valutazione, ovvero dell’azien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oltiplicatore di mercato di un insieme di imprese sim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214280" y="4254840"/>
            <a:ext cx="628668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</a:t>
            </a:r>
            <a:r>
              <a:rPr b="0" i="1" lang="it-IT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= valore del capitale economico dell’aziend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it-IT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= prezzo di mercato delle aziende sim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</a:t>
            </a:r>
            <a:r>
              <a:rPr b="0" i="1" lang="it-IT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J</a:t>
            </a:r>
            <a:r>
              <a:rPr b="0" i="1" lang="it-IT" sz="18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leve del valor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9"/>
              <p:cNvSpPr txBox="1"/>
              <p:nvPr/>
            </p:nvSpPr>
            <p:spPr>
              <a:xfrm>
                <a:off x="1285920" y="5857920"/>
                <a:ext cx="1589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2" name="Rectangle 11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ultipli di società compara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F89-4855-491F-8C21-52D9CE8158C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CasellaDiTesto 3"/>
          <p:cNvSpPr/>
          <p:nvPr/>
        </p:nvSpPr>
        <p:spPr>
          <a:xfrm>
            <a:off x="1143000" y="1928880"/>
            <a:ext cx="5143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elezionare il campione di aziende simile in funzione di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ettore economico di appartenen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Dimensio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Fase del ciclo di vi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schio operativo e finanziar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Numero di addet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istema di </a:t>
            </a:r>
            <a:r>
              <a:rPr b="0" i="1" lang="it-IT" sz="2200" spc="-1" strike="noStrike">
                <a:solidFill>
                  <a:srgbClr val="000000"/>
                </a:solidFill>
                <a:latin typeface="Tahoma"/>
              </a:rPr>
              <a:t>gover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ecnologia impiegata 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CasellaDiTesto 4"/>
          <p:cNvSpPr/>
          <p:nvPr/>
        </p:nvSpPr>
        <p:spPr>
          <a:xfrm>
            <a:off x="1214280" y="53578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ultipl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equity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70c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ultipl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asset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ultipl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equity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0229-740C-42D8-8F23-A4C7EDFDA87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1"/>
              <p:cNvSpPr txBox="1"/>
              <p:nvPr/>
            </p:nvSpPr>
            <p:spPr>
              <a:xfrm>
                <a:off x="1214280" y="2071800"/>
                <a:ext cx="1474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1" name="Rectangle 3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CasellaDiTesto 8"/>
          <p:cNvSpPr/>
          <p:nvPr/>
        </p:nvSpPr>
        <p:spPr>
          <a:xfrm>
            <a:off x="1143000" y="3071880"/>
            <a:ext cx="6000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leva del valor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uò esse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tile net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ash 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CFE,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levered cash 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mmontare delle vendit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ale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ore contabil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ook valu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viden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4"/>
              <p:cNvSpPr txBox="1"/>
              <p:nvPr/>
            </p:nvSpPr>
            <p:spPr>
              <a:xfrm>
                <a:off x="3714840" y="2071800"/>
                <a:ext cx="1444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5" name="Rectangle 6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price earn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501-7BDC-47E6-994F-5DB8B4C415C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1"/>
              <p:cNvSpPr txBox="1"/>
              <p:nvPr/>
            </p:nvSpPr>
            <p:spPr>
              <a:xfrm>
                <a:off x="1285920" y="2143080"/>
                <a:ext cx="1143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3"/>
              <p:cNvSpPr txBox="1"/>
              <p:nvPr/>
            </p:nvSpPr>
            <p:spPr>
              <a:xfrm>
                <a:off x="3714840" y="2143080"/>
                <a:ext cx="1143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2" name="Freccia a destra 7"/>
          <p:cNvSpPr/>
          <p:nvPr/>
        </p:nvSpPr>
        <p:spPr>
          <a:xfrm>
            <a:off x="2786040" y="2286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16"/>
          <p:cNvSpPr/>
          <p:nvPr/>
        </p:nvSpPr>
        <p:spPr>
          <a:xfrm>
            <a:off x="1000080" y="3143160"/>
            <a:ext cx="59436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terminazione di 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perare rettifiche se sono presenti operazioni di stacco o assegnazione di diritti d’op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opportuno calcolare una media dei prezz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000080" y="4572000"/>
            <a:ext cx="586728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terminazione dell’EP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dato dall’ultimo utile di bilancio, diviso per il numero delle a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È opportuno procedere alla normalizzazione di tale u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nalizzare la dinamica evolutiva degli utili negli ultimi an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7A2A-75E0-49B4-9909-82984507982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1214280" y="1857240"/>
            <a:ext cx="56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rice earnin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rappresenta il prezzo che si è disposti a pagare per avere una unità di ut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3571920" y="257184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285920" y="321480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il reciproco del tasso di rendimento offerto da un titolo azion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metodologie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9357-ED8D-4133-A2ED-01C8E686EE0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500040" y="2286000"/>
            <a:ext cx="7399440" cy="3928680"/>
            <a:chOff x="500040" y="2286000"/>
            <a:chExt cx="7399440" cy="3928680"/>
          </a:xfrm>
        </p:grpSpPr>
        <p:sp>
          <p:nvSpPr>
            <p:cNvPr id="134" name="Text Box 3"/>
            <p:cNvSpPr/>
            <p:nvPr/>
          </p:nvSpPr>
          <p:spPr>
            <a:xfrm>
              <a:off x="500040" y="4072320"/>
              <a:ext cx="1185840" cy="38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alibri"/>
                </a:rPr>
                <a:t>Valutazioni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1828800" y="3112200"/>
              <a:ext cx="1016280" cy="38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Assolute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5"/>
            <p:cNvSpPr/>
            <p:nvPr/>
          </p:nvSpPr>
          <p:spPr>
            <a:xfrm>
              <a:off x="1828800" y="5051520"/>
              <a:ext cx="1016280" cy="38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Relative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3184560" y="2336760"/>
              <a:ext cx="135540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Ottica dell’impresa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3184560" y="3499920"/>
              <a:ext cx="1524960" cy="77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Ottica dell’investito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5357880" y="2286000"/>
              <a:ext cx="2541600" cy="11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0360" indent="-9036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etodi fondati sui flussi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Metodi patrimonial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Metodi mist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5556960" y="3499920"/>
              <a:ext cx="1524960" cy="77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Calibri"/>
                </a:rPr>
                <a:t>Dividend discount model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3184560" y="4469760"/>
              <a:ext cx="2202480" cy="174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Moltiplicatori fondati su società comparabil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Calibri"/>
                </a:rPr>
                <a:t>Moltiplicatori fondati su transazioni comparabil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 flipV="1">
              <a:off x="1659240" y="3499560"/>
              <a:ext cx="50832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>
              <a:off x="1659240" y="4276080"/>
              <a:ext cx="508320" cy="77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Line 13"/>
            <p:cNvSpPr/>
            <p:nvPr/>
          </p:nvSpPr>
          <p:spPr>
            <a:xfrm flipV="1">
              <a:off x="2676240" y="2724480"/>
              <a:ext cx="50796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14"/>
            <p:cNvSpPr/>
            <p:nvPr/>
          </p:nvSpPr>
          <p:spPr>
            <a:xfrm>
              <a:off x="2676240" y="3306240"/>
              <a:ext cx="50796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4709520" y="2724480"/>
              <a:ext cx="677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>
              <a:off x="4709520" y="3888000"/>
              <a:ext cx="677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 flipV="1">
              <a:off x="2676240" y="4663440"/>
              <a:ext cx="507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2676240" y="5245200"/>
              <a:ext cx="50796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/E in funzione dei fondamenta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C30-9C4C-4A1D-8B2C-2FD6B55E811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1"/>
              <p:cNvSpPr txBox="1"/>
              <p:nvPr/>
            </p:nvSpPr>
            <p:spPr>
              <a:xfrm>
                <a:off x="1214280" y="1857240"/>
                <a:ext cx="1656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3643200" y="1928880"/>
                <a:ext cx="1476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5"/>
              <p:cNvSpPr txBox="1"/>
              <p:nvPr/>
            </p:nvSpPr>
            <p:spPr>
              <a:xfrm>
                <a:off x="1214280" y="2714760"/>
                <a:ext cx="210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Text Box 8"/>
          <p:cNvSpPr/>
          <p:nvPr/>
        </p:nvSpPr>
        <p:spPr>
          <a:xfrm>
            <a:off x="2000160" y="34290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sa succede se aument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928800" y="39290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umenta il numeratore del rapporto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 diminuisce il tasso di crescita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ed aumenta anche il numerat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AutoShape 10"/>
          <p:cNvSpPr/>
          <p:nvPr/>
        </p:nvSpPr>
        <p:spPr>
          <a:xfrm>
            <a:off x="4429080" y="464328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1928880" y="50720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uò anche aumentare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per effetto del maggiore ricorso all’indebit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2500200" y="5786280"/>
                <a:ext cx="4443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303B-791E-4D66-8C37-53E42436161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4" name="Group 14"/>
          <p:cNvGrpSpPr/>
          <p:nvPr/>
        </p:nvGrpSpPr>
        <p:grpSpPr>
          <a:xfrm>
            <a:off x="1500120" y="1999800"/>
            <a:ext cx="6095880" cy="3276720"/>
            <a:chOff x="1500120" y="1999800"/>
            <a:chExt cx="6095880" cy="3276720"/>
          </a:xfrm>
        </p:grpSpPr>
        <p:sp>
          <p:nvSpPr>
            <p:cNvPr id="625" name="Line 5"/>
            <p:cNvSpPr/>
            <p:nvPr/>
          </p:nvSpPr>
          <p:spPr>
            <a:xfrm>
              <a:off x="1939680" y="4808160"/>
              <a:ext cx="523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6"/>
            <p:cNvSpPr/>
            <p:nvPr/>
          </p:nvSpPr>
          <p:spPr>
            <a:xfrm flipV="1">
              <a:off x="2208240" y="1999800"/>
              <a:ext cx="0" cy="29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Text Box 7"/>
            <p:cNvSpPr/>
            <p:nvPr/>
          </p:nvSpPr>
          <p:spPr>
            <a:xfrm>
              <a:off x="6907320" y="4971960"/>
              <a:ext cx="68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emp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Text Box 8"/>
            <p:cNvSpPr/>
            <p:nvPr/>
          </p:nvSpPr>
          <p:spPr>
            <a:xfrm>
              <a:off x="1500120" y="2155680"/>
              <a:ext cx="5731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/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9"/>
            <p:cNvSpPr/>
            <p:nvPr/>
          </p:nvSpPr>
          <p:spPr>
            <a:xfrm>
              <a:off x="5429160" y="4971960"/>
              <a:ext cx="87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eclin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Text Box 10"/>
            <p:cNvSpPr/>
            <p:nvPr/>
          </p:nvSpPr>
          <p:spPr>
            <a:xfrm>
              <a:off x="4356000" y="4971960"/>
              <a:ext cx="878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aturità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Text Box 11"/>
            <p:cNvSpPr/>
            <p:nvPr/>
          </p:nvSpPr>
          <p:spPr>
            <a:xfrm>
              <a:off x="3252600" y="4971960"/>
              <a:ext cx="835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vilupp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12"/>
            <p:cNvSpPr/>
            <p:nvPr/>
          </p:nvSpPr>
          <p:spPr>
            <a:xfrm>
              <a:off x="2338200" y="4964040"/>
              <a:ext cx="6858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izi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Freeform 13"/>
            <p:cNvSpPr/>
            <p:nvPr/>
          </p:nvSpPr>
          <p:spPr>
            <a:xfrm>
              <a:off x="2341440" y="3222360"/>
              <a:ext cx="3490920" cy="1430280"/>
            </a:xfrm>
            <a:custGeom>
              <a:avLst/>
              <a:gdLst>
                <a:gd name="textAreaLeft" fmla="*/ 0 w 3490920"/>
                <a:gd name="textAreaRight" fmla="*/ 3491280 w 349092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4680" h="1650">
                  <a:moveTo>
                    <a:pt x="0" y="1470"/>
                  </a:moveTo>
                  <a:cubicBezTo>
                    <a:pt x="240" y="1560"/>
                    <a:pt x="480" y="1650"/>
                    <a:pt x="720" y="1470"/>
                  </a:cubicBezTo>
                  <a:cubicBezTo>
                    <a:pt x="960" y="1290"/>
                    <a:pt x="1170" y="630"/>
                    <a:pt x="1440" y="390"/>
                  </a:cubicBezTo>
                  <a:cubicBezTo>
                    <a:pt x="1710" y="150"/>
                    <a:pt x="1980" y="60"/>
                    <a:pt x="2340" y="30"/>
                  </a:cubicBezTo>
                  <a:cubicBezTo>
                    <a:pt x="2700" y="0"/>
                    <a:pt x="3210" y="0"/>
                    <a:pt x="3600" y="210"/>
                  </a:cubicBezTo>
                  <a:cubicBezTo>
                    <a:pt x="3990" y="420"/>
                    <a:pt x="4335" y="855"/>
                    <a:pt x="4680" y="12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4" name="CasellaDiTesto 15"/>
          <p:cNvSpPr/>
          <p:nvPr/>
        </p:nvSpPr>
        <p:spPr>
          <a:xfrm>
            <a:off x="1428840" y="114300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P/E e fase del ciclo di vita dell’impres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/E come strumento informativo per il merca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C65-B597-4183-9557-3930153BDB5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214280" y="2071800"/>
            <a:ext cx="373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Regole decisio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toli con P/E basso sono sottovalut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toli con P/E alto sono sopravvalut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4557600" y="271944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4557600" y="364824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5500800" y="27147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quis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5500800" y="3643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ndi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apporto prezzo/valore contabi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5821-051A-4F30-AC67-72D471B7DED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1"/>
              <p:cNvSpPr txBox="1"/>
              <p:nvPr/>
            </p:nvSpPr>
            <p:spPr>
              <a:xfrm>
                <a:off x="1285920" y="2143080"/>
                <a:ext cx="642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1285920" y="3071880"/>
                <a:ext cx="1808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B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B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8" name="Rectangle 5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6"/>
              <p:cNvSpPr txBox="1"/>
              <p:nvPr/>
            </p:nvSpPr>
            <p:spPr>
              <a:xfrm>
                <a:off x="3786120" y="3071880"/>
                <a:ext cx="17780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B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1" name="Rectangle 8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CasellaDiTesto 11"/>
          <p:cNvSpPr/>
          <p:nvPr/>
        </p:nvSpPr>
        <p:spPr>
          <a:xfrm>
            <a:off x="1357200" y="392904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funzione dei fondamental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9"/>
              <p:cNvSpPr txBox="1"/>
              <p:nvPr/>
            </p:nvSpPr>
            <p:spPr>
              <a:xfrm>
                <a:off x="1357200" y="4429080"/>
                <a:ext cx="2541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1"/>
              <p:cNvSpPr txBox="1"/>
              <p:nvPr/>
            </p:nvSpPr>
            <p:spPr>
              <a:xfrm>
                <a:off x="5072040" y="4429080"/>
                <a:ext cx="12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13"/>
              <p:cNvSpPr txBox="1"/>
              <p:nvPr/>
            </p:nvSpPr>
            <p:spPr>
              <a:xfrm>
                <a:off x="6715080" y="4500720"/>
                <a:ext cx="1846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P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Object 15"/>
              <p:cNvSpPr txBox="1"/>
              <p:nvPr/>
            </p:nvSpPr>
            <p:spPr>
              <a:xfrm>
                <a:off x="1428840" y="5286240"/>
                <a:ext cx="2903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E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7"/>
              <p:cNvSpPr txBox="1"/>
              <p:nvPr/>
            </p:nvSpPr>
            <p:spPr>
              <a:xfrm>
                <a:off x="1428840" y="6000840"/>
                <a:ext cx="2603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E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9"/>
              <p:cNvSpPr txBox="1"/>
              <p:nvPr/>
            </p:nvSpPr>
            <p:spPr>
              <a:xfrm>
                <a:off x="5072040" y="5929200"/>
                <a:ext cx="17938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OE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016-5AB8-436B-946E-885DB999E93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1000080" y="1357200"/>
            <a:ext cx="4978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gole decis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toli con P/BV basso e RBV alto sono sottovalut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toli con P/BV alto e RBV basso sono sopravvalut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AutoShape 3"/>
          <p:cNvSpPr/>
          <p:nvPr/>
        </p:nvSpPr>
        <p:spPr>
          <a:xfrm>
            <a:off x="5572080" y="2143080"/>
            <a:ext cx="711360" cy="343080"/>
          </a:xfrm>
          <a:prstGeom prst="rightArrow">
            <a:avLst>
              <a:gd name="adj1" fmla="val 50000"/>
              <a:gd name="adj2" fmla="val 2916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AutoShape 4"/>
          <p:cNvSpPr/>
          <p:nvPr/>
        </p:nvSpPr>
        <p:spPr>
          <a:xfrm>
            <a:off x="5500800" y="3071880"/>
            <a:ext cx="711000" cy="342720"/>
          </a:xfrm>
          <a:prstGeom prst="rightArrow">
            <a:avLst>
              <a:gd name="adj1" fmla="val 50000"/>
              <a:gd name="adj2" fmla="val 291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6400800" y="2071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quis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6400800" y="30002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ndi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20"/>
          <p:cNvGrpSpPr/>
          <p:nvPr/>
        </p:nvGrpSpPr>
        <p:grpSpPr>
          <a:xfrm>
            <a:off x="914400" y="4000680"/>
            <a:ext cx="6095160" cy="2628360"/>
            <a:chOff x="914400" y="4000680"/>
            <a:chExt cx="6095160" cy="2628360"/>
          </a:xfrm>
        </p:grpSpPr>
        <p:sp>
          <p:nvSpPr>
            <p:cNvPr id="672" name="Text Box 8"/>
            <p:cNvSpPr/>
            <p:nvPr/>
          </p:nvSpPr>
          <p:spPr>
            <a:xfrm>
              <a:off x="2173680" y="4000680"/>
              <a:ext cx="2317320" cy="10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itoli sopravvalutati 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Vendit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Text Box 9"/>
            <p:cNvSpPr/>
            <p:nvPr/>
          </p:nvSpPr>
          <p:spPr>
            <a:xfrm>
              <a:off x="4491000" y="5090760"/>
              <a:ext cx="2315880" cy="10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itoli sottovalutati 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cquis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Text Box 10"/>
            <p:cNvSpPr/>
            <p:nvPr/>
          </p:nvSpPr>
          <p:spPr>
            <a:xfrm>
              <a:off x="4491000" y="4000680"/>
              <a:ext cx="2315880" cy="10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formazione non indicativ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2173680" y="5090760"/>
              <a:ext cx="2317320" cy="10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formazione non indicativ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Text Box 12"/>
            <p:cNvSpPr/>
            <p:nvPr/>
          </p:nvSpPr>
          <p:spPr>
            <a:xfrm>
              <a:off x="914400" y="4928400"/>
              <a:ext cx="106668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/BV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Text Box 13"/>
            <p:cNvSpPr/>
            <p:nvPr/>
          </p:nvSpPr>
          <p:spPr>
            <a:xfrm>
              <a:off x="1320840" y="4000680"/>
              <a:ext cx="6642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320840" y="5624280"/>
              <a:ext cx="85284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bass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Text Box 15"/>
            <p:cNvSpPr/>
            <p:nvPr/>
          </p:nvSpPr>
          <p:spPr>
            <a:xfrm>
              <a:off x="4063680" y="6318360"/>
              <a:ext cx="1004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O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Text Box 16"/>
            <p:cNvSpPr/>
            <p:nvPr/>
          </p:nvSpPr>
          <p:spPr>
            <a:xfrm>
              <a:off x="6226560" y="6318360"/>
              <a:ext cx="7830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366280" y="6318360"/>
              <a:ext cx="8845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bass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apporto prezzo/vendi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74E-12A2-4A82-BB40-0D2FB2204B6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1"/>
              <p:cNvSpPr txBox="1"/>
              <p:nvPr/>
            </p:nvSpPr>
            <p:spPr>
              <a:xfrm>
                <a:off x="1357200" y="2071800"/>
                <a:ext cx="357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3"/>
              <p:cNvSpPr txBox="1"/>
              <p:nvPr/>
            </p:nvSpPr>
            <p:spPr>
              <a:xfrm>
                <a:off x="1285920" y="2928960"/>
                <a:ext cx="1504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8" name="Rectangle 5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Object 6"/>
              <p:cNvSpPr txBox="1"/>
              <p:nvPr/>
            </p:nvSpPr>
            <p:spPr>
              <a:xfrm>
                <a:off x="3714840" y="2928960"/>
                <a:ext cx="1571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Rectangle 8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CasellaDiTesto 11"/>
          <p:cNvSpPr/>
          <p:nvPr/>
        </p:nvSpPr>
        <p:spPr>
          <a:xfrm>
            <a:off x="1357200" y="392904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funzione dei fondamental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9"/>
              <p:cNvSpPr txBox="1"/>
              <p:nvPr/>
            </p:nvSpPr>
            <p:spPr>
              <a:xfrm>
                <a:off x="1357200" y="4500720"/>
                <a:ext cx="22780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P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11"/>
              <p:cNvSpPr txBox="1"/>
              <p:nvPr/>
            </p:nvSpPr>
            <p:spPr>
              <a:xfrm>
                <a:off x="4429080" y="4643280"/>
                <a:ext cx="12146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CasellaDiTesto 16"/>
          <p:cNvSpPr/>
          <p:nvPr/>
        </p:nvSpPr>
        <p:spPr>
          <a:xfrm>
            <a:off x="6357960" y="4786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EPS = RV x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13"/>
              <p:cNvSpPr txBox="1"/>
              <p:nvPr/>
            </p:nvSpPr>
            <p:spPr>
              <a:xfrm>
                <a:off x="1357200" y="5572080"/>
                <a:ext cx="23655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×</m:t>
                        </m:r>
                        <m:r>
                          <m:t xml:space="preserve">S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15"/>
              <p:cNvSpPr txBox="1"/>
              <p:nvPr/>
            </p:nvSpPr>
            <p:spPr>
              <a:xfrm>
                <a:off x="4429080" y="5786280"/>
                <a:ext cx="21747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V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3792-9D0D-436A-B2CD-0D0E03D9829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3" name="Group 9"/>
          <p:cNvGrpSpPr/>
          <p:nvPr/>
        </p:nvGrpSpPr>
        <p:grpSpPr>
          <a:xfrm>
            <a:off x="1857240" y="2857680"/>
            <a:ext cx="4572000" cy="2590560"/>
            <a:chOff x="1857240" y="2857680"/>
            <a:chExt cx="4572000" cy="2590560"/>
          </a:xfrm>
        </p:grpSpPr>
        <p:sp>
          <p:nvSpPr>
            <p:cNvPr id="704" name="Text Box 10"/>
            <p:cNvSpPr/>
            <p:nvPr/>
          </p:nvSpPr>
          <p:spPr>
            <a:xfrm>
              <a:off x="2801880" y="2857680"/>
              <a:ext cx="1738080" cy="10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itoli sopravvalutati 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Vendit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Text Box 11"/>
            <p:cNvSpPr/>
            <p:nvPr/>
          </p:nvSpPr>
          <p:spPr>
            <a:xfrm>
              <a:off x="4539960" y="3932280"/>
              <a:ext cx="1737000" cy="10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itoli sottovalutati 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cquis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Text Box 12"/>
            <p:cNvSpPr/>
            <p:nvPr/>
          </p:nvSpPr>
          <p:spPr>
            <a:xfrm>
              <a:off x="4539960" y="2857680"/>
              <a:ext cx="1737000" cy="10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formazione non indicativ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Text Box 13"/>
            <p:cNvSpPr/>
            <p:nvPr/>
          </p:nvSpPr>
          <p:spPr>
            <a:xfrm>
              <a:off x="2801880" y="3932280"/>
              <a:ext cx="1738080" cy="107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formazione non indicativ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Text Box 14"/>
            <p:cNvSpPr/>
            <p:nvPr/>
          </p:nvSpPr>
          <p:spPr>
            <a:xfrm>
              <a:off x="1857240" y="3772080"/>
              <a:ext cx="8002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/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Text Box 15"/>
            <p:cNvSpPr/>
            <p:nvPr/>
          </p:nvSpPr>
          <p:spPr>
            <a:xfrm>
              <a:off x="2162160" y="2857680"/>
              <a:ext cx="4982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Text Box 16"/>
            <p:cNvSpPr/>
            <p:nvPr/>
          </p:nvSpPr>
          <p:spPr>
            <a:xfrm>
              <a:off x="2162160" y="4457880"/>
              <a:ext cx="6397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bass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Text Box 17"/>
            <p:cNvSpPr/>
            <p:nvPr/>
          </p:nvSpPr>
          <p:spPr>
            <a:xfrm>
              <a:off x="4219560" y="5141880"/>
              <a:ext cx="7538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V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Text Box 18"/>
            <p:cNvSpPr/>
            <p:nvPr/>
          </p:nvSpPr>
          <p:spPr>
            <a:xfrm>
              <a:off x="5841720" y="5141880"/>
              <a:ext cx="5875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alt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Text Box 19"/>
            <p:cNvSpPr/>
            <p:nvPr/>
          </p:nvSpPr>
          <p:spPr>
            <a:xfrm>
              <a:off x="2946240" y="5141880"/>
              <a:ext cx="663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bass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4" name="CasellaDiTesto 14"/>
          <p:cNvSpPr/>
          <p:nvPr/>
        </p:nvSpPr>
        <p:spPr>
          <a:xfrm>
            <a:off x="1357200" y="1285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e regole decis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ultipl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asset s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C96B-128A-40F1-A1F4-48D141468F0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1"/>
              <p:cNvSpPr txBox="1"/>
              <p:nvPr/>
            </p:nvSpPr>
            <p:spPr>
              <a:xfrm>
                <a:off x="1214280" y="2143080"/>
                <a:ext cx="19288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3"/>
              <p:cNvSpPr txBox="1"/>
              <p:nvPr/>
            </p:nvSpPr>
            <p:spPr>
              <a:xfrm>
                <a:off x="4143240" y="2143080"/>
                <a:ext cx="1938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1" name="CasellaDiTesto 7"/>
          <p:cNvSpPr/>
          <p:nvPr/>
        </p:nvSpPr>
        <p:spPr>
          <a:xfrm>
            <a:off x="1214280" y="4643280"/>
            <a:ext cx="44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r il denominato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ddito oper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rgine operativo lordo (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OL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OP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FCF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unlevered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mmontare delle vendite (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ale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5"/>
              <p:cNvSpPr txBox="1"/>
              <p:nvPr/>
            </p:nvSpPr>
            <p:spPr>
              <a:xfrm>
                <a:off x="1214280" y="2786040"/>
                <a:ext cx="1808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V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EV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7"/>
              <p:cNvSpPr txBox="1"/>
              <p:nvPr/>
            </p:nvSpPr>
            <p:spPr>
              <a:xfrm>
                <a:off x="1214280" y="3714840"/>
                <a:ext cx="2355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9"/>
              <p:cNvSpPr txBox="1"/>
              <p:nvPr/>
            </p:nvSpPr>
            <p:spPr>
              <a:xfrm>
                <a:off x="4286160" y="3714840"/>
                <a:ext cx="2143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ultipli di società compara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6059-5BFE-41B1-B9F2-D102B233BE2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CasellaDiTesto 3"/>
          <p:cNvSpPr/>
          <p:nvPr/>
        </p:nvSpPr>
        <p:spPr>
          <a:xfrm>
            <a:off x="1214280" y="214308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sostituiscono i valori delle quotazioni con i prezzi fatti registrare da transazioni avvenute sui mercati ed aventi per oggetto aziende sim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possibili approcc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44AC-6E3B-41FD-85F7-0E5A65536E5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CasellaDiTesto 3"/>
          <p:cNvSpPr/>
          <p:nvPr/>
        </p:nvSpPr>
        <p:spPr>
          <a:xfrm>
            <a:off x="1214280" y="2214720"/>
            <a:ext cx="5572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quity side 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W = 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t side  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W = A – 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valutazioni assolute nell’ottica dell’impres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BF8-0B26-4922-9ED5-3D8D9BFEF6E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CasellaDiTesto 3"/>
          <p:cNvSpPr/>
          <p:nvPr/>
        </p:nvSpPr>
        <p:spPr>
          <a:xfrm>
            <a:off x="1143000" y="2143080"/>
            <a:ext cx="535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 redditu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 finanzi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 patrimoni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i mi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requisiti del processo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0AEF-F6EC-4C0F-92E5-028D46870ED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CasellaDiTesto 3"/>
          <p:cNvSpPr/>
          <p:nvPr/>
        </p:nvSpPr>
        <p:spPr>
          <a:xfrm>
            <a:off x="1214280" y="2143080"/>
            <a:ext cx="43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zion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mostr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e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bilit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ace</cp:lastModifiedBy>
  <dcterms:modified xsi:type="dcterms:W3CDTF">2018-10-01T14:28:33Z</dcterms:modified>
  <cp:revision>137</cp:revision>
  <dc:subject/>
  <dc:title>PowerPoint Presentation</dc:title>
</cp:coreProperties>
</file>